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7BA-4BEB-460D-A1FE-E37B2EA6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625-57AF-4E37-A4FD-7E63C7A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33B-0A73-483B-8555-BB42E814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19A-11D0-40FF-85FC-025B7671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DB3-C185-4245-BC84-478C499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38D-E6CC-4CA1-BD7C-19FE98C3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4F4-9724-46DC-98A7-406B717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BC5-79D9-4A31-A0A3-5519AB0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C48-8F04-4C08-95E0-7841CD1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5D5-7F9B-4F23-9BD1-800A8CF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D44-6113-4CE1-B7BA-34AC890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646-D342-48E9-B0B7-C2DB72B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2476-7677-4A64-8641-D491C556B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enerated 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COOK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E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p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P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v: PHP places the query string in this vari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_ROOT : path to the document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_AUTH_PW: the password sent by the brow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_AUTH_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is the user name sent by the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P_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is the path to the requested script relative to the document r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is the complete quer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is the IP address of the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_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is the port on the browser's machine used for receiving data from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_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alue describes the method used in the request by the browser. It may contain GET, HEAD, POST, or 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20:07:53Z</dcterms:created>
  <dc:creator>YOUSEF HASSOUNEH</dc:creator>
  <dc:description/>
  <dc:language>en-US</dc:language>
  <cp:lastModifiedBy>YOUSEF HASSOUNEH</cp:lastModifiedBy>
  <dcterms:modified xsi:type="dcterms:W3CDTF">2007-04-22T20:08:24Z</dcterms:modified>
  <cp:revision>1</cp:revision>
  <dc:subject/>
  <dc:title>Slide 1</dc:title>
</cp:coreProperties>
</file>