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4904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4904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74904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74904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474920"/>
            <a:ext cx="8229600" cy="759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5791320"/>
            <a:ext cx="8153280" cy="868320"/>
            <a:chOff x="457200" y="5791320"/>
            <a:chExt cx="8153280" cy="868320"/>
          </a:xfrm>
        </p:grpSpPr>
        <p:sp>
          <p:nvSpPr>
            <p:cNvPr id="4" name=""/>
            <p:cNvSpPr/>
            <p:nvPr/>
          </p:nvSpPr>
          <p:spPr>
            <a:xfrm>
              <a:off x="990720" y="5973840"/>
              <a:ext cx="761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br>
                <a:rPr sz="1600"/>
              </a:b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Copyright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©2005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Department of Computer &amp; Information Sci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457200" y="5791320"/>
              <a:ext cx="604800" cy="868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657600"/>
            <a:ext cx="7772400" cy="2286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120" y="5791320"/>
            <a:ext cx="7848360" cy="868320"/>
            <a:chOff x="762120" y="5791320"/>
            <a:chExt cx="7848360" cy="868320"/>
          </a:xfrm>
        </p:grpSpPr>
        <p:sp>
          <p:nvSpPr>
            <p:cNvPr id="45" name=""/>
            <p:cNvSpPr/>
            <p:nvPr/>
          </p:nvSpPr>
          <p:spPr>
            <a:xfrm>
              <a:off x="990720" y="6032520"/>
              <a:ext cx="76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Copyright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©2005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Department of Computer &amp; Information Sci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2120" y="5791320"/>
              <a:ext cx="60480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988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dvanced DHTML &amp; DOM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view of Cascading Style Shee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xtual Sele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xtual selectors only apply styles under certain circumstances. For example, the follow style would apply only for 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em&g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ements nested inside a 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li&g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e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li 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font-size:14pt;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font-color:red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4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a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reate classes to apply certain styles not to all elements in a group, but to specifically identified elements (those elements that match with the class attribut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reate classes to apply only to a given XHTML element (by also identifying the tag name) or to apply to any element we choose (lacks a specific tag nam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ass Example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p.ale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color: #ffffff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background-color: #ff0000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font-weight: bold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lying the Previous C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&lt;p class=“alert”&g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i="1" lang="en-US" sz="3600" spc="-1" strike="noStrike">
                <a:solidFill>
                  <a:srgbClr val="ffff99"/>
                </a:solidFill>
                <a:latin typeface="Lucida Console"/>
              </a:rPr>
              <a:t>This represents some tex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&lt;/p&g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ass Example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.ale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color: #ffffff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background-color: #ff0000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font-weight: bold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lying the Previous C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p class=“alert”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i="1" lang="en-US" sz="3200" spc="-1" strike="noStrike">
                <a:solidFill>
                  <a:srgbClr val="ffff99"/>
                </a:solidFill>
                <a:latin typeface="Lucida Console"/>
              </a:rPr>
              <a:t>This represents some t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/p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h1 class=“alert”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i="1" lang="en-US" sz="3200" spc="-1" strike="noStrike">
                <a:solidFill>
                  <a:srgbClr val="ffff99"/>
                </a:solidFill>
                <a:latin typeface="Lucida Console"/>
              </a:rPr>
              <a:t>This represents some t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/h1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295280"/>
            <a:ext cx="8458200" cy="304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955800"/>
            <a:ext cx="33847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86200" y="29559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n the file called reviewingCSS_02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99"/>
                </a:solidFill>
                <a:latin typeface="Lucida Console"/>
              </a:rPr>
              <a:t>&lt;div&gt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99"/>
                </a:solidFill>
                <a:latin typeface="Lucida Console"/>
              </a:rPr>
              <a:t>&lt;span&gt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div&gt;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 formats a group of block-level and inline elements with styles, whereas the 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span&gt;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 formats a group of inlin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difference between these two elements is that the 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&lt;div&g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ement can contain block-level elements and also adds a line break after its closing ta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Console"/>
              </a:rPr>
              <a:t>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ele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want to apply a style once, to a very specific element, we can create an id selector, using the synta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#ApplyO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color:#ff000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background-color: #ffffff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99"/>
                </a:solidFill>
                <a:latin typeface="Lucida Console"/>
              </a:rPr>
              <a:t>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ele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use id selector styles, we just need to create the element and name it using the id attribut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&lt;p id=“ApplyOnce”&g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This text is 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&lt;/p&g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y the end of this lecture you should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write CSS rul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apply a style to multiple selecto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use contextual selecto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40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continued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ating Lay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 can use layers to create elements which we can move, make appear or make disappe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yers represent rectangular areas that are positioned along the X, Y and Z ax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295280"/>
            <a:ext cx="8458200" cy="304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955800"/>
            <a:ext cx="338472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29559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n the file called reviewingCSS_03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H="1">
            <a:off x="5927760" y="2719440"/>
            <a:ext cx="2016000" cy="248760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ing the Z-Ax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x = Horizontal 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= Vertical 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99"/>
              </a:spcBef>
              <a:buClr>
                <a:srgbClr val="99cc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z = “Depth” Ax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tacking 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72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ed by the “z-index” 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72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ink of the z axis pointing from the monitor towards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2362320"/>
            <a:ext cx="1440" cy="32004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962520"/>
            <a:ext cx="3200400" cy="144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ating a Lay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osi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f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34290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igh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d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z-index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524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49200"/>
                <a:tab algn="l" pos="1263600"/>
                <a:tab algn="l" pos="2178000"/>
                <a:tab algn="l" pos="3092400"/>
                <a:tab algn="l" pos="4006800"/>
                <a:tab algn="l" pos="4921200"/>
                <a:tab algn="l" pos="5835600"/>
                <a:tab algn="l" pos="6750000"/>
                <a:tab algn="l" pos="7664400"/>
                <a:tab algn="l" pos="8578800"/>
                <a:tab algn="l" pos="9493200"/>
                <a:tab algn="l" pos="104076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reate layers using the &lt;div&gt; element and associated sty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49200"/>
                <a:tab algn="l" pos="1263600"/>
                <a:tab algn="l" pos="2178000"/>
                <a:tab algn="l" pos="3092400"/>
                <a:tab algn="l" pos="4006800"/>
                <a:tab algn="l" pos="4921200"/>
                <a:tab algn="l" pos="5835600"/>
                <a:tab algn="l" pos="6750000"/>
                <a:tab algn="l" pos="7664400"/>
                <a:tab algn="l" pos="8578800"/>
                <a:tab algn="l" pos="9493200"/>
                <a:tab algn="l" pos="104076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Layer Attribu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295280"/>
            <a:ext cx="8458200" cy="304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955800"/>
            <a:ext cx="3384720" cy="4952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6200" y="29559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n the file called reviewingCSS_04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e rules are comprised of selectors and decla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apply a rule to multiple selectors by separating each selector with a comma when creating a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use contextual selectors to apply a style only under given circumsta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ntinued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reate custom classes to apply styles to multiple difference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use CSS to create layers, which can overlap one another by specifying a Z-index val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how/hide individual layers by adjusting the visibility attribute of a lay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y the end of this lecture you should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create CSS custom class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use id selector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 how to create layers using CS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Cascading Style She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rrent W3C recommendations support three types of style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rnal (Multi-page sco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edded (Page-level sco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 (Element-level sco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yle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yles depend on rules. Programmers construct rules using selectors and decla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ors represent the element or class to which the style should app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larations include the attribute to which the rule should apply and the new attribute val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ule Architecture – General For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select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attribute:value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attribute2:value2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(varies for inline sty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95280"/>
            <a:ext cx="8458200" cy="304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955800"/>
            <a:ext cx="33847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29559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n the file called reviewingCSS_01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der of Prece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scading order of precedence for styles, starting with the least important to the most important, i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6640" indent="-379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wser defa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6640" indent="-379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rnal style she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6640" indent="-379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l style she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6640" indent="-379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 sty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plying a Styl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Multiple Selecto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apply the same style to multiple selectors by listing the selectors in a comma-delimited l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p,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font-size:14pt;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font-color:red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Lucida Console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22:12:50Z</dcterms:created>
  <dc:creator>Bob Molnar</dc:creator>
  <dc:description/>
  <dc:language>en-US</dc:language>
  <cp:lastModifiedBy>Bob &amp; Anna Molnar</cp:lastModifiedBy>
  <dcterms:modified xsi:type="dcterms:W3CDTF">2005-11-21T16:32:54Z</dcterms:modified>
  <cp:revision>6</cp:revision>
  <dc:subject/>
  <dc:title>Advanced DHTML &amp; DOM: Review of Cascading Style Sheets</dc:title>
</cp:coreProperties>
</file>