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9F2C-97DE-4681-B762-9884BC517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23EA-8F31-4922-8200-D76FD3DB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1B88-3ACE-4EAA-B18B-B7A216693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2D7A-A676-4B88-8BDC-25B5D2FB4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E626-F158-4E9F-B4A3-6D912434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7D5E-63AE-47FA-892F-04D29C37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29E3-F963-4B6E-B396-8EC2E16D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30DB-215E-4328-90AF-22716661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5E99-D1BB-424B-A354-B1A2ECD4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03CB-788B-4A10-81AF-57113CEF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5A80-D1AB-488F-A24C-EDEC9523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44DD-9FD1-4D34-8B2E-E368DB59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BA6E-F900-4220-8829-2FB70068D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vironment Variab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SER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-agent  $_SERVER['HTTP_USER_AGENT'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er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ers_sent 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sh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vironment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S, which is an associative array of every variable available to the scrip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GET, _POST, _COOKIE, _SERVER, and _REQU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0T21:59:06Z</dcterms:created>
  <dc:creator>YOUSEF HASSOUNEH</dc:creator>
  <dc:description/>
  <dc:language>en-US</dc:language>
  <cp:lastModifiedBy>YOUSEF HASSOUNEH</cp:lastModifiedBy>
  <dcterms:modified xsi:type="dcterms:W3CDTF">2007-04-20T21:59:26Z</dcterms:modified>
  <cp:revision>1</cp:revision>
  <dc:subject/>
  <dc:title>Slide 1</dc:title>
</cp:coreProperties>
</file>