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8BC-90C8-47CA-B529-501687AB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0FA-7710-44AA-A9B3-9BAA2DDD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7DC-A749-4C8C-B1B2-95DC6823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913-B8AE-4492-8172-BB745CFE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40D-5565-4A16-BDF9-175431B2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A49-4687-426F-885F-73C61E64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F3D-2976-4EEC-B794-D7115B6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5B7-A182-400D-AF65-4E512F7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91D-8601-4BC6-956C-DA0AC8E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131-23A2-44B1-90FA-8EAD3261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99E-5F92-4F4E-8399-A33B3D12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EF9-1B42-42C2-965C-835B977D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964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E1A6-03BD-44CD-883C-5CFE6859E6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64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hapter 9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ctr">
              <a:lnSpc>
                <a:spcPct val="80000"/>
              </a:lnSpc>
              <a:spcBef>
                <a:spcPts val="5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 Narrow"/>
              </a:rPr>
              <a:t>Sorting III</a:t>
            </a:r>
            <a:endParaRPr b="1" lang="en-US" sz="72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gorithms and Analysi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semes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007/200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By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64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moun Nawahda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33530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et So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, pull the elements from the buckets into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4572000" cy="4419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56386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ast, the sorted arr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rted in a stable wa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191120" y="5562720"/>
            <a:ext cx="37335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Radix Sort</a:t>
            </a:r>
            <a:endParaRPr b="1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24536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ra information: every integer can be represented by at most </a:t>
            </a:r>
            <a:r>
              <a:rPr b="1" lang="en-US" sz="3600" spc="-1" strike="noStrike">
                <a:solidFill>
                  <a:srgbClr val="a50021"/>
                </a:solidFill>
                <a:latin typeface="Arial Narrow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igi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701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 Narrow"/>
              </a:rPr>
              <a:t>d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Arial Narrow"/>
              </a:rPr>
              <a:t>1</a:t>
            </a:r>
            <a:r>
              <a:rPr b="0" lang="en-US" sz="2800" spc="-1" strike="noStrike">
                <a:solidFill>
                  <a:srgbClr val="a50021"/>
                </a:solidFill>
                <a:latin typeface="Arial Narrow"/>
              </a:rPr>
              <a:t>d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Arial Narrow"/>
              </a:rPr>
              <a:t>…d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Arial Narrow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 Narrow"/>
              </a:rPr>
              <a:t>d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re digits in base </a:t>
            </a:r>
            <a:r>
              <a:rPr b="1" lang="en-US" sz="3600" spc="-1" strike="noStrike">
                <a:solidFill>
                  <a:srgbClr val="a50021"/>
                </a:solidFill>
                <a:latin typeface="Arial Narrow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d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most significant dig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d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 Narrow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 least significant dig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Radix Sort </a:t>
            </a: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lgorithm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3213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rt by the least significant digit first (counting sort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mbers with the same digit go to same bi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order all the numbers: the numbers in bin 0 precede the numbers in bin 1, which precede the numbers in bin 2, and so on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rt by the next least significant digi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inue this process until the numbers have been sorted on all 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digi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36280" y="1914480"/>
            <a:ext cx="642240" cy="301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2320" y="1908000"/>
            <a:ext cx="33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64920" y="1905120"/>
            <a:ext cx="642240" cy="301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84200" y="1914480"/>
            <a:ext cx="642240" cy="301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84400" y="1905120"/>
            <a:ext cx="642240" cy="301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2840" y="4940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3360" y="4952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49276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15040" y="297036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80400" y="297180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640" y="298440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15440" y="507060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3600" y="50292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1905120"/>
            <a:ext cx="0" cy="3047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2240" y="1917720"/>
            <a:ext cx="0" cy="30481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72280" y="1917720"/>
            <a:ext cx="0" cy="30481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19840" y="1892160"/>
            <a:ext cx="0" cy="30481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dix S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-significant-digit-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      275, 087, 426, 061, 509, 170, 677, 5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 Narrow"/>
              </a:rPr>
              <a:t>Recall:</a:t>
            </a:r>
            <a:endParaRPr b="1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aïve sorting algorithms –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O(n2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in the worst case and on averag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dc0081"/>
                </a:solidFill>
                <a:latin typeface="Arial Narrow"/>
              </a:rPr>
              <a:t>Selectionsort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GB" sz="2000" spc="-1" strike="noStrike">
                <a:solidFill>
                  <a:srgbClr val="dc0081"/>
                </a:solidFill>
                <a:latin typeface="Arial Narrow"/>
              </a:rPr>
              <a:t>Insertionsort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GB" sz="2000" spc="-1" strike="noStrike">
                <a:solidFill>
                  <a:srgbClr val="dc0081"/>
                </a:solidFill>
                <a:latin typeface="Arial Narrow"/>
              </a:rPr>
              <a:t>Bubbles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lever sorting algorithms –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O(n log n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in the worst case and on averag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dc0081"/>
                </a:solidFill>
                <a:latin typeface="Arial Narrow"/>
              </a:rPr>
              <a:t>Mergesort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GB" sz="2000" spc="-1" strike="noStrike">
                <a:solidFill>
                  <a:srgbClr val="dc0081"/>
                </a:solidFill>
                <a:latin typeface="Arial Narrow"/>
              </a:rPr>
              <a:t>Heaps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fastest sorting algorithm in practi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dc0081"/>
                </a:solidFill>
                <a:latin typeface="Arial Narrow"/>
              </a:rPr>
              <a:t>Quicks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O(n log n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on avera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no better than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O(n2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in the worst ca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Questio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: Can we come up with a sorting algorithm that is better than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O(n log n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in the worst case – e.g. </a:t>
            </a:r>
            <a:r>
              <a:rPr b="1" lang="en-GB" sz="2400" spc="-1" strike="noStrike">
                <a:solidFill>
                  <a:srgbClr val="ff0000"/>
                </a:solidFill>
                <a:latin typeface="Arial Narrow"/>
              </a:rPr>
              <a:t>O(n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077320" cy="315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8001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x S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62120" y="814320"/>
            <a:ext cx="73152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0"/>
            <a:ext cx="5715000" cy="61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adix Sort  - a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5  43   5  27  60  18  26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(m = 6, b =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5 = 001111  43 = 101011   5 = 00010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7 = 011011  60 = 111100  18 = 01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6 = 011010   2 = 000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st iter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00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01 :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10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8 26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11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5 43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w sequence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60  5 18 26  2 15 43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nd iter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00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8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01 :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10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6 43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11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6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w sequence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8  2  5 26 43 27 60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rd iter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00 :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  5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01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18 26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10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cket 11 :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w sequence :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2  5 15 18 26 27 43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O</a:t>
            </a:r>
            <a:endParaRPr b="1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ach pass over 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numbers with 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d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gits takes time O(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n+k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), so total time O(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dn+dk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701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en 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s constant and 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k=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O(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), takes O(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) tim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Radix Sort Example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blem: sort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1 million 64-bi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numb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eat as </a:t>
            </a:r>
            <a:r>
              <a:rPr b="0" lang="en-US" sz="2400" spc="-1" strike="noStrike">
                <a:solidFill>
                  <a:srgbClr val="a50021"/>
                </a:solidFill>
                <a:latin typeface="Arial Narrow"/>
              </a:rPr>
              <a:t>four-digi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adix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2</a:t>
            </a:r>
            <a:r>
              <a:rPr b="1" lang="en-US" sz="2800" spc="-1" strike="noStrike" baseline="30000">
                <a:solidFill>
                  <a:srgbClr val="a50021"/>
                </a:solidFill>
                <a:latin typeface="Arial Narro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umb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sort in jus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asses with radix sort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nning time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 million +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4 million operation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are with typical O(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g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 comparison sor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quires approx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lg </a:t>
            </a:r>
            <a:r>
              <a:rPr b="1" i="1" lang="en-US" sz="2800" spc="-1" strike="noStrike">
                <a:solidFill>
                  <a:srgbClr val="a50021"/>
                </a:solidFill>
                <a:latin typeface="Arial Narrow"/>
              </a:rPr>
              <a:t>n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= 2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perations per number being sor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tal running time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20 million oper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91540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000000"/>
                </a:solidFill>
                <a:latin typeface="Arial Narrow"/>
              </a:rPr>
              <a:t>Yes we Can</a:t>
            </a:r>
            <a:endParaRPr b="1" lang="en-US" sz="7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391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ctr">
              <a:lnSpc>
                <a:spcPct val="8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sing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49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Linear Sorts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unting sor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cket sor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adix sor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se algorithms do not depend on comparing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who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keys to be sorte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Counting sor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245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sumption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 Narro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ecor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ch record contains keys and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l keys are in the range of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o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unsorted list is stored in array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the sorted list will be stored in an additional array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s the third array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f size </a:t>
            </a: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Counting sor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ain idea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. For each key value </a:t>
            </a:r>
            <a:r>
              <a:rPr b="1" i="1" lang="en-US" sz="3200" spc="-1" strike="noStrike">
                <a:solidFill>
                  <a:srgbClr val="a50021"/>
                </a:solidFill>
                <a:latin typeface="Arial Narro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= 1,…,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unt the number of times the keys occur in the unsorted input array </a:t>
            </a:r>
            <a:r>
              <a:rPr b="1" i="1" lang="en-US" sz="3200" spc="-1" strike="noStrike">
                <a:solidFill>
                  <a:srgbClr val="a50021"/>
                </a:solidFill>
                <a:latin typeface="Arial Narrow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ore results in an auxiliary array, 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2. Use these counts to compute the offset. 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Offset</a:t>
            </a:r>
            <a:r>
              <a:rPr b="1" i="1" lang="en-US" sz="2800" spc="-1" strike="noStrike" baseline="-25000">
                <a:solidFill>
                  <a:srgbClr val="a50021"/>
                </a:solidFill>
                <a:latin typeface="Arial Narro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used to calculate the location where the record with key value </a:t>
            </a:r>
            <a:r>
              <a:rPr b="1" i="1" lang="en-US" sz="3200" spc="-1" strike="noStrike">
                <a:solidFill>
                  <a:srgbClr val="a50021"/>
                </a:solidFill>
                <a:latin typeface="Arial Narrow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ll be stored in the sorted output list </a:t>
            </a:r>
            <a:r>
              <a:rPr b="1" i="1" lang="en-US" sz="3200" spc="-1" strike="noStrike">
                <a:solidFill>
                  <a:srgbClr val="a50021"/>
                </a:solidFill>
                <a:latin typeface="Arial Narrow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offset</a:t>
            </a:r>
            <a:r>
              <a:rPr b="1" i="1" lang="en-US" sz="2800" spc="-1" strike="noStrike" baseline="-25000">
                <a:solidFill>
                  <a:srgbClr val="a50021"/>
                </a:solidFill>
                <a:latin typeface="Arial Narrow"/>
              </a:rPr>
              <a:t>i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alue has the location where the last 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key</a:t>
            </a:r>
            <a:r>
              <a:rPr b="1" lang="en-US" sz="3200" spc="-1" strike="noStrike" baseline="-25000">
                <a:solidFill>
                  <a:srgbClr val="a50021"/>
                </a:solidFill>
                <a:latin typeface="Arial Narro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is stored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unting Sort algorithm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296000" y="44956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523880"/>
            <a:ext cx="24732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79360" indent="-2793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put: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[ 1 ..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{1,2, . . . ,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utput: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[ 1 ..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], sorte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ses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[ 1 ..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uxiliary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52320" y="121932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o C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0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ength[A]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C[A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[A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]+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// C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 contains number of elements equal to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C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=C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+C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-1]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// C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 contains number of element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ngth[A]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wnto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B[C[A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]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1500"/>
              </a:spcBef>
              <a:buClr>
                <a:srgbClr val="d60093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[A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[A[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]]-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ing Sort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Bucket Sor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397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-29664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umption: the keys are in the range </a:t>
            </a:r>
            <a:r>
              <a:rPr b="1" lang="en-US" sz="3200" spc="-1" strike="noStrike">
                <a:solidFill>
                  <a:srgbClr val="a50021"/>
                </a:solidFill>
                <a:latin typeface="Arial Narrow"/>
              </a:rPr>
              <a:t>[0, K]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sic idea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. Create </a:t>
            </a:r>
            <a:r>
              <a:rPr b="1" i="1" lang="en-US" sz="2800" spc="-1" strike="noStrike">
                <a:solidFill>
                  <a:srgbClr val="a50021"/>
                </a:solidFill>
                <a:latin typeface="Arial Narrow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inked lists (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bucke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to divide interval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[0,K]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to subintervals of size </a:t>
            </a:r>
            <a:r>
              <a:rPr b="1" lang="en-US" sz="2800" spc="-1" strike="noStrike">
                <a:solidFill>
                  <a:srgbClr val="a50021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. Add each input element to appropriate buck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. Concatenate the buck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ected total time i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(n + K)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with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size of original sequ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cket Sor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element of the array is put in one of the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“bucke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79132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0:39:03Z</dcterms:created>
  <dc:creator/>
  <dc:description/>
  <dc:language>en-US</dc:language>
  <cp:lastModifiedBy>Dell</cp:lastModifiedBy>
  <dcterms:modified xsi:type="dcterms:W3CDTF">2008-01-23T09:30:21Z</dcterms:modified>
  <cp:revision>321</cp:revision>
  <dc:subject/>
  <dc:title>Course 2559A: Introduction to Visual Basic .NET Programming with Microsoft 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3.1.1005</vt:lpwstr>
  </property>
</Properties>
</file>