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8DFCBED-C00C-420F-A79C-612FE26C4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862DB9F-764D-4D72-89AE-7AD4E6A2B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37E9720-390A-468C-8AF6-AD2CE007E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9B31579-17C4-4504-8F61-C91092FC8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CB5D21A-DC09-405F-9123-6EB6FD085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C47C997-B878-450F-A847-C22C7E9D2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781ACEC-FC38-40B5-A17A-072357FF9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B866CC7-D383-4249-915F-DA23E8538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30ACA1D-D44A-4CA7-8335-224CD8585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D2C0C61-E2EC-45DB-BCA7-22898E116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7546907-E1C3-428A-BC20-BA15A6438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B7A246D-F24C-4C66-9456-22F73F6E1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24A0FED-77D8-47F3-9B44-F8844F913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77BBB6C-D2EC-4AB4-823F-D22A80C1B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668FAFA-B898-4401-A501-273D5A379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9239EB4-DA9A-4E13-A752-8402E4F1D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7D7D99F-F799-4E68-8AB4-30D02FEB7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81A873C-990B-4170-B025-656D2FE6E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86DA291-46F1-4DE4-A86E-A6D4083F9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BD2ED6B-84BD-46B9-98A7-2C10EE48F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D77D47A-298E-4691-9D23-5BC125F8A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F129228-73B0-460F-A927-F942FA6D6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D00B6EA-A58A-4A11-AA11-146F07164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7965967-613C-4621-A7D6-569513C2B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F4C16EC-DB14-414A-A3BD-53677E2EC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D804EE1-FD6D-4DB6-AA2B-23B6D93FE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0A8E837-41AB-4F8D-BDFF-E11096D28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00DD8CF-4128-4884-B0C4-BF3B406C9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7A05DE3-74B3-43AA-B54E-C70744408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3ABA615-6682-41CA-9704-D0A264DBE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3B4DC7F-4D7F-4E95-B70C-CFD77E171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4A8EEA3-5AB8-4261-8E66-FB6A40C81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E4BA868-3F16-42B6-AE1B-350FC42EB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C87D1C1-7B30-4F75-B51D-8DC100CD6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CEB2A92-A4C1-4B4A-8980-0869C2756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74EF0EC-655E-41F1-B36F-FA4AA4E29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96FCBBD-C4EE-4DD2-82DD-403847A61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324A2F2-5FAE-430C-8842-72895B909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2310C52-226D-41CB-8030-510C696C7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2C010C4-A1BD-4C64-A0AC-2876739A8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3364AED-7487-4805-BF36-774E39EE9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ick summary of these algorithms' timing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6D0C17E-3EA1-4431-AE78-F39033C34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77760" y="382788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191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040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8304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7776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040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8304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191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77760" y="382788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191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040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8304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7776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8040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8304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191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004760"/>
            <a:ext cx="7569360" cy="5229360"/>
          </a:xfrm>
          <a:prstGeom prst="rect">
            <a:avLst/>
          </a:prstGeom>
          <a:gradFill rotWithShape="0">
            <a:gsLst>
              <a:gs pos="0">
                <a:srgbClr val="fcfeb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049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919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763560" y="987480"/>
            <a:ext cx="7566120" cy="1396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57080" y="1004760"/>
            <a:ext cx="7569360" cy="5229360"/>
          </a:xfrm>
          <a:prstGeom prst="rect">
            <a:avLst/>
          </a:prstGeom>
          <a:gradFill rotWithShape="0">
            <a:gsLst>
              <a:gs pos="0">
                <a:srgbClr val="fcfeb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99640"/>
            <a:ext cx="77724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560" y="987480"/>
            <a:ext cx="7566120" cy="1396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77760" y="1218960"/>
            <a:ext cx="71056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Chapter 9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ctr">
              <a:lnSpc>
                <a:spcPct val="80000"/>
              </a:lnSpc>
              <a:spcBef>
                <a:spcPts val="5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Arial Narrow"/>
              </a:rPr>
              <a:t>Sorting I</a:t>
            </a:r>
            <a:endParaRPr b="1" lang="en-US" sz="7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lgorithms and Analysi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semes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007/2008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By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moun Nawahdah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95480" y="0"/>
            <a:ext cx="335304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96800" y="146160"/>
            <a:ext cx="665316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Selection Sort: Pass One 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06520" y="1620720"/>
            <a:ext cx="22240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 0 ]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414520" y="2208240"/>
            <a:ext cx="1416240" cy="3819600"/>
            <a:chOff x="2414520" y="2208240"/>
            <a:chExt cx="1416240" cy="3819600"/>
          </a:xfrm>
        </p:grpSpPr>
        <p:sp>
          <p:nvSpPr>
            <p:cNvPr id="115" name=""/>
            <p:cNvSpPr/>
            <p:nvPr/>
          </p:nvSpPr>
          <p:spPr>
            <a:xfrm>
              <a:off x="2433600" y="2208240"/>
              <a:ext cx="1390680" cy="38196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14520" y="297036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14520" y="373536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14520" y="450216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14520" y="526896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786040" y="2298600"/>
            <a:ext cx="63648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256360" y="2201760"/>
            <a:ext cx="2265120" cy="3823920"/>
            <a:chOff x="5256360" y="2201760"/>
            <a:chExt cx="2265120" cy="3823920"/>
          </a:xfrm>
        </p:grpSpPr>
        <p:grpSp>
          <p:nvGrpSpPr>
            <p:cNvPr id="122" name=""/>
            <p:cNvGrpSpPr/>
            <p:nvPr/>
          </p:nvGrpSpPr>
          <p:grpSpPr>
            <a:xfrm>
              <a:off x="5256360" y="2201760"/>
              <a:ext cx="2265120" cy="3823920"/>
              <a:chOff x="5256360" y="2201760"/>
              <a:chExt cx="2265120" cy="3823920"/>
            </a:xfrm>
          </p:grpSpPr>
          <p:sp>
            <p:nvSpPr>
              <p:cNvPr id="123" name=""/>
              <p:cNvSpPr/>
              <p:nvPr/>
            </p:nvSpPr>
            <p:spPr>
              <a:xfrm rot="16200000">
                <a:off x="3828960" y="3636360"/>
                <a:ext cx="3816360" cy="961920"/>
              </a:xfrm>
              <a:prstGeom prst="triangle">
                <a:avLst>
                  <a:gd name="adj" fmla="val 49995"/>
                </a:avLst>
              </a:prstGeom>
              <a:solidFill>
                <a:srgbClr val="ff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224760" y="2222640"/>
                <a:ext cx="1293480" cy="378612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224760" y="220176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29440" y="602460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7513560" y="2201760"/>
              <a:ext cx="0" cy="380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7718400" y="2419200"/>
            <a:ext cx="460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064040" y="2519280"/>
            <a:ext cx="579240" cy="2370240"/>
            <a:chOff x="4064040" y="2519280"/>
            <a:chExt cx="579240" cy="2370240"/>
          </a:xfrm>
        </p:grpSpPr>
        <p:sp>
          <p:nvSpPr>
            <p:cNvPr id="130" name=""/>
            <p:cNvSpPr/>
            <p:nvPr/>
          </p:nvSpPr>
          <p:spPr>
            <a:xfrm>
              <a:off x="4635360" y="2540160"/>
              <a:ext cx="0" cy="233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64040" y="251928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71960" y="488952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04600" y="146160"/>
            <a:ext cx="757692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Selection Sort: End Pass One 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"/>
          <p:cNvSpPr/>
          <p:nvPr/>
        </p:nvSpPr>
        <p:spPr>
          <a:xfrm>
            <a:off x="506520" y="1620720"/>
            <a:ext cx="22240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 0 ]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414520" y="2209680"/>
            <a:ext cx="1416240" cy="3819600"/>
            <a:chOff x="2414520" y="2209680"/>
            <a:chExt cx="1416240" cy="3819600"/>
          </a:xfrm>
        </p:grpSpPr>
        <p:sp>
          <p:nvSpPr>
            <p:cNvPr id="136" name=""/>
            <p:cNvSpPr/>
            <p:nvPr/>
          </p:nvSpPr>
          <p:spPr>
            <a:xfrm>
              <a:off x="2433600" y="2209680"/>
              <a:ext cx="1390680" cy="38196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14520" y="2971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4520" y="3736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14520" y="45036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14520" y="52704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786040" y="2298600"/>
            <a:ext cx="74880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256360" y="2941560"/>
            <a:ext cx="2265120" cy="3105360"/>
            <a:chOff x="5256360" y="2941560"/>
            <a:chExt cx="2265120" cy="3105360"/>
          </a:xfrm>
        </p:grpSpPr>
        <p:grpSp>
          <p:nvGrpSpPr>
            <p:cNvPr id="143" name=""/>
            <p:cNvGrpSpPr/>
            <p:nvPr/>
          </p:nvGrpSpPr>
          <p:grpSpPr>
            <a:xfrm>
              <a:off x="5256360" y="2941560"/>
              <a:ext cx="2265120" cy="3105360"/>
              <a:chOff x="5256360" y="2941560"/>
              <a:chExt cx="2265120" cy="3105360"/>
            </a:xfrm>
          </p:grpSpPr>
          <p:sp>
            <p:nvSpPr>
              <p:cNvPr id="144" name=""/>
              <p:cNvSpPr/>
              <p:nvPr/>
            </p:nvSpPr>
            <p:spPr>
              <a:xfrm rot="16200000">
                <a:off x="4189320" y="4015800"/>
                <a:ext cx="3095640" cy="961920"/>
              </a:xfrm>
              <a:prstGeom prst="triangle">
                <a:avLst>
                  <a:gd name="adj" fmla="val 49995"/>
                </a:avLst>
              </a:prstGeom>
              <a:solidFill>
                <a:srgbClr val="ff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224760" y="2959200"/>
                <a:ext cx="1293480" cy="30747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24760" y="294156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29440" y="604692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7513560" y="2941560"/>
              <a:ext cx="0" cy="30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717680" y="304308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181480" y="2209320"/>
            <a:ext cx="2311560" cy="686160"/>
            <a:chOff x="5181480" y="2209320"/>
            <a:chExt cx="2311560" cy="686160"/>
          </a:xfrm>
        </p:grpSpPr>
        <p:grpSp>
          <p:nvGrpSpPr>
            <p:cNvPr id="151" name=""/>
            <p:cNvGrpSpPr/>
            <p:nvPr/>
          </p:nvGrpSpPr>
          <p:grpSpPr>
            <a:xfrm>
              <a:off x="5181480" y="2209320"/>
              <a:ext cx="2311560" cy="686160"/>
              <a:chOff x="5181480" y="2209320"/>
              <a:chExt cx="2311560" cy="686160"/>
            </a:xfrm>
          </p:grpSpPr>
          <p:sp>
            <p:nvSpPr>
              <p:cNvPr id="152" name=""/>
              <p:cNvSpPr/>
              <p:nvPr/>
            </p:nvSpPr>
            <p:spPr>
              <a:xfrm rot="16200000">
                <a:off x="5419440" y="2070000"/>
                <a:ext cx="625680" cy="952200"/>
              </a:xfrm>
              <a:prstGeom prst="triangle">
                <a:avLst>
                  <a:gd name="adj" fmla="val 49995"/>
                </a:avLst>
              </a:prstGeom>
              <a:solidFill>
                <a:srgbClr val="c1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216480" y="2230560"/>
                <a:ext cx="1276560" cy="633240"/>
              </a:xfrm>
              <a:prstGeom prst="rect">
                <a:avLst/>
              </a:prstGeom>
              <a:solidFill>
                <a:srgbClr val="c1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5181480" y="2209320"/>
                <a:ext cx="2311560" cy="686160"/>
                <a:chOff x="5181480" y="2209320"/>
                <a:chExt cx="2311560" cy="6861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6216480" y="2227320"/>
                  <a:ext cx="1270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216480" y="2865600"/>
                  <a:ext cx="1276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5181480" y="2209320"/>
                  <a:ext cx="106704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181480" y="2514600"/>
                  <a:ext cx="10670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>
              <a:off x="5915520" y="2325600"/>
              <a:ext cx="1452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R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7486560" y="222732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5181480" y="2209320"/>
            <a:ext cx="2311560" cy="686160"/>
            <a:chOff x="5181480" y="2209320"/>
            <a:chExt cx="2311560" cy="686160"/>
          </a:xfrm>
        </p:grpSpPr>
        <p:grpSp>
          <p:nvGrpSpPr>
            <p:cNvPr id="162" name=""/>
            <p:cNvGrpSpPr/>
            <p:nvPr/>
          </p:nvGrpSpPr>
          <p:grpSpPr>
            <a:xfrm>
              <a:off x="5181480" y="2209320"/>
              <a:ext cx="2311560" cy="686160"/>
              <a:chOff x="5181480" y="2209320"/>
              <a:chExt cx="2311560" cy="686160"/>
            </a:xfrm>
          </p:grpSpPr>
          <p:sp>
            <p:nvSpPr>
              <p:cNvPr id="163" name=""/>
              <p:cNvSpPr/>
              <p:nvPr/>
            </p:nvSpPr>
            <p:spPr>
              <a:xfrm rot="16200000">
                <a:off x="5419440" y="2070000"/>
                <a:ext cx="625680" cy="952200"/>
              </a:xfrm>
              <a:prstGeom prst="triangle">
                <a:avLst>
                  <a:gd name="adj" fmla="val 49995"/>
                </a:avLst>
              </a:prstGeom>
              <a:solidFill>
                <a:srgbClr val="c1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216480" y="2230560"/>
                <a:ext cx="1276560" cy="633240"/>
              </a:xfrm>
              <a:prstGeom prst="rect">
                <a:avLst/>
              </a:prstGeom>
              <a:solidFill>
                <a:srgbClr val="c1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5181480" y="2209320"/>
                <a:ext cx="2311560" cy="686160"/>
                <a:chOff x="5181480" y="2209320"/>
                <a:chExt cx="2311560" cy="6861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216480" y="2227320"/>
                  <a:ext cx="1270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216480" y="2865600"/>
                  <a:ext cx="1276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5181480" y="2209320"/>
                  <a:ext cx="106704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181480" y="2514600"/>
                  <a:ext cx="10670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0" name=""/>
            <p:cNvSpPr/>
            <p:nvPr/>
          </p:nvSpPr>
          <p:spPr>
            <a:xfrm>
              <a:off x="5915520" y="2325600"/>
              <a:ext cx="1452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R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96800" y="146160"/>
            <a:ext cx="665316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 Narrow"/>
              </a:rPr>
              <a:t>Selection Sort: Pass Two </a:t>
            </a:r>
            <a:endParaRPr b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506520" y="1620720"/>
            <a:ext cx="22240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 0 ]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414520" y="2209680"/>
            <a:ext cx="1416240" cy="3819600"/>
            <a:chOff x="2414520" y="2209680"/>
            <a:chExt cx="1416240" cy="3819600"/>
          </a:xfrm>
        </p:grpSpPr>
        <p:sp>
          <p:nvSpPr>
            <p:cNvPr id="174" name=""/>
            <p:cNvSpPr/>
            <p:nvPr/>
          </p:nvSpPr>
          <p:spPr>
            <a:xfrm>
              <a:off x="2433600" y="2209680"/>
              <a:ext cx="1390680" cy="38196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414520" y="2971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14520" y="3736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14520" y="45036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14520" y="52704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786040" y="2298600"/>
            <a:ext cx="74880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256360" y="2941560"/>
            <a:ext cx="2265120" cy="3084480"/>
            <a:chOff x="5256360" y="2941560"/>
            <a:chExt cx="2265120" cy="3084480"/>
          </a:xfrm>
        </p:grpSpPr>
        <p:grpSp>
          <p:nvGrpSpPr>
            <p:cNvPr id="181" name=""/>
            <p:cNvGrpSpPr/>
            <p:nvPr/>
          </p:nvGrpSpPr>
          <p:grpSpPr>
            <a:xfrm>
              <a:off x="5256360" y="2941560"/>
              <a:ext cx="2265120" cy="3084480"/>
              <a:chOff x="5256360" y="2941560"/>
              <a:chExt cx="2265120" cy="3084480"/>
            </a:xfrm>
          </p:grpSpPr>
          <p:sp>
            <p:nvSpPr>
              <p:cNvPr id="182" name=""/>
              <p:cNvSpPr/>
              <p:nvPr/>
            </p:nvSpPr>
            <p:spPr>
              <a:xfrm rot="16200000">
                <a:off x="4199040" y="4006800"/>
                <a:ext cx="3076560" cy="961920"/>
              </a:xfrm>
              <a:prstGeom prst="triangle">
                <a:avLst>
                  <a:gd name="adj" fmla="val 49995"/>
                </a:avLst>
              </a:prstGeom>
              <a:solidFill>
                <a:srgbClr val="ff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224760" y="2959200"/>
                <a:ext cx="1293480" cy="305424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224760" y="294156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229440" y="602604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7513560" y="2941560"/>
              <a:ext cx="0" cy="306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717680" y="304308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86560" y="222732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064040" y="3279600"/>
            <a:ext cx="579240" cy="911520"/>
            <a:chOff x="4064040" y="3279600"/>
            <a:chExt cx="579240" cy="911520"/>
          </a:xfrm>
        </p:grpSpPr>
        <p:sp>
          <p:nvSpPr>
            <p:cNvPr id="190" name=""/>
            <p:cNvSpPr/>
            <p:nvPr/>
          </p:nvSpPr>
          <p:spPr>
            <a:xfrm>
              <a:off x="4635360" y="3287880"/>
              <a:ext cx="0" cy="9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64040" y="327960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71960" y="419112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06400" y="61920"/>
            <a:ext cx="7577280" cy="7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Selection Sort: End Pass Two 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"/>
          <p:cNvSpPr/>
          <p:nvPr/>
        </p:nvSpPr>
        <p:spPr>
          <a:xfrm>
            <a:off x="506520" y="1620720"/>
            <a:ext cx="22240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 0 ]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414520" y="2209680"/>
            <a:ext cx="1416240" cy="3819600"/>
            <a:chOff x="2414520" y="2209680"/>
            <a:chExt cx="1416240" cy="3819600"/>
          </a:xfrm>
        </p:grpSpPr>
        <p:sp>
          <p:nvSpPr>
            <p:cNvPr id="196" name=""/>
            <p:cNvSpPr/>
            <p:nvPr/>
          </p:nvSpPr>
          <p:spPr>
            <a:xfrm>
              <a:off x="2433600" y="2209680"/>
              <a:ext cx="1390680" cy="38196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14520" y="2971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14520" y="3736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14520" y="45036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14520" y="52704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786040" y="2298600"/>
            <a:ext cx="63648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256360" y="3789360"/>
            <a:ext cx="2265120" cy="2259000"/>
            <a:chOff x="5256360" y="3789360"/>
            <a:chExt cx="2265120" cy="2259000"/>
          </a:xfrm>
        </p:grpSpPr>
        <p:grpSp>
          <p:nvGrpSpPr>
            <p:cNvPr id="203" name=""/>
            <p:cNvGrpSpPr/>
            <p:nvPr/>
          </p:nvGrpSpPr>
          <p:grpSpPr>
            <a:xfrm>
              <a:off x="5256360" y="3789360"/>
              <a:ext cx="2265120" cy="2259000"/>
              <a:chOff x="5256360" y="3789360"/>
              <a:chExt cx="2265120" cy="2259000"/>
            </a:xfrm>
          </p:grpSpPr>
          <p:sp>
            <p:nvSpPr>
              <p:cNvPr id="204" name=""/>
              <p:cNvSpPr/>
              <p:nvPr/>
            </p:nvSpPr>
            <p:spPr>
              <a:xfrm rot="16200000">
                <a:off x="4613400" y="4440240"/>
                <a:ext cx="2247840" cy="961920"/>
              </a:xfrm>
              <a:prstGeom prst="triangle">
                <a:avLst>
                  <a:gd name="adj" fmla="val 49995"/>
                </a:avLst>
              </a:prstGeom>
              <a:solidFill>
                <a:srgbClr val="ff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224760" y="3801960"/>
                <a:ext cx="1293480" cy="223704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224760" y="378936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229440" y="604836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7513560" y="3789360"/>
              <a:ext cx="0" cy="224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7717680" y="3833640"/>
            <a:ext cx="3632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257800" y="2209320"/>
            <a:ext cx="2235240" cy="1524600"/>
            <a:chOff x="5257800" y="2209320"/>
            <a:chExt cx="2235240" cy="1524600"/>
          </a:xfrm>
        </p:grpSpPr>
        <p:sp>
          <p:nvSpPr>
            <p:cNvPr id="211" name=""/>
            <p:cNvSpPr/>
            <p:nvPr/>
          </p:nvSpPr>
          <p:spPr>
            <a:xfrm rot="16200000">
              <a:off x="5051160" y="2477520"/>
              <a:ext cx="1441800" cy="952560"/>
            </a:xfrm>
            <a:prstGeom prst="triangle">
              <a:avLst>
                <a:gd name="adj" fmla="val 49995"/>
              </a:avLst>
            </a:prstGeom>
            <a:solidFill>
              <a:srgbClr val="c1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16480" y="2235240"/>
              <a:ext cx="1276560" cy="1440000"/>
            </a:xfrm>
            <a:prstGeom prst="rect">
              <a:avLst/>
            </a:prstGeom>
            <a:solidFill>
              <a:srgbClr val="c1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16480" y="222732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480" y="3679920"/>
              <a:ext cx="12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86560" y="2227320"/>
              <a:ext cx="0" cy="144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15520" y="2655720"/>
              <a:ext cx="1452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R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5257800" y="2209320"/>
              <a:ext cx="9907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57800" y="2971800"/>
              <a:ext cx="106668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6400" y="61920"/>
            <a:ext cx="7577280" cy="8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Selection Sort: Pass Three 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" name=""/>
          <p:cNvSpPr/>
          <p:nvPr/>
        </p:nvSpPr>
        <p:spPr>
          <a:xfrm>
            <a:off x="506520" y="1620720"/>
            <a:ext cx="22240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 0 ]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414520" y="2209680"/>
            <a:ext cx="1416240" cy="3819600"/>
            <a:chOff x="2414520" y="2209680"/>
            <a:chExt cx="1416240" cy="3819600"/>
          </a:xfrm>
        </p:grpSpPr>
        <p:sp>
          <p:nvSpPr>
            <p:cNvPr id="222" name=""/>
            <p:cNvSpPr/>
            <p:nvPr/>
          </p:nvSpPr>
          <p:spPr>
            <a:xfrm>
              <a:off x="2433600" y="2209680"/>
              <a:ext cx="1390680" cy="38196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14520" y="2971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14520" y="3736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14520" y="45036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14520" y="52704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2786040" y="2298600"/>
            <a:ext cx="63648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256360" y="3789360"/>
            <a:ext cx="2265120" cy="2259000"/>
            <a:chOff x="5256360" y="3789360"/>
            <a:chExt cx="2265120" cy="2259000"/>
          </a:xfrm>
        </p:grpSpPr>
        <p:grpSp>
          <p:nvGrpSpPr>
            <p:cNvPr id="229" name=""/>
            <p:cNvGrpSpPr/>
            <p:nvPr/>
          </p:nvGrpSpPr>
          <p:grpSpPr>
            <a:xfrm>
              <a:off x="5256360" y="3789360"/>
              <a:ext cx="2265120" cy="2259000"/>
              <a:chOff x="5256360" y="3789360"/>
              <a:chExt cx="2265120" cy="2259000"/>
            </a:xfrm>
          </p:grpSpPr>
          <p:sp>
            <p:nvSpPr>
              <p:cNvPr id="230" name=""/>
              <p:cNvSpPr/>
              <p:nvPr/>
            </p:nvSpPr>
            <p:spPr>
              <a:xfrm rot="16200000">
                <a:off x="4613400" y="4440240"/>
                <a:ext cx="2247840" cy="961920"/>
              </a:xfrm>
              <a:prstGeom prst="triangle">
                <a:avLst>
                  <a:gd name="adj" fmla="val 49995"/>
                </a:avLst>
              </a:prstGeom>
              <a:solidFill>
                <a:srgbClr val="ff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224760" y="3801960"/>
                <a:ext cx="1293480" cy="223704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224760" y="378936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229440" y="604836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7513560" y="3789360"/>
              <a:ext cx="0" cy="224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7717680" y="3833640"/>
            <a:ext cx="3632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064040" y="4105440"/>
            <a:ext cx="579240" cy="1566720"/>
            <a:chOff x="4064040" y="4105440"/>
            <a:chExt cx="579240" cy="1566720"/>
          </a:xfrm>
        </p:grpSpPr>
        <p:sp>
          <p:nvSpPr>
            <p:cNvPr id="237" name=""/>
            <p:cNvSpPr/>
            <p:nvPr/>
          </p:nvSpPr>
          <p:spPr>
            <a:xfrm>
              <a:off x="4635360" y="4119480"/>
              <a:ext cx="0" cy="15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64040" y="410544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71960" y="567216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257800" y="2209320"/>
            <a:ext cx="2235240" cy="1524600"/>
            <a:chOff x="5257800" y="2209320"/>
            <a:chExt cx="2235240" cy="1524600"/>
          </a:xfrm>
        </p:grpSpPr>
        <p:sp>
          <p:nvSpPr>
            <p:cNvPr id="241" name=""/>
            <p:cNvSpPr/>
            <p:nvPr/>
          </p:nvSpPr>
          <p:spPr>
            <a:xfrm rot="16200000">
              <a:off x="5051160" y="2477520"/>
              <a:ext cx="1441800" cy="952560"/>
            </a:xfrm>
            <a:prstGeom prst="triangle">
              <a:avLst>
                <a:gd name="adj" fmla="val 49995"/>
              </a:avLst>
            </a:prstGeom>
            <a:solidFill>
              <a:srgbClr val="c1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16480" y="2235240"/>
              <a:ext cx="1276560" cy="1440000"/>
            </a:xfrm>
            <a:prstGeom prst="rect">
              <a:avLst/>
            </a:prstGeom>
            <a:solidFill>
              <a:srgbClr val="c1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16480" y="222732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16480" y="3679920"/>
              <a:ext cx="12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86560" y="2227320"/>
              <a:ext cx="0" cy="144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15520" y="2655720"/>
              <a:ext cx="1452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R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5257800" y="2209320"/>
              <a:ext cx="9907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57800" y="2971800"/>
              <a:ext cx="106668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06400" y="61920"/>
            <a:ext cx="7577280" cy="8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Selection Sort: End Pass Three 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"/>
          <p:cNvSpPr/>
          <p:nvPr/>
        </p:nvSpPr>
        <p:spPr>
          <a:xfrm>
            <a:off x="506520" y="1620720"/>
            <a:ext cx="22240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 0 ]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414520" y="2209680"/>
            <a:ext cx="1416240" cy="3819600"/>
            <a:chOff x="2414520" y="2209680"/>
            <a:chExt cx="1416240" cy="3819600"/>
          </a:xfrm>
        </p:grpSpPr>
        <p:sp>
          <p:nvSpPr>
            <p:cNvPr id="252" name=""/>
            <p:cNvSpPr/>
            <p:nvPr/>
          </p:nvSpPr>
          <p:spPr>
            <a:xfrm>
              <a:off x="2433600" y="2209680"/>
              <a:ext cx="1390680" cy="38196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414520" y="2971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14520" y="3736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14520" y="45036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414520" y="52704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786040" y="2298600"/>
            <a:ext cx="63648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17680" y="2279520"/>
            <a:ext cx="4226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256360" y="2230560"/>
            <a:ext cx="2265120" cy="2346120"/>
            <a:chOff x="5256360" y="2230560"/>
            <a:chExt cx="2265120" cy="2346120"/>
          </a:xfrm>
        </p:grpSpPr>
        <p:grpSp>
          <p:nvGrpSpPr>
            <p:cNvPr id="260" name=""/>
            <p:cNvGrpSpPr/>
            <p:nvPr/>
          </p:nvGrpSpPr>
          <p:grpSpPr>
            <a:xfrm>
              <a:off x="5256360" y="2230560"/>
              <a:ext cx="2265120" cy="2346120"/>
              <a:chOff x="5256360" y="2230560"/>
              <a:chExt cx="2265120" cy="2346120"/>
            </a:xfrm>
          </p:grpSpPr>
          <p:sp>
            <p:nvSpPr>
              <p:cNvPr id="261" name=""/>
              <p:cNvSpPr/>
              <p:nvPr/>
            </p:nvSpPr>
            <p:spPr>
              <a:xfrm flipH="1" rot="16200000">
                <a:off x="4568760" y="2919240"/>
                <a:ext cx="2336760" cy="961920"/>
              </a:xfrm>
              <a:prstGeom prst="triangle">
                <a:avLst>
                  <a:gd name="adj" fmla="val 49995"/>
                </a:avLst>
              </a:prstGeom>
              <a:solidFill>
                <a:srgbClr val="c1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224760" y="2239920"/>
                <a:ext cx="1293480" cy="2324160"/>
              </a:xfrm>
              <a:prstGeom prst="rect">
                <a:avLst/>
              </a:prstGeom>
              <a:solidFill>
                <a:srgbClr val="c1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224760" y="457668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229440" y="223056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 flipV="1">
              <a:off x="7513560" y="2243160"/>
              <a:ext cx="0" cy="23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257800" y="4648320"/>
            <a:ext cx="2241360" cy="1523520"/>
            <a:chOff x="5257800" y="4648320"/>
            <a:chExt cx="2241360" cy="1523520"/>
          </a:xfrm>
        </p:grpSpPr>
        <p:grpSp>
          <p:nvGrpSpPr>
            <p:cNvPr id="267" name=""/>
            <p:cNvGrpSpPr/>
            <p:nvPr/>
          </p:nvGrpSpPr>
          <p:grpSpPr>
            <a:xfrm>
              <a:off x="5257800" y="4648320"/>
              <a:ext cx="2235240" cy="1523520"/>
              <a:chOff x="5257800" y="4648320"/>
              <a:chExt cx="2235240" cy="1523520"/>
            </a:xfrm>
          </p:grpSpPr>
          <p:sp>
            <p:nvSpPr>
              <p:cNvPr id="268" name=""/>
              <p:cNvSpPr/>
              <p:nvPr/>
            </p:nvSpPr>
            <p:spPr>
              <a:xfrm rot="16200000">
                <a:off x="5051520" y="4916160"/>
                <a:ext cx="1441440" cy="952560"/>
              </a:xfrm>
              <a:prstGeom prst="triangle">
                <a:avLst>
                  <a:gd name="adj" fmla="val 49995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16840" y="4673520"/>
                <a:ext cx="1276200" cy="143964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16840" y="4665600"/>
                <a:ext cx="1269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216840" y="6118200"/>
                <a:ext cx="127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486560" y="4665600"/>
                <a:ext cx="0" cy="144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5257800" y="4648320"/>
                <a:ext cx="99072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257800" y="5410080"/>
                <a:ext cx="106668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5607360" y="5153040"/>
              <a:ext cx="1891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NSOR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06400" y="61920"/>
            <a:ext cx="7577280" cy="8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 Narrow"/>
              </a:rPr>
              <a:t>Selection Sort: Pass Four </a:t>
            </a:r>
            <a:endParaRPr b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7" name=""/>
          <p:cNvSpPr/>
          <p:nvPr/>
        </p:nvSpPr>
        <p:spPr>
          <a:xfrm>
            <a:off x="506520" y="1620720"/>
            <a:ext cx="22240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 0 ]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414520" y="2209680"/>
            <a:ext cx="1416240" cy="3819600"/>
            <a:chOff x="2414520" y="2209680"/>
            <a:chExt cx="1416240" cy="3819600"/>
          </a:xfrm>
        </p:grpSpPr>
        <p:sp>
          <p:nvSpPr>
            <p:cNvPr id="279" name=""/>
            <p:cNvSpPr/>
            <p:nvPr/>
          </p:nvSpPr>
          <p:spPr>
            <a:xfrm>
              <a:off x="2433600" y="2209680"/>
              <a:ext cx="1390680" cy="38196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14520" y="2971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14520" y="3736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14520" y="45036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414520" y="52704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786040" y="2298600"/>
            <a:ext cx="63648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717680" y="2279520"/>
            <a:ext cx="4226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256360" y="2230560"/>
            <a:ext cx="2265120" cy="2346120"/>
            <a:chOff x="5256360" y="2230560"/>
            <a:chExt cx="2265120" cy="2346120"/>
          </a:xfrm>
        </p:grpSpPr>
        <p:grpSp>
          <p:nvGrpSpPr>
            <p:cNvPr id="287" name=""/>
            <p:cNvGrpSpPr/>
            <p:nvPr/>
          </p:nvGrpSpPr>
          <p:grpSpPr>
            <a:xfrm>
              <a:off x="5256360" y="2230560"/>
              <a:ext cx="2265120" cy="2346120"/>
              <a:chOff x="5256360" y="2230560"/>
              <a:chExt cx="2265120" cy="2346120"/>
            </a:xfrm>
          </p:grpSpPr>
          <p:sp>
            <p:nvSpPr>
              <p:cNvPr id="288" name=""/>
              <p:cNvSpPr/>
              <p:nvPr/>
            </p:nvSpPr>
            <p:spPr>
              <a:xfrm flipH="1" rot="16200000">
                <a:off x="4568760" y="2919240"/>
                <a:ext cx="2336760" cy="961920"/>
              </a:xfrm>
              <a:prstGeom prst="triangle">
                <a:avLst>
                  <a:gd name="adj" fmla="val 49995"/>
                </a:avLst>
              </a:prstGeom>
              <a:solidFill>
                <a:srgbClr val="c1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224760" y="2239920"/>
                <a:ext cx="1293480" cy="2324160"/>
              </a:xfrm>
              <a:prstGeom prst="rect">
                <a:avLst/>
              </a:prstGeom>
              <a:solidFill>
                <a:srgbClr val="c1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224760" y="457668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229440" y="223056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 flipV="1">
              <a:off x="7513560" y="2243160"/>
              <a:ext cx="0" cy="23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257800" y="4648320"/>
            <a:ext cx="2241360" cy="1523520"/>
            <a:chOff x="5257800" y="4648320"/>
            <a:chExt cx="2241360" cy="1523520"/>
          </a:xfrm>
        </p:grpSpPr>
        <p:grpSp>
          <p:nvGrpSpPr>
            <p:cNvPr id="294" name=""/>
            <p:cNvGrpSpPr/>
            <p:nvPr/>
          </p:nvGrpSpPr>
          <p:grpSpPr>
            <a:xfrm>
              <a:off x="5257800" y="4648320"/>
              <a:ext cx="2235240" cy="1523520"/>
              <a:chOff x="5257800" y="4648320"/>
              <a:chExt cx="2235240" cy="1523520"/>
            </a:xfrm>
          </p:grpSpPr>
          <p:sp>
            <p:nvSpPr>
              <p:cNvPr id="295" name=""/>
              <p:cNvSpPr/>
              <p:nvPr/>
            </p:nvSpPr>
            <p:spPr>
              <a:xfrm rot="16200000">
                <a:off x="5051520" y="4916160"/>
                <a:ext cx="1441440" cy="952560"/>
              </a:xfrm>
              <a:prstGeom prst="triangle">
                <a:avLst>
                  <a:gd name="adj" fmla="val 49995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216840" y="4673520"/>
                <a:ext cx="1276200" cy="143964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216840" y="4665600"/>
                <a:ext cx="1269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216840" y="6118200"/>
                <a:ext cx="127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486560" y="4665600"/>
                <a:ext cx="0" cy="144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5257800" y="4648320"/>
                <a:ext cx="99072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257800" y="5410080"/>
                <a:ext cx="106668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5607360" y="5153040"/>
              <a:ext cx="1891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NSOR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064040" y="4869000"/>
            <a:ext cx="579240" cy="911160"/>
            <a:chOff x="4064040" y="4869000"/>
            <a:chExt cx="579240" cy="911160"/>
          </a:xfrm>
        </p:grpSpPr>
        <p:sp>
          <p:nvSpPr>
            <p:cNvPr id="304" name=""/>
            <p:cNvSpPr/>
            <p:nvPr/>
          </p:nvSpPr>
          <p:spPr>
            <a:xfrm>
              <a:off x="4635360" y="4876920"/>
              <a:ext cx="0" cy="9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64040" y="486900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71960" y="578016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0800" y="146160"/>
            <a:ext cx="738828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Selection Sort: End Pass Four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"/>
          <p:cNvSpPr/>
          <p:nvPr/>
        </p:nvSpPr>
        <p:spPr>
          <a:xfrm>
            <a:off x="506520" y="1620720"/>
            <a:ext cx="22240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 0 ]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414520" y="2209680"/>
            <a:ext cx="1416240" cy="3819600"/>
            <a:chOff x="2414520" y="2209680"/>
            <a:chExt cx="1416240" cy="3819600"/>
          </a:xfrm>
        </p:grpSpPr>
        <p:sp>
          <p:nvSpPr>
            <p:cNvPr id="310" name=""/>
            <p:cNvSpPr/>
            <p:nvPr/>
          </p:nvSpPr>
          <p:spPr>
            <a:xfrm>
              <a:off x="2433600" y="2209680"/>
              <a:ext cx="1390680" cy="38196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14520" y="2971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14520" y="3736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14520" y="45036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14520" y="52704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786040" y="2298600"/>
            <a:ext cx="63648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256360" y="2201760"/>
            <a:ext cx="2265120" cy="3865680"/>
            <a:chOff x="5256360" y="2201760"/>
            <a:chExt cx="2265120" cy="3865680"/>
          </a:xfrm>
        </p:grpSpPr>
        <p:sp>
          <p:nvSpPr>
            <p:cNvPr id="317" name=""/>
            <p:cNvSpPr/>
            <p:nvPr/>
          </p:nvSpPr>
          <p:spPr>
            <a:xfrm rot="16200000">
              <a:off x="3808440" y="3657600"/>
              <a:ext cx="3857760" cy="961920"/>
            </a:xfrm>
            <a:prstGeom prst="triangle">
              <a:avLst>
                <a:gd name="adj" fmla="val 49995"/>
              </a:avLst>
            </a:pr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24760" y="2222640"/>
              <a:ext cx="1293480" cy="3828960"/>
            </a:xfrm>
            <a:prstGeom prst="rect">
              <a:avLst/>
            </a:prstGeom>
            <a:solidFill>
              <a:srgbClr val="c1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224760" y="2201760"/>
              <a:ext cx="129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29440" y="6067440"/>
              <a:ext cx="129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7513560" y="2201760"/>
            <a:ext cx="0" cy="385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17320" y="2540160"/>
            <a:ext cx="5022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0600" y="249120"/>
            <a:ext cx="8742600" cy="6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Selection Sort: How many comparisons?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"/>
          <p:cNvSpPr/>
          <p:nvPr/>
        </p:nvSpPr>
        <p:spPr>
          <a:xfrm>
            <a:off x="506520" y="1620720"/>
            <a:ext cx="22240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 0 ]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414520" y="2209680"/>
            <a:ext cx="1416240" cy="3819600"/>
            <a:chOff x="2414520" y="2209680"/>
            <a:chExt cx="1416240" cy="3819600"/>
          </a:xfrm>
        </p:grpSpPr>
        <p:sp>
          <p:nvSpPr>
            <p:cNvPr id="326" name=""/>
            <p:cNvSpPr/>
            <p:nvPr/>
          </p:nvSpPr>
          <p:spPr>
            <a:xfrm>
              <a:off x="2433600" y="2209680"/>
              <a:ext cx="1390680" cy="38196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14520" y="2971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14520" y="3736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414520" y="45036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14520" y="52704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786040" y="2298600"/>
            <a:ext cx="63648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94880" y="2473200"/>
            <a:ext cx="37771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compares for values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compares for values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compares for values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compare for values[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4  +  3  +  2  +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38720" y="5291280"/>
            <a:ext cx="40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762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0066"/>
                </a:solidFill>
                <a:latin typeface="Arial Narrow"/>
              </a:rPr>
              <a:t>For selection sort in general</a:t>
            </a:r>
            <a:endParaRPr b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9608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9360" indent="-279360">
              <a:lnSpc>
                <a:spcPct val="90000"/>
              </a:lnSpc>
              <a:spcBef>
                <a:spcPts val="27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 number of comparisons when the array contains </a:t>
            </a:r>
            <a:r>
              <a:rPr b="1" lang="en-US" sz="3200" spc="-1" strike="noStrike">
                <a:solidFill>
                  <a:srgbClr val="dc0081"/>
                </a:solidFill>
                <a:latin typeface="Arial Narrow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elements is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ctr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 Narrow"/>
              </a:rPr>
              <a:t>  </a:t>
            </a:r>
            <a:r>
              <a:rPr b="1" lang="en-US" sz="3600" spc="-1" strike="noStrike">
                <a:solidFill>
                  <a:srgbClr val="006666"/>
                </a:solidFill>
                <a:latin typeface="Arial Narrow"/>
              </a:rPr>
              <a:t>Sum = (N-1)  +   (N-2)  + .  .  .  +  2  +  1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371600" y="3809880"/>
          <a:ext cx="4246560" cy="14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9880"/>
                    <a:ext cx="424656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2126160" y="5410080"/>
            <a:ext cx="26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Arial"/>
              </a:rPr>
              <a:t>(arithmetic se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91440" y="4191120"/>
            <a:ext cx="176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O(N</a:t>
            </a:r>
            <a:r>
              <a:rPr b="1" lang="en-US" sz="36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Refresher on Big-O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16904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ierarchy of Big-O functions from slowest to fastest: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2100"/>
              </a:spcBef>
              <a:buClr>
                <a:srgbClr val="dc0081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(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xponential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2100"/>
              </a:spcBef>
              <a:buClr>
                <a:srgbClr val="dc0081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(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uadrati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2100"/>
              </a:spcBef>
              <a:buClr>
                <a:srgbClr val="dc0081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(N log N)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inear/Lo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2100"/>
              </a:spcBef>
              <a:buClr>
                <a:srgbClr val="dc0081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(N)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inea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2100"/>
              </a:spcBef>
              <a:buClr>
                <a:srgbClr val="dc0081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(log N)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o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2100"/>
              </a:spcBef>
              <a:buClr>
                <a:srgbClr val="dc0081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(1)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sta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741240" y="947520"/>
            <a:ext cx="7925040" cy="51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mplate &lt;class  ItemType &gt;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oid  SelectionSort  ( ItemType  values [ ] ,  </a:t>
            </a:r>
            <a:r>
              <a:rPr b="0" lang="en-US" sz="2400" spc="-1" strike="noStrike">
                <a:solidFill>
                  <a:srgbClr val="dc0081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  numValues 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 Narrow"/>
              </a:rPr>
              <a:t>//  Post: Sorts array values[0 . . numValues-1 ] into ascending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 Narrow"/>
              </a:rPr>
              <a:t>//            order by ke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  endIndex = numValues - 1 ;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 ( int  current = 0 ; current &lt; endIndex ; current++ 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wap ( values [ current ] ,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alues [ MinIndex ( values, current, endIndex ) ] ) ;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} </a:t>
            </a:r>
            <a:r>
              <a:rPr b="0" i="1" lang="en-US" sz="2400" spc="-1" strike="noStrike">
                <a:solidFill>
                  <a:srgbClr val="cecece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"/>
          <p:cNvSpPr/>
          <p:nvPr/>
        </p:nvSpPr>
        <p:spPr>
          <a:xfrm>
            <a:off x="78487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6C3E-ABC0-4A03-B58E-09207A6DA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741240" y="1218960"/>
            <a:ext cx="7925040" cy="485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9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mplate &lt;class  ItemType &gt;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  MinIndex  ( ItemType  values [ ] ,  </a:t>
            </a:r>
            <a:r>
              <a:rPr b="0" lang="en-US" sz="2400" spc="-1" strike="noStrike">
                <a:solidFill>
                  <a:srgbClr val="dc0081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  start ,  int end 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 Narrow"/>
              </a:rPr>
              <a:t>//  Post: Function value = index of the smallest value i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 Narrow"/>
              </a:rPr>
              <a:t>//             values [start]  . . values [end]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  indexOfMin = start ;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 ( int  index = start + 1 ;  index &lt;= end ; index++ 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 ( values [ index ] &lt; values [ indexOfMin ] 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dexOfMin = index ;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turn   indexOfMin;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} </a:t>
            </a:r>
            <a:r>
              <a:rPr b="0" i="1" lang="en-US" sz="2400" spc="-1" strike="noStrike">
                <a:solidFill>
                  <a:srgbClr val="cecece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"/>
          <p:cNvSpPr/>
          <p:nvPr/>
        </p:nvSpPr>
        <p:spPr>
          <a:xfrm>
            <a:off x="78487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5C0B-E09C-4296-B81A-B8ED0CB4D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4398840" y="2195640"/>
            <a:ext cx="42595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by one, each as yet unsorted array element is inserted into its proper place with respect to the already sorted elements.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On each pass, this causes the number of already sorted elements to increase by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65000" y="146160"/>
            <a:ext cx="58878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 Narrow"/>
              </a:rPr>
              <a:t>Insertion Sort</a:t>
            </a:r>
            <a:endParaRPr b="1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"/>
          <p:cNvSpPr/>
          <p:nvPr/>
        </p:nvSpPr>
        <p:spPr>
          <a:xfrm>
            <a:off x="506520" y="1620720"/>
            <a:ext cx="22240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 0 ]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414520" y="2209680"/>
            <a:ext cx="1416240" cy="3819600"/>
            <a:chOff x="2414520" y="2209680"/>
            <a:chExt cx="1416240" cy="3819600"/>
          </a:xfrm>
        </p:grpSpPr>
        <p:sp>
          <p:nvSpPr>
            <p:cNvPr id="348" name=""/>
            <p:cNvSpPr/>
            <p:nvPr/>
          </p:nvSpPr>
          <p:spPr>
            <a:xfrm>
              <a:off x="2433600" y="2209680"/>
              <a:ext cx="1390680" cy="38196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14520" y="2971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414520" y="3736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14520" y="45036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14520" y="52704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786040" y="2298600"/>
            <a:ext cx="63648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398840" y="1989000"/>
            <a:ext cx="4259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 like someone who “inserts” one more card at a time into a hand of cards that are already sorted.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To insert 12, we need to make room for it by moving first 36 and then 2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65000" y="146160"/>
            <a:ext cx="58878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 Narrow"/>
              </a:rPr>
              <a:t>Insertion Sort</a:t>
            </a:r>
            <a:endParaRPr b="1" lang="en-US" sz="4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15600" y="2871720"/>
            <a:ext cx="2347200" cy="1388880"/>
            <a:chOff x="615600" y="2871720"/>
            <a:chExt cx="2347200" cy="1388880"/>
          </a:xfrm>
        </p:grpSpPr>
        <p:sp>
          <p:nvSpPr>
            <p:cNvPr id="357" name=""/>
            <p:cNvSpPr/>
            <p:nvPr/>
          </p:nvSpPr>
          <p:spPr>
            <a:xfrm rot="20400000">
              <a:off x="779400" y="3080880"/>
              <a:ext cx="728640" cy="1087560"/>
            </a:xfrm>
            <a:custGeom>
              <a:avLst/>
              <a:gdLst>
                <a:gd name="textAreaLeft" fmla="*/ 26640 w 728640"/>
                <a:gd name="textAreaRight" fmla="*/ 702000 w 728640"/>
                <a:gd name="textAreaTop" fmla="*/ 26640 h 1087560"/>
                <a:gd name="textAreaBottom" fmla="*/ 1060920 h 1087560"/>
              </a:gdLst>
              <a:ahLst/>
              <a:rect l="textAreaLeft" t="textAreaTop" r="textAreaRight" b="textAreaBottom"/>
              <a:pathLst>
                <a:path w="21600" h="32235">
                  <a:moveTo>
                    <a:pt x="2699" y="0"/>
                  </a:moveTo>
                  <a:arcTo wR="2699" hR="2699" stAng="16200000" swAng="-5400000"/>
                  <a:lnTo>
                    <a:pt x="0" y="29536"/>
                  </a:lnTo>
                  <a:arcTo wR="2699" hR="2699" stAng="10800000" swAng="-5400000"/>
                  <a:lnTo>
                    <a:pt x="18901" y="32235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21180000">
              <a:off x="1477800" y="2933280"/>
              <a:ext cx="727200" cy="1085760"/>
            </a:xfrm>
            <a:custGeom>
              <a:avLst/>
              <a:gdLst>
                <a:gd name="textAreaLeft" fmla="*/ 26280 w 727200"/>
                <a:gd name="textAreaRight" fmla="*/ 700920 w 727200"/>
                <a:gd name="textAreaTop" fmla="*/ 26280 h 1085760"/>
                <a:gd name="textAreaBottom" fmla="*/ 1059480 h 1085760"/>
              </a:gdLst>
              <a:ahLst/>
              <a:rect l="textAreaLeft" t="textAreaTop" r="textAreaRight" b="textAreaBottom"/>
              <a:pathLst>
                <a:path w="21600" h="32245">
                  <a:moveTo>
                    <a:pt x="2699" y="0"/>
                  </a:moveTo>
                  <a:arcTo wR="2699" hR="2699" stAng="16200000" swAng="-5400000"/>
                  <a:lnTo>
                    <a:pt x="0" y="29546"/>
                  </a:lnTo>
                  <a:arcTo wR="2699" hR="2699" stAng="10800000" swAng="-5400000"/>
                  <a:lnTo>
                    <a:pt x="18901" y="32245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720000">
              <a:off x="2128680" y="2935440"/>
              <a:ext cx="729000" cy="1085760"/>
            </a:xfrm>
            <a:custGeom>
              <a:avLst/>
              <a:gdLst>
                <a:gd name="textAreaLeft" fmla="*/ 26640 w 729000"/>
                <a:gd name="textAreaRight" fmla="*/ 702360 w 729000"/>
                <a:gd name="textAreaTop" fmla="*/ 26640 h 1085760"/>
                <a:gd name="textAreaBottom" fmla="*/ 1059120 h 1085760"/>
              </a:gdLst>
              <a:ahLst/>
              <a:rect l="textAreaLeft" t="textAreaTop" r="textAreaRight" b="textAreaBottom"/>
              <a:pathLst>
                <a:path w="21600" h="32165">
                  <a:moveTo>
                    <a:pt x="2699" y="0"/>
                  </a:moveTo>
                  <a:arcTo wR="2699" hR="2699" stAng="16200000" swAng="-5400000"/>
                  <a:lnTo>
                    <a:pt x="0" y="29466"/>
                  </a:lnTo>
                  <a:arcTo wR="2699" hR="2699" stAng="10800000" swAng="-5400000"/>
                  <a:lnTo>
                    <a:pt x="18901" y="32165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20460000">
              <a:off x="882360" y="31446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21180000">
              <a:off x="1488960" y="307008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480000">
              <a:off x="2230560" y="304956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 flipH="1" rot="1740000">
            <a:off x="3018600" y="4704840"/>
            <a:ext cx="730800" cy="1086120"/>
          </a:xfrm>
          <a:custGeom>
            <a:avLst/>
            <a:gdLst>
              <a:gd name="textAreaLeft" fmla="*/ 26640 w 730800"/>
              <a:gd name="textAreaRight" fmla="*/ 704160 w 730800"/>
              <a:gd name="textAreaTop" fmla="*/ 26640 h 1086120"/>
              <a:gd name="textAreaBottom" fmla="*/ 1059480 h 1086120"/>
            </a:gdLst>
            <a:ahLst/>
            <a:rect l="textAreaLeft" t="textAreaTop" r="textAreaRight" b="textAreaBottom"/>
            <a:pathLst>
              <a:path w="21600" h="32097">
                <a:moveTo>
                  <a:pt x="2699" y="0"/>
                </a:moveTo>
                <a:arcTo wR="2699" hR="2699" stAng="16200000" swAng="-5400000"/>
                <a:lnTo>
                  <a:pt x="0" y="29398"/>
                </a:lnTo>
                <a:arcTo wR="2699" hR="2699" stAng="10800000" swAng="-5400000"/>
                <a:lnTo>
                  <a:pt x="18901" y="32097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1800000">
            <a:off x="3084120" y="4831920"/>
            <a:ext cx="636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 rot="1740000">
            <a:off x="2784240" y="3149640"/>
            <a:ext cx="730080" cy="1085760"/>
          </a:xfrm>
          <a:custGeom>
            <a:avLst/>
            <a:gdLst>
              <a:gd name="textAreaLeft" fmla="*/ 26640 w 730080"/>
              <a:gd name="textAreaRight" fmla="*/ 703440 w 730080"/>
              <a:gd name="textAreaTop" fmla="*/ 26640 h 1085760"/>
              <a:gd name="textAreaBottom" fmla="*/ 1059120 h 1085760"/>
            </a:gdLst>
            <a:ahLst/>
            <a:rect l="textAreaLeft" t="textAreaTop" r="textAreaRight" b="textAreaBottom"/>
            <a:pathLst>
              <a:path w="21600" h="32118">
                <a:moveTo>
                  <a:pt x="2699" y="0"/>
                </a:moveTo>
                <a:arcTo wR="2699" hR="2699" stAng="16200000" swAng="-5400000"/>
                <a:lnTo>
                  <a:pt x="0" y="29419"/>
                </a:lnTo>
                <a:arcTo wR="2699" hR="2699" stAng="10800000" swAng="-5400000"/>
                <a:lnTo>
                  <a:pt x="18901" y="32118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1500000">
            <a:off x="2912760" y="3317400"/>
            <a:ext cx="636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615600" y="2871720"/>
            <a:ext cx="2347200" cy="1388880"/>
            <a:chOff x="615600" y="2871720"/>
            <a:chExt cx="2347200" cy="1388880"/>
          </a:xfrm>
        </p:grpSpPr>
        <p:sp>
          <p:nvSpPr>
            <p:cNvPr id="368" name=""/>
            <p:cNvSpPr/>
            <p:nvPr/>
          </p:nvSpPr>
          <p:spPr>
            <a:xfrm rot="20400000">
              <a:off x="779400" y="3080880"/>
              <a:ext cx="728640" cy="1087560"/>
            </a:xfrm>
            <a:custGeom>
              <a:avLst/>
              <a:gdLst>
                <a:gd name="textAreaLeft" fmla="*/ 26640 w 728640"/>
                <a:gd name="textAreaRight" fmla="*/ 702000 w 728640"/>
                <a:gd name="textAreaTop" fmla="*/ 26640 h 1087560"/>
                <a:gd name="textAreaBottom" fmla="*/ 1060920 h 1087560"/>
              </a:gdLst>
              <a:ahLst/>
              <a:rect l="textAreaLeft" t="textAreaTop" r="textAreaRight" b="textAreaBottom"/>
              <a:pathLst>
                <a:path w="21600" h="32235">
                  <a:moveTo>
                    <a:pt x="2699" y="0"/>
                  </a:moveTo>
                  <a:arcTo wR="2699" hR="2699" stAng="16200000" swAng="-5400000"/>
                  <a:lnTo>
                    <a:pt x="0" y="29536"/>
                  </a:lnTo>
                  <a:arcTo wR="2699" hR="2699" stAng="10800000" swAng="-5400000"/>
                  <a:lnTo>
                    <a:pt x="18901" y="32235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1180000">
              <a:off x="1477800" y="2933280"/>
              <a:ext cx="727200" cy="1085760"/>
            </a:xfrm>
            <a:custGeom>
              <a:avLst/>
              <a:gdLst>
                <a:gd name="textAreaLeft" fmla="*/ 26280 w 727200"/>
                <a:gd name="textAreaRight" fmla="*/ 700920 w 727200"/>
                <a:gd name="textAreaTop" fmla="*/ 26280 h 1085760"/>
                <a:gd name="textAreaBottom" fmla="*/ 1059480 h 1085760"/>
              </a:gdLst>
              <a:ahLst/>
              <a:rect l="textAreaLeft" t="textAreaTop" r="textAreaRight" b="textAreaBottom"/>
              <a:pathLst>
                <a:path w="21600" h="32245">
                  <a:moveTo>
                    <a:pt x="2699" y="0"/>
                  </a:moveTo>
                  <a:arcTo wR="2699" hR="2699" stAng="16200000" swAng="-5400000"/>
                  <a:lnTo>
                    <a:pt x="0" y="29546"/>
                  </a:lnTo>
                  <a:arcTo wR="2699" hR="2699" stAng="10800000" swAng="-5400000"/>
                  <a:lnTo>
                    <a:pt x="18901" y="32245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720000">
              <a:off x="2128680" y="2935440"/>
              <a:ext cx="729000" cy="1085760"/>
            </a:xfrm>
            <a:custGeom>
              <a:avLst/>
              <a:gdLst>
                <a:gd name="textAreaLeft" fmla="*/ 26640 w 729000"/>
                <a:gd name="textAreaRight" fmla="*/ 702360 w 729000"/>
                <a:gd name="textAreaTop" fmla="*/ 26640 h 1085760"/>
                <a:gd name="textAreaBottom" fmla="*/ 1059120 h 1085760"/>
              </a:gdLst>
              <a:ahLst/>
              <a:rect l="textAreaLeft" t="textAreaTop" r="textAreaRight" b="textAreaBottom"/>
              <a:pathLst>
                <a:path w="21600" h="32165">
                  <a:moveTo>
                    <a:pt x="2699" y="0"/>
                  </a:moveTo>
                  <a:arcTo wR="2699" hR="2699" stAng="16200000" swAng="-5400000"/>
                  <a:lnTo>
                    <a:pt x="0" y="29466"/>
                  </a:lnTo>
                  <a:arcTo wR="2699" hR="2699" stAng="10800000" swAng="-5400000"/>
                  <a:lnTo>
                    <a:pt x="18901" y="32165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20460000">
              <a:off x="882360" y="31446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21180000">
              <a:off x="1488960" y="307008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480000">
              <a:off x="2230560" y="304956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4398840" y="1989000"/>
            <a:ext cx="4259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 like someone who “inserts” one more card at a time into a hand of cards that are already sorted.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To insert 12, we need to make room for it by moving first 36 and then 2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65000" y="146160"/>
            <a:ext cx="588780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 Narrow"/>
              </a:rPr>
              <a:t>Insertion Sort</a:t>
            </a:r>
            <a:endParaRPr b="1" lang="en-US" sz="4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6" name=""/>
          <p:cNvSpPr/>
          <p:nvPr/>
        </p:nvSpPr>
        <p:spPr>
          <a:xfrm flipH="1" rot="1740000">
            <a:off x="3505680" y="3149280"/>
            <a:ext cx="730800" cy="1085760"/>
          </a:xfrm>
          <a:custGeom>
            <a:avLst/>
            <a:gdLst>
              <a:gd name="textAreaLeft" fmla="*/ 26640 w 730800"/>
              <a:gd name="textAreaRight" fmla="*/ 704160 w 730800"/>
              <a:gd name="textAreaTop" fmla="*/ 26640 h 1085760"/>
              <a:gd name="textAreaBottom" fmla="*/ 1059120 h 1085760"/>
            </a:gdLst>
            <a:ahLst/>
            <a:rect l="textAreaLeft" t="textAreaTop" r="textAreaRight" b="textAreaBottom"/>
            <a:pathLst>
              <a:path w="21600" h="32086">
                <a:moveTo>
                  <a:pt x="2699" y="0"/>
                </a:moveTo>
                <a:arcTo wR="2699" hR="2699" stAng="16200000" swAng="-5400000"/>
                <a:lnTo>
                  <a:pt x="0" y="29387"/>
                </a:lnTo>
                <a:arcTo wR="2699" hR="2699" stAng="10800000" swAng="-5400000"/>
                <a:lnTo>
                  <a:pt x="18901" y="32086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500000">
            <a:off x="3635280" y="3317400"/>
            <a:ext cx="636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rot="1740000">
            <a:off x="3018600" y="4704840"/>
            <a:ext cx="730800" cy="1086120"/>
          </a:xfrm>
          <a:custGeom>
            <a:avLst/>
            <a:gdLst>
              <a:gd name="textAreaLeft" fmla="*/ 26640 w 730800"/>
              <a:gd name="textAreaRight" fmla="*/ 704160 w 730800"/>
              <a:gd name="textAreaTop" fmla="*/ 26640 h 1086120"/>
              <a:gd name="textAreaBottom" fmla="*/ 1059480 h 1086120"/>
            </a:gdLst>
            <a:ahLst/>
            <a:rect l="textAreaLeft" t="textAreaTop" r="textAreaRight" b="textAreaBottom"/>
            <a:pathLst>
              <a:path w="21600" h="32097">
                <a:moveTo>
                  <a:pt x="2699" y="0"/>
                </a:moveTo>
                <a:arcTo wR="2699" hR="2699" stAng="16200000" swAng="-5400000"/>
                <a:lnTo>
                  <a:pt x="0" y="29398"/>
                </a:lnTo>
                <a:arcTo wR="2699" hR="2699" stAng="10800000" swAng="-5400000"/>
                <a:lnTo>
                  <a:pt x="18901" y="32097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1800000">
            <a:off x="3084120" y="4831920"/>
            <a:ext cx="636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398840" y="1989000"/>
            <a:ext cx="4259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 like someone who “inserts” one more card at a time into a hand of cards that are already sorted.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To insert 12, we need to make room for it by moving first 36 and then 2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65000" y="146160"/>
            <a:ext cx="588780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 Narrow"/>
              </a:rPr>
              <a:t>Insertion Sort</a:t>
            </a:r>
            <a:endParaRPr b="1" lang="en-US" sz="4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"/>
          <p:cNvSpPr/>
          <p:nvPr/>
        </p:nvSpPr>
        <p:spPr>
          <a:xfrm rot="20400000">
            <a:off x="779400" y="3080880"/>
            <a:ext cx="728640" cy="1087560"/>
          </a:xfrm>
          <a:custGeom>
            <a:avLst/>
            <a:gdLst>
              <a:gd name="textAreaLeft" fmla="*/ 26640 w 728640"/>
              <a:gd name="textAreaRight" fmla="*/ 702000 w 728640"/>
              <a:gd name="textAreaTop" fmla="*/ 26640 h 1087560"/>
              <a:gd name="textAreaBottom" fmla="*/ 1060920 h 1087560"/>
            </a:gdLst>
            <a:ahLst/>
            <a:rect l="textAreaLeft" t="textAreaTop" r="textAreaRight" b="textAreaBottom"/>
            <a:pathLst>
              <a:path w="21600" h="32235">
                <a:moveTo>
                  <a:pt x="2699" y="0"/>
                </a:moveTo>
                <a:arcTo wR="2699" hR="2699" stAng="16200000" swAng="-5400000"/>
                <a:lnTo>
                  <a:pt x="0" y="29536"/>
                </a:lnTo>
                <a:arcTo wR="2699" hR="2699" stAng="10800000" swAng="-5400000"/>
                <a:lnTo>
                  <a:pt x="18901" y="32235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21180000">
            <a:off x="1477800" y="2933280"/>
            <a:ext cx="727200" cy="1085760"/>
          </a:xfrm>
          <a:custGeom>
            <a:avLst/>
            <a:gdLst>
              <a:gd name="textAreaLeft" fmla="*/ 26280 w 727200"/>
              <a:gd name="textAreaRight" fmla="*/ 700920 w 727200"/>
              <a:gd name="textAreaTop" fmla="*/ 26280 h 1085760"/>
              <a:gd name="textAreaBottom" fmla="*/ 1059480 h 1085760"/>
            </a:gdLst>
            <a:ahLst/>
            <a:rect l="textAreaLeft" t="textAreaTop" r="textAreaRight" b="textAreaBottom"/>
            <a:pathLst>
              <a:path w="21600" h="32245">
                <a:moveTo>
                  <a:pt x="2699" y="0"/>
                </a:moveTo>
                <a:arcTo wR="2699" hR="2699" stAng="16200000" swAng="-5400000"/>
                <a:lnTo>
                  <a:pt x="0" y="29546"/>
                </a:lnTo>
                <a:arcTo wR="2699" hR="2699" stAng="10800000" swAng="-5400000"/>
                <a:lnTo>
                  <a:pt x="18901" y="32245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20460000">
            <a:off x="882360" y="314460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21180000">
            <a:off x="1488960" y="3070080"/>
            <a:ext cx="636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746440" y="2871720"/>
            <a:ext cx="1707840" cy="1472760"/>
            <a:chOff x="2746440" y="2871720"/>
            <a:chExt cx="1707840" cy="1472760"/>
          </a:xfrm>
        </p:grpSpPr>
        <p:sp>
          <p:nvSpPr>
            <p:cNvPr id="387" name=""/>
            <p:cNvSpPr/>
            <p:nvPr/>
          </p:nvSpPr>
          <p:spPr>
            <a:xfrm rot="720000">
              <a:off x="2851200" y="2935440"/>
              <a:ext cx="728640" cy="1085760"/>
            </a:xfrm>
            <a:custGeom>
              <a:avLst/>
              <a:gdLst>
                <a:gd name="textAreaLeft" fmla="*/ 26640 w 728640"/>
                <a:gd name="textAreaRight" fmla="*/ 702000 w 728640"/>
                <a:gd name="textAreaTop" fmla="*/ 26640 h 1085760"/>
                <a:gd name="textAreaBottom" fmla="*/ 1059120 h 1085760"/>
              </a:gdLst>
              <a:ahLst/>
              <a:rect l="textAreaLeft" t="textAreaTop" r="textAreaRight" b="textAreaBottom"/>
              <a:pathLst>
                <a:path w="21600" h="32181">
                  <a:moveTo>
                    <a:pt x="2699" y="0"/>
                  </a:moveTo>
                  <a:arcTo wR="2699" hR="2699" stAng="16200000" swAng="-5400000"/>
                  <a:lnTo>
                    <a:pt x="0" y="29482"/>
                  </a:lnTo>
                  <a:arcTo wR="2699" hR="2699" stAng="10800000" swAng="-5400000"/>
                  <a:lnTo>
                    <a:pt x="18901" y="32181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rot="1740000">
              <a:off x="3505680" y="3149280"/>
              <a:ext cx="730800" cy="1085760"/>
            </a:xfrm>
            <a:custGeom>
              <a:avLst/>
              <a:gdLst>
                <a:gd name="textAreaLeft" fmla="*/ 26640 w 730800"/>
                <a:gd name="textAreaRight" fmla="*/ 704160 w 730800"/>
                <a:gd name="textAreaTop" fmla="*/ 26640 h 1085760"/>
                <a:gd name="textAreaBottom" fmla="*/ 1059120 h 1085760"/>
              </a:gdLst>
              <a:ahLst/>
              <a:rect l="textAreaLeft" t="textAreaTop" r="textAreaRight" b="textAreaBottom"/>
              <a:pathLst>
                <a:path w="21600" h="32086">
                  <a:moveTo>
                    <a:pt x="2699" y="0"/>
                  </a:moveTo>
                  <a:arcTo wR="2699" hR="2699" stAng="16200000" swAng="-5400000"/>
                  <a:lnTo>
                    <a:pt x="0" y="29387"/>
                  </a:lnTo>
                  <a:arcTo wR="2699" hR="2699" stAng="10800000" swAng="-5400000"/>
                  <a:lnTo>
                    <a:pt x="18901" y="3208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480000">
              <a:off x="2952720" y="304956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1500000">
              <a:off x="3635280" y="331740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 flipH="1" rot="1740000">
            <a:off x="3018600" y="4704840"/>
            <a:ext cx="730800" cy="1086120"/>
          </a:xfrm>
          <a:custGeom>
            <a:avLst/>
            <a:gdLst>
              <a:gd name="textAreaLeft" fmla="*/ 26640 w 730800"/>
              <a:gd name="textAreaRight" fmla="*/ 704160 w 730800"/>
              <a:gd name="textAreaTop" fmla="*/ 26640 h 1086120"/>
              <a:gd name="textAreaBottom" fmla="*/ 1059480 h 1086120"/>
            </a:gdLst>
            <a:ahLst/>
            <a:rect l="textAreaLeft" t="textAreaTop" r="textAreaRight" b="textAreaBottom"/>
            <a:pathLst>
              <a:path w="21600" h="32097">
                <a:moveTo>
                  <a:pt x="2699" y="0"/>
                </a:moveTo>
                <a:arcTo wR="2699" hR="2699" stAng="16200000" swAng="-5400000"/>
                <a:lnTo>
                  <a:pt x="0" y="29398"/>
                </a:lnTo>
                <a:arcTo wR="2699" hR="2699" stAng="10800000" swAng="-5400000"/>
                <a:lnTo>
                  <a:pt x="18901" y="32097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00000">
            <a:off x="3084120" y="4831920"/>
            <a:ext cx="636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4398840" y="1989000"/>
            <a:ext cx="4259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 like someone who “inserts” one more card at a time into a hand of cards that are already sorted.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To insert 12, we need to make room for it by moving first 36 and then 2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65000" y="146160"/>
            <a:ext cx="588780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 Narrow"/>
              </a:rPr>
              <a:t>Insertion Sort</a:t>
            </a:r>
            <a:endParaRPr b="1" lang="en-US" sz="4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"/>
          <p:cNvSpPr/>
          <p:nvPr/>
        </p:nvSpPr>
        <p:spPr>
          <a:xfrm rot="20400000">
            <a:off x="779400" y="3080880"/>
            <a:ext cx="728640" cy="1087560"/>
          </a:xfrm>
          <a:custGeom>
            <a:avLst/>
            <a:gdLst>
              <a:gd name="textAreaLeft" fmla="*/ 26640 w 728640"/>
              <a:gd name="textAreaRight" fmla="*/ 702000 w 728640"/>
              <a:gd name="textAreaTop" fmla="*/ 26640 h 1087560"/>
              <a:gd name="textAreaBottom" fmla="*/ 1060920 h 1087560"/>
            </a:gdLst>
            <a:ahLst/>
            <a:rect l="textAreaLeft" t="textAreaTop" r="textAreaRight" b="textAreaBottom"/>
            <a:pathLst>
              <a:path w="21600" h="32235">
                <a:moveTo>
                  <a:pt x="2699" y="0"/>
                </a:moveTo>
                <a:arcTo wR="2699" hR="2699" stAng="16200000" swAng="-5400000"/>
                <a:lnTo>
                  <a:pt x="0" y="29536"/>
                </a:lnTo>
                <a:arcTo wR="2699" hR="2699" stAng="10800000" swAng="-5400000"/>
                <a:lnTo>
                  <a:pt x="18901" y="32235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21180000">
            <a:off x="1477800" y="2933280"/>
            <a:ext cx="727200" cy="1085760"/>
          </a:xfrm>
          <a:custGeom>
            <a:avLst/>
            <a:gdLst>
              <a:gd name="textAreaLeft" fmla="*/ 26280 w 727200"/>
              <a:gd name="textAreaRight" fmla="*/ 700920 w 727200"/>
              <a:gd name="textAreaTop" fmla="*/ 26280 h 1085760"/>
              <a:gd name="textAreaBottom" fmla="*/ 1059480 h 1085760"/>
            </a:gdLst>
            <a:ahLst/>
            <a:rect l="textAreaLeft" t="textAreaTop" r="textAreaRight" b="textAreaBottom"/>
            <a:pathLst>
              <a:path w="21600" h="32245">
                <a:moveTo>
                  <a:pt x="2699" y="0"/>
                </a:moveTo>
                <a:arcTo wR="2699" hR="2699" stAng="16200000" swAng="-5400000"/>
                <a:lnTo>
                  <a:pt x="0" y="29546"/>
                </a:lnTo>
                <a:arcTo wR="2699" hR="2699" stAng="10800000" swAng="-5400000"/>
                <a:lnTo>
                  <a:pt x="18901" y="32245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20460000">
            <a:off x="882360" y="314460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rot="21180000">
            <a:off x="1488960" y="3070080"/>
            <a:ext cx="636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 rot="120000">
            <a:off x="2152080" y="2846160"/>
            <a:ext cx="730080" cy="1089000"/>
          </a:xfrm>
          <a:custGeom>
            <a:avLst/>
            <a:gdLst>
              <a:gd name="textAreaLeft" fmla="*/ 26640 w 730080"/>
              <a:gd name="textAreaRight" fmla="*/ 703440 w 730080"/>
              <a:gd name="textAreaTop" fmla="*/ 26640 h 1089000"/>
              <a:gd name="textAreaBottom" fmla="*/ 1062360 h 1089000"/>
            </a:gdLst>
            <a:ahLst/>
            <a:rect l="textAreaLeft" t="textAreaTop" r="textAreaRight" b="textAreaBottom"/>
            <a:pathLst>
              <a:path w="21600" h="32214">
                <a:moveTo>
                  <a:pt x="2699" y="0"/>
                </a:moveTo>
                <a:arcTo wR="2699" hR="2699" stAng="16200000" swAng="-5400000"/>
                <a:lnTo>
                  <a:pt x="0" y="29515"/>
                </a:lnTo>
                <a:arcTo wR="2699" hR="2699" stAng="10800000" swAng="-5400000"/>
                <a:lnTo>
                  <a:pt x="18901" y="32214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120000">
            <a:off x="2152800" y="2928960"/>
            <a:ext cx="636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2746440" y="2871720"/>
            <a:ext cx="1707840" cy="1472760"/>
            <a:chOff x="2746440" y="2871720"/>
            <a:chExt cx="1707840" cy="1472760"/>
          </a:xfrm>
        </p:grpSpPr>
        <p:sp>
          <p:nvSpPr>
            <p:cNvPr id="402" name=""/>
            <p:cNvSpPr/>
            <p:nvPr/>
          </p:nvSpPr>
          <p:spPr>
            <a:xfrm rot="720000">
              <a:off x="2851200" y="2935440"/>
              <a:ext cx="728640" cy="1085760"/>
            </a:xfrm>
            <a:custGeom>
              <a:avLst/>
              <a:gdLst>
                <a:gd name="textAreaLeft" fmla="*/ 26640 w 728640"/>
                <a:gd name="textAreaRight" fmla="*/ 702000 w 728640"/>
                <a:gd name="textAreaTop" fmla="*/ 26640 h 1085760"/>
                <a:gd name="textAreaBottom" fmla="*/ 1059120 h 1085760"/>
              </a:gdLst>
              <a:ahLst/>
              <a:rect l="textAreaLeft" t="textAreaTop" r="textAreaRight" b="textAreaBottom"/>
              <a:pathLst>
                <a:path w="21600" h="32181">
                  <a:moveTo>
                    <a:pt x="2699" y="0"/>
                  </a:moveTo>
                  <a:arcTo wR="2699" hR="2699" stAng="16200000" swAng="-5400000"/>
                  <a:lnTo>
                    <a:pt x="0" y="29482"/>
                  </a:lnTo>
                  <a:arcTo wR="2699" hR="2699" stAng="10800000" swAng="-5400000"/>
                  <a:lnTo>
                    <a:pt x="18901" y="32181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rot="1740000">
              <a:off x="3505680" y="3149280"/>
              <a:ext cx="730800" cy="1085760"/>
            </a:xfrm>
            <a:custGeom>
              <a:avLst/>
              <a:gdLst>
                <a:gd name="textAreaLeft" fmla="*/ 26640 w 730800"/>
                <a:gd name="textAreaRight" fmla="*/ 704160 w 730800"/>
                <a:gd name="textAreaTop" fmla="*/ 26640 h 1085760"/>
                <a:gd name="textAreaBottom" fmla="*/ 1059120 h 1085760"/>
              </a:gdLst>
              <a:ahLst/>
              <a:rect l="textAreaLeft" t="textAreaTop" r="textAreaRight" b="textAreaBottom"/>
              <a:pathLst>
                <a:path w="21600" h="32086">
                  <a:moveTo>
                    <a:pt x="2699" y="0"/>
                  </a:moveTo>
                  <a:arcTo wR="2699" hR="2699" stAng="16200000" swAng="-5400000"/>
                  <a:lnTo>
                    <a:pt x="0" y="29387"/>
                  </a:lnTo>
                  <a:arcTo wR="2699" hR="2699" stAng="10800000" swAng="-5400000"/>
                  <a:lnTo>
                    <a:pt x="18901" y="3208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480000">
              <a:off x="2952720" y="304956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500000">
              <a:off x="3635280" y="331740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653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 Narrow"/>
              </a:rPr>
              <a:t>Insertion Sort: Pass One </a:t>
            </a:r>
            <a:endParaRPr b="1" lang="en-US" sz="4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"/>
          <p:cNvSpPr/>
          <p:nvPr/>
        </p:nvSpPr>
        <p:spPr>
          <a:xfrm>
            <a:off x="506520" y="1620720"/>
            <a:ext cx="22240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 0 ]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414520" y="2208240"/>
            <a:ext cx="1416240" cy="3819600"/>
            <a:chOff x="2414520" y="2208240"/>
            <a:chExt cx="1416240" cy="3819600"/>
          </a:xfrm>
        </p:grpSpPr>
        <p:sp>
          <p:nvSpPr>
            <p:cNvPr id="409" name=""/>
            <p:cNvSpPr/>
            <p:nvPr/>
          </p:nvSpPr>
          <p:spPr>
            <a:xfrm>
              <a:off x="2433600" y="2208240"/>
              <a:ext cx="1390680" cy="38196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414520" y="297036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14520" y="373536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14520" y="450216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414520" y="526896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2786040" y="2298600"/>
            <a:ext cx="63648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5256360" y="2941560"/>
            <a:ext cx="2265120" cy="3084480"/>
            <a:chOff x="5256360" y="2941560"/>
            <a:chExt cx="2265120" cy="3084480"/>
          </a:xfrm>
        </p:grpSpPr>
        <p:grpSp>
          <p:nvGrpSpPr>
            <p:cNvPr id="416" name=""/>
            <p:cNvGrpSpPr/>
            <p:nvPr/>
          </p:nvGrpSpPr>
          <p:grpSpPr>
            <a:xfrm>
              <a:off x="5256360" y="2941560"/>
              <a:ext cx="2265120" cy="3084480"/>
              <a:chOff x="5256360" y="2941560"/>
              <a:chExt cx="2265120" cy="3084480"/>
            </a:xfrm>
          </p:grpSpPr>
          <p:sp>
            <p:nvSpPr>
              <p:cNvPr id="417" name=""/>
              <p:cNvSpPr/>
              <p:nvPr/>
            </p:nvSpPr>
            <p:spPr>
              <a:xfrm rot="16200000">
                <a:off x="4199040" y="4006800"/>
                <a:ext cx="3076560" cy="961920"/>
              </a:xfrm>
              <a:prstGeom prst="triangle">
                <a:avLst>
                  <a:gd name="adj" fmla="val 49995"/>
                </a:avLst>
              </a:prstGeom>
              <a:solidFill>
                <a:srgbClr val="ff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224760" y="2959200"/>
                <a:ext cx="1293480" cy="305424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224760" y="294156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229440" y="602604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7513560" y="2941560"/>
              <a:ext cx="0" cy="306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5181480" y="2209320"/>
            <a:ext cx="2311560" cy="686160"/>
            <a:chOff x="5181480" y="2209320"/>
            <a:chExt cx="2311560" cy="686160"/>
          </a:xfrm>
        </p:grpSpPr>
        <p:grpSp>
          <p:nvGrpSpPr>
            <p:cNvPr id="423" name=""/>
            <p:cNvGrpSpPr/>
            <p:nvPr/>
          </p:nvGrpSpPr>
          <p:grpSpPr>
            <a:xfrm>
              <a:off x="5181480" y="2209320"/>
              <a:ext cx="2311560" cy="686160"/>
              <a:chOff x="5181480" y="2209320"/>
              <a:chExt cx="2311560" cy="686160"/>
            </a:xfrm>
          </p:grpSpPr>
          <p:sp>
            <p:nvSpPr>
              <p:cNvPr id="424" name=""/>
              <p:cNvSpPr/>
              <p:nvPr/>
            </p:nvSpPr>
            <p:spPr>
              <a:xfrm rot="16200000">
                <a:off x="5419440" y="2070000"/>
                <a:ext cx="625680" cy="952200"/>
              </a:xfrm>
              <a:prstGeom prst="triangle">
                <a:avLst>
                  <a:gd name="adj" fmla="val 49995"/>
                </a:avLst>
              </a:prstGeom>
              <a:solidFill>
                <a:srgbClr val="c1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16480" y="2230560"/>
                <a:ext cx="1276560" cy="633240"/>
              </a:xfrm>
              <a:prstGeom prst="rect">
                <a:avLst/>
              </a:prstGeom>
              <a:solidFill>
                <a:srgbClr val="c1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6" name=""/>
              <p:cNvGrpSpPr/>
              <p:nvPr/>
            </p:nvGrpSpPr>
            <p:grpSpPr>
              <a:xfrm>
                <a:off x="5181480" y="2209320"/>
                <a:ext cx="2311560" cy="686160"/>
                <a:chOff x="5181480" y="2209320"/>
                <a:chExt cx="2311560" cy="68616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6216480" y="2227320"/>
                  <a:ext cx="1270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216480" y="2865600"/>
                  <a:ext cx="1276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V="1">
                  <a:off x="5181480" y="2209320"/>
                  <a:ext cx="106704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181480" y="2514600"/>
                  <a:ext cx="10670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1" name=""/>
            <p:cNvSpPr/>
            <p:nvPr/>
          </p:nvSpPr>
          <p:spPr>
            <a:xfrm>
              <a:off x="5915520" y="2325600"/>
              <a:ext cx="1452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R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1680" y="304812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396800" y="146160"/>
            <a:ext cx="665316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Insertion Sort: Pass Two 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4" name=""/>
          <p:cNvSpPr/>
          <p:nvPr/>
        </p:nvSpPr>
        <p:spPr>
          <a:xfrm>
            <a:off x="506520" y="1620720"/>
            <a:ext cx="22240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 0 ]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414520" y="2208240"/>
            <a:ext cx="1416240" cy="3819600"/>
            <a:chOff x="2414520" y="2208240"/>
            <a:chExt cx="1416240" cy="3819600"/>
          </a:xfrm>
        </p:grpSpPr>
        <p:sp>
          <p:nvSpPr>
            <p:cNvPr id="436" name=""/>
            <p:cNvSpPr/>
            <p:nvPr/>
          </p:nvSpPr>
          <p:spPr>
            <a:xfrm>
              <a:off x="2433600" y="2208240"/>
              <a:ext cx="1390680" cy="38196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14520" y="297036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14520" y="373536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414520" y="450216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14520" y="526896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2785320" y="2298600"/>
            <a:ext cx="63648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695360" y="342900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256360" y="3789360"/>
            <a:ext cx="2265120" cy="2259000"/>
            <a:chOff x="5256360" y="3789360"/>
            <a:chExt cx="2265120" cy="2259000"/>
          </a:xfrm>
        </p:grpSpPr>
        <p:grpSp>
          <p:nvGrpSpPr>
            <p:cNvPr id="444" name=""/>
            <p:cNvGrpSpPr/>
            <p:nvPr/>
          </p:nvGrpSpPr>
          <p:grpSpPr>
            <a:xfrm>
              <a:off x="5256360" y="3789360"/>
              <a:ext cx="2265120" cy="2259000"/>
              <a:chOff x="5256360" y="3789360"/>
              <a:chExt cx="2265120" cy="2259000"/>
            </a:xfrm>
          </p:grpSpPr>
          <p:sp>
            <p:nvSpPr>
              <p:cNvPr id="445" name=""/>
              <p:cNvSpPr/>
              <p:nvPr/>
            </p:nvSpPr>
            <p:spPr>
              <a:xfrm rot="16200000">
                <a:off x="4613400" y="4440240"/>
                <a:ext cx="2247840" cy="961920"/>
              </a:xfrm>
              <a:prstGeom prst="triangle">
                <a:avLst>
                  <a:gd name="adj" fmla="val 49995"/>
                </a:avLst>
              </a:prstGeom>
              <a:solidFill>
                <a:srgbClr val="ff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224760" y="3801960"/>
                <a:ext cx="1293480" cy="223704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224760" y="378936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229440" y="604836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7513560" y="3789360"/>
              <a:ext cx="0" cy="224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5257800" y="2209320"/>
            <a:ext cx="2235240" cy="1524600"/>
            <a:chOff x="5257800" y="2209320"/>
            <a:chExt cx="2235240" cy="1524600"/>
          </a:xfrm>
        </p:grpSpPr>
        <p:sp>
          <p:nvSpPr>
            <p:cNvPr id="451" name=""/>
            <p:cNvSpPr/>
            <p:nvPr/>
          </p:nvSpPr>
          <p:spPr>
            <a:xfrm rot="16200000">
              <a:off x="5051160" y="2477520"/>
              <a:ext cx="1441800" cy="952560"/>
            </a:xfrm>
            <a:prstGeom prst="triangle">
              <a:avLst>
                <a:gd name="adj" fmla="val 49995"/>
              </a:avLst>
            </a:prstGeom>
            <a:solidFill>
              <a:srgbClr val="c1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216480" y="2235240"/>
              <a:ext cx="1276560" cy="1440000"/>
            </a:xfrm>
            <a:prstGeom prst="rect">
              <a:avLst/>
            </a:prstGeom>
            <a:solidFill>
              <a:srgbClr val="c1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16480" y="222732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216480" y="3679920"/>
              <a:ext cx="12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86560" y="2227320"/>
              <a:ext cx="0" cy="144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915520" y="2655720"/>
              <a:ext cx="1452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R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5257800" y="2209320"/>
              <a:ext cx="9907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257800" y="2971800"/>
              <a:ext cx="106668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96800" y="146160"/>
            <a:ext cx="665316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Insertion Sort: Pass Three 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0" name=""/>
          <p:cNvSpPr/>
          <p:nvPr/>
        </p:nvSpPr>
        <p:spPr>
          <a:xfrm>
            <a:off x="506520" y="1620720"/>
            <a:ext cx="22240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 0 ]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414520" y="2208240"/>
            <a:ext cx="1416240" cy="3819600"/>
            <a:chOff x="2414520" y="2208240"/>
            <a:chExt cx="1416240" cy="3819600"/>
          </a:xfrm>
        </p:grpSpPr>
        <p:sp>
          <p:nvSpPr>
            <p:cNvPr id="462" name=""/>
            <p:cNvSpPr/>
            <p:nvPr/>
          </p:nvSpPr>
          <p:spPr>
            <a:xfrm>
              <a:off x="2433600" y="2208240"/>
              <a:ext cx="1390680" cy="38196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14520" y="297036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414520" y="373536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414520" y="450216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14520" y="526896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2785320" y="2298600"/>
            <a:ext cx="63648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257800" y="4648320"/>
            <a:ext cx="2241360" cy="1523520"/>
            <a:chOff x="5257800" y="4648320"/>
            <a:chExt cx="2241360" cy="1523520"/>
          </a:xfrm>
        </p:grpSpPr>
        <p:grpSp>
          <p:nvGrpSpPr>
            <p:cNvPr id="469" name=""/>
            <p:cNvGrpSpPr/>
            <p:nvPr/>
          </p:nvGrpSpPr>
          <p:grpSpPr>
            <a:xfrm>
              <a:off x="5257800" y="4648320"/>
              <a:ext cx="2235240" cy="1523520"/>
              <a:chOff x="5257800" y="4648320"/>
              <a:chExt cx="2235240" cy="1523520"/>
            </a:xfrm>
          </p:grpSpPr>
          <p:sp>
            <p:nvSpPr>
              <p:cNvPr id="470" name=""/>
              <p:cNvSpPr/>
              <p:nvPr/>
            </p:nvSpPr>
            <p:spPr>
              <a:xfrm rot="16200000">
                <a:off x="5051520" y="4916160"/>
                <a:ext cx="1441440" cy="952560"/>
              </a:xfrm>
              <a:prstGeom prst="triangle">
                <a:avLst>
                  <a:gd name="adj" fmla="val 49995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216840" y="4673520"/>
                <a:ext cx="1276200" cy="143964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216840" y="4665600"/>
                <a:ext cx="1269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216840" y="6118200"/>
                <a:ext cx="127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86560" y="4665600"/>
                <a:ext cx="0" cy="144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>
                <a:off x="5257800" y="4648320"/>
                <a:ext cx="99072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57800" y="5410080"/>
                <a:ext cx="106668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5607360" y="5153040"/>
              <a:ext cx="1891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NSOR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5256360" y="2230560"/>
            <a:ext cx="2265120" cy="2346120"/>
            <a:chOff x="5256360" y="2230560"/>
            <a:chExt cx="2265120" cy="2346120"/>
          </a:xfrm>
        </p:grpSpPr>
        <p:grpSp>
          <p:nvGrpSpPr>
            <p:cNvPr id="479" name=""/>
            <p:cNvGrpSpPr/>
            <p:nvPr/>
          </p:nvGrpSpPr>
          <p:grpSpPr>
            <a:xfrm>
              <a:off x="5256360" y="2230560"/>
              <a:ext cx="2265120" cy="2346120"/>
              <a:chOff x="5256360" y="2230560"/>
              <a:chExt cx="2265120" cy="2346120"/>
            </a:xfrm>
          </p:grpSpPr>
          <p:sp>
            <p:nvSpPr>
              <p:cNvPr id="480" name=""/>
              <p:cNvSpPr/>
              <p:nvPr/>
            </p:nvSpPr>
            <p:spPr>
              <a:xfrm flipH="1" rot="16200000">
                <a:off x="4568760" y="2919240"/>
                <a:ext cx="2336760" cy="961920"/>
              </a:xfrm>
              <a:prstGeom prst="triangle">
                <a:avLst>
                  <a:gd name="adj" fmla="val 49995"/>
                </a:avLst>
              </a:prstGeom>
              <a:solidFill>
                <a:srgbClr val="c1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224760" y="2239920"/>
                <a:ext cx="1293480" cy="2324160"/>
              </a:xfrm>
              <a:prstGeom prst="rect">
                <a:avLst/>
              </a:prstGeom>
              <a:solidFill>
                <a:srgbClr val="c1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224760" y="457668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229440" y="223056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 flipV="1">
              <a:off x="7513560" y="2243160"/>
              <a:ext cx="0" cy="23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7717680" y="2279520"/>
            <a:ext cx="4226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Generic running time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38080" y="1295280"/>
          <a:ext cx="7328160" cy="4556160"/>
        </p:xfrm>
        <a:graphic>
          <a:graphicData uri="http://schemas.openxmlformats.org/drawingml/2006/table">
            <a:tbl>
              <a:tblPr/>
              <a:tblGrid>
                <a:gridCol w="755640"/>
                <a:gridCol w="1513080"/>
                <a:gridCol w="824040"/>
                <a:gridCol w="1511280"/>
                <a:gridCol w="1238040"/>
                <a:gridCol w="1486080"/>
              </a:tblGrid>
              <a:tr h="93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(log 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(N log 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(N^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(2^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3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4x10^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485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x10^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396800" y="146160"/>
            <a:ext cx="665316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Insertion Sort: Pass Four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7" name=""/>
          <p:cNvSpPr/>
          <p:nvPr/>
        </p:nvSpPr>
        <p:spPr>
          <a:xfrm>
            <a:off x="506520" y="1620720"/>
            <a:ext cx="22240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 0 ]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2414520" y="2208240"/>
            <a:ext cx="1416240" cy="3819600"/>
            <a:chOff x="2414520" y="2208240"/>
            <a:chExt cx="1416240" cy="3819600"/>
          </a:xfrm>
        </p:grpSpPr>
        <p:sp>
          <p:nvSpPr>
            <p:cNvPr id="489" name=""/>
            <p:cNvSpPr/>
            <p:nvPr/>
          </p:nvSpPr>
          <p:spPr>
            <a:xfrm>
              <a:off x="2433600" y="2208240"/>
              <a:ext cx="1390680" cy="38196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414520" y="297036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414520" y="373536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14520" y="450216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414520" y="526896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2785680" y="2298600"/>
            <a:ext cx="63612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5257800" y="2209680"/>
            <a:ext cx="2265120" cy="2895480"/>
            <a:chOff x="5257800" y="2209680"/>
            <a:chExt cx="2265120" cy="2895480"/>
          </a:xfrm>
        </p:grpSpPr>
        <p:grpSp>
          <p:nvGrpSpPr>
            <p:cNvPr id="496" name=""/>
            <p:cNvGrpSpPr/>
            <p:nvPr/>
          </p:nvGrpSpPr>
          <p:grpSpPr>
            <a:xfrm>
              <a:off x="5257800" y="2209680"/>
              <a:ext cx="2265120" cy="2895120"/>
              <a:chOff x="5257800" y="2209680"/>
              <a:chExt cx="2265120" cy="2895120"/>
            </a:xfrm>
          </p:grpSpPr>
          <p:sp>
            <p:nvSpPr>
              <p:cNvPr id="497" name=""/>
              <p:cNvSpPr/>
              <p:nvPr/>
            </p:nvSpPr>
            <p:spPr>
              <a:xfrm flipH="1" rot="16200000">
                <a:off x="4296960" y="3171960"/>
                <a:ext cx="2883600" cy="961920"/>
              </a:xfrm>
              <a:prstGeom prst="triangle">
                <a:avLst>
                  <a:gd name="adj" fmla="val 49995"/>
                </a:avLst>
              </a:prstGeom>
              <a:solidFill>
                <a:srgbClr val="c1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226200" y="2221200"/>
                <a:ext cx="1293480" cy="2868120"/>
              </a:xfrm>
              <a:prstGeom prst="rect">
                <a:avLst/>
              </a:prstGeom>
              <a:solidFill>
                <a:srgbClr val="c1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226200" y="510480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230880" y="220968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 flipV="1">
              <a:off x="7515000" y="2225160"/>
              <a:ext cx="0" cy="288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7695360" y="2514600"/>
            <a:ext cx="4226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5257800" y="5181480"/>
            <a:ext cx="2241360" cy="990720"/>
            <a:chOff x="5257800" y="5181480"/>
            <a:chExt cx="2241360" cy="990720"/>
          </a:xfrm>
        </p:grpSpPr>
        <p:grpSp>
          <p:nvGrpSpPr>
            <p:cNvPr id="504" name=""/>
            <p:cNvGrpSpPr/>
            <p:nvPr/>
          </p:nvGrpSpPr>
          <p:grpSpPr>
            <a:xfrm>
              <a:off x="5257800" y="5181480"/>
              <a:ext cx="2235240" cy="990720"/>
              <a:chOff x="5257800" y="5181480"/>
              <a:chExt cx="2235240" cy="990720"/>
            </a:xfrm>
          </p:grpSpPr>
          <p:sp>
            <p:nvSpPr>
              <p:cNvPr id="505" name=""/>
              <p:cNvSpPr/>
              <p:nvPr/>
            </p:nvSpPr>
            <p:spPr>
              <a:xfrm rot="16200000">
                <a:off x="5303520" y="5188320"/>
                <a:ext cx="937080" cy="952560"/>
              </a:xfrm>
              <a:prstGeom prst="triangle">
                <a:avLst>
                  <a:gd name="adj" fmla="val 49995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216840" y="5198040"/>
                <a:ext cx="1276200" cy="936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216840" y="5192640"/>
                <a:ext cx="1269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216840" y="6136920"/>
                <a:ext cx="127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486560" y="5192640"/>
                <a:ext cx="0" cy="93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5257800" y="5181480"/>
                <a:ext cx="99072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257800" y="5676840"/>
                <a:ext cx="106668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5607360" y="5509440"/>
              <a:ext cx="1891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NSOR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396800" y="146160"/>
            <a:ext cx="665316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Insertion Sort: Pass Five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4" name=""/>
          <p:cNvSpPr/>
          <p:nvPr/>
        </p:nvSpPr>
        <p:spPr>
          <a:xfrm>
            <a:off x="506520" y="1620720"/>
            <a:ext cx="22240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 0 ]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2414520" y="2208240"/>
            <a:ext cx="1416240" cy="3819600"/>
            <a:chOff x="2414520" y="2208240"/>
            <a:chExt cx="1416240" cy="3819600"/>
          </a:xfrm>
        </p:grpSpPr>
        <p:sp>
          <p:nvSpPr>
            <p:cNvPr id="516" name=""/>
            <p:cNvSpPr/>
            <p:nvPr/>
          </p:nvSpPr>
          <p:spPr>
            <a:xfrm>
              <a:off x="2433600" y="2208240"/>
              <a:ext cx="1390680" cy="38196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414520" y="297036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14520" y="373536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14520" y="450216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414520" y="526896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2785680" y="2298600"/>
            <a:ext cx="63612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5257800" y="2209680"/>
            <a:ext cx="2265120" cy="3580920"/>
            <a:chOff x="5257800" y="2209680"/>
            <a:chExt cx="2265120" cy="3580920"/>
          </a:xfrm>
        </p:grpSpPr>
        <p:grpSp>
          <p:nvGrpSpPr>
            <p:cNvPr id="523" name=""/>
            <p:cNvGrpSpPr/>
            <p:nvPr/>
          </p:nvGrpSpPr>
          <p:grpSpPr>
            <a:xfrm>
              <a:off x="5257800" y="2209680"/>
              <a:ext cx="2265120" cy="3580920"/>
              <a:chOff x="5257800" y="2209680"/>
              <a:chExt cx="2265120" cy="3580920"/>
            </a:xfrm>
          </p:grpSpPr>
          <p:sp>
            <p:nvSpPr>
              <p:cNvPr id="524" name=""/>
              <p:cNvSpPr/>
              <p:nvPr/>
            </p:nvSpPr>
            <p:spPr>
              <a:xfrm flipH="1" rot="16200000">
                <a:off x="3955320" y="3513960"/>
                <a:ext cx="3566520" cy="961920"/>
              </a:xfrm>
              <a:prstGeom prst="triangle">
                <a:avLst>
                  <a:gd name="adj" fmla="val 49995"/>
                </a:avLst>
              </a:prstGeom>
              <a:solidFill>
                <a:srgbClr val="c1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26200" y="2223720"/>
                <a:ext cx="1293480" cy="3547440"/>
              </a:xfrm>
              <a:prstGeom prst="rect">
                <a:avLst/>
              </a:prstGeom>
              <a:solidFill>
                <a:srgbClr val="c1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226200" y="579060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30880" y="220968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 flipV="1">
              <a:off x="7515000" y="2228400"/>
              <a:ext cx="0" cy="356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7620120" y="3048120"/>
            <a:ext cx="4204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143000" y="1752480"/>
            <a:ext cx="7010280" cy="342900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905120" y="3429000"/>
            <a:ext cx="6172200" cy="990720"/>
          </a:xfrm>
          <a:prstGeom prst="rect">
            <a:avLst/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 Narrow"/>
              </a:rPr>
              <a:t>Insertion Sort Time Analysis</a:t>
            </a:r>
            <a:endParaRPr b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1629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eps of algorithm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i = 1 to n-1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ake next key from unsorted part of array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ert in appropriate location in sorted part of array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j = i down to 0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hift sorted elements to the right if key &gt; key[i]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crease size of sorted array by 1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4" name=""/>
          <p:cNvSpPr/>
          <p:nvPr/>
        </p:nvSpPr>
        <p:spPr>
          <a:xfrm>
            <a:off x="7796160" y="1295280"/>
            <a:ext cx="13496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er loo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838280" y="2895480"/>
            <a:ext cx="13086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ner loo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4398840" y="1989000"/>
            <a:ext cx="4259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s neighboring pairs of array elements, starting with the last array element, and swaps neighbors whenever they are not in correct order.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On each pass, this causes the smallest element to “bubble up” to its correct place in the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65000" y="146160"/>
            <a:ext cx="588780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 Narrow"/>
              </a:rPr>
              <a:t>Bubble Sort</a:t>
            </a:r>
            <a:endParaRPr b="1" lang="en-US" sz="4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8" name=""/>
          <p:cNvSpPr/>
          <p:nvPr/>
        </p:nvSpPr>
        <p:spPr>
          <a:xfrm>
            <a:off x="506520" y="1620720"/>
            <a:ext cx="22240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 0 ]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2414520" y="2209680"/>
            <a:ext cx="1416240" cy="3819600"/>
            <a:chOff x="2414520" y="2209680"/>
            <a:chExt cx="1416240" cy="3819600"/>
          </a:xfrm>
        </p:grpSpPr>
        <p:sp>
          <p:nvSpPr>
            <p:cNvPr id="540" name=""/>
            <p:cNvSpPr/>
            <p:nvPr/>
          </p:nvSpPr>
          <p:spPr>
            <a:xfrm>
              <a:off x="2433600" y="2209680"/>
              <a:ext cx="1390680" cy="38196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414520" y="2971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414520" y="3736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414520" y="45036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414520" y="52704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2786040" y="2298600"/>
            <a:ext cx="63648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96800" y="146160"/>
            <a:ext cx="665316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Bubble Sort: Pass One 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7" name=""/>
          <p:cNvSpPr/>
          <p:nvPr/>
        </p:nvSpPr>
        <p:spPr>
          <a:xfrm>
            <a:off x="506520" y="1620720"/>
            <a:ext cx="22240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 0 ]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2414520" y="2208240"/>
            <a:ext cx="1416240" cy="3819600"/>
            <a:chOff x="2414520" y="2208240"/>
            <a:chExt cx="1416240" cy="3819600"/>
          </a:xfrm>
        </p:grpSpPr>
        <p:sp>
          <p:nvSpPr>
            <p:cNvPr id="549" name=""/>
            <p:cNvSpPr/>
            <p:nvPr/>
          </p:nvSpPr>
          <p:spPr>
            <a:xfrm>
              <a:off x="2433600" y="2208240"/>
              <a:ext cx="1390680" cy="38196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414520" y="297036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414520" y="373536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14520" y="450216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414520" y="526896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2786040" y="2298600"/>
            <a:ext cx="63648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5256360" y="2201760"/>
            <a:ext cx="2265120" cy="3823920"/>
            <a:chOff x="5256360" y="2201760"/>
            <a:chExt cx="2265120" cy="3823920"/>
          </a:xfrm>
        </p:grpSpPr>
        <p:grpSp>
          <p:nvGrpSpPr>
            <p:cNvPr id="556" name=""/>
            <p:cNvGrpSpPr/>
            <p:nvPr/>
          </p:nvGrpSpPr>
          <p:grpSpPr>
            <a:xfrm>
              <a:off x="5256360" y="2201760"/>
              <a:ext cx="2265120" cy="3823920"/>
              <a:chOff x="5256360" y="2201760"/>
              <a:chExt cx="2265120" cy="3823920"/>
            </a:xfrm>
          </p:grpSpPr>
          <p:sp>
            <p:nvSpPr>
              <p:cNvPr id="557" name=""/>
              <p:cNvSpPr/>
              <p:nvPr/>
            </p:nvSpPr>
            <p:spPr>
              <a:xfrm rot="16200000">
                <a:off x="3828960" y="3636360"/>
                <a:ext cx="3816360" cy="961920"/>
              </a:xfrm>
              <a:prstGeom prst="triangle">
                <a:avLst>
                  <a:gd name="adj" fmla="val 49995"/>
                </a:avLst>
              </a:prstGeom>
              <a:solidFill>
                <a:srgbClr val="ff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224760" y="2222640"/>
                <a:ext cx="1293480" cy="378612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224760" y="220176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229440" y="602460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7513560" y="2201760"/>
              <a:ext cx="0" cy="380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7718400" y="2419200"/>
            <a:ext cx="460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3992400" y="4800600"/>
            <a:ext cx="579240" cy="1227240"/>
            <a:chOff x="3992400" y="4800600"/>
            <a:chExt cx="579240" cy="1227240"/>
          </a:xfrm>
        </p:grpSpPr>
        <p:sp>
          <p:nvSpPr>
            <p:cNvPr id="564" name=""/>
            <p:cNvSpPr/>
            <p:nvPr/>
          </p:nvSpPr>
          <p:spPr>
            <a:xfrm>
              <a:off x="4563720" y="4811400"/>
              <a:ext cx="0" cy="12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992400" y="480060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000320" y="602784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04600" y="146160"/>
            <a:ext cx="757692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Bubble Sort: Pass One 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8" name=""/>
          <p:cNvSpPr/>
          <p:nvPr/>
        </p:nvSpPr>
        <p:spPr>
          <a:xfrm>
            <a:off x="506520" y="1620720"/>
            <a:ext cx="22240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 0 ]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2414520" y="2209680"/>
            <a:ext cx="1416240" cy="3819600"/>
            <a:chOff x="2414520" y="2209680"/>
            <a:chExt cx="1416240" cy="3819600"/>
          </a:xfrm>
        </p:grpSpPr>
        <p:sp>
          <p:nvSpPr>
            <p:cNvPr id="570" name=""/>
            <p:cNvSpPr/>
            <p:nvPr/>
          </p:nvSpPr>
          <p:spPr>
            <a:xfrm>
              <a:off x="2433600" y="2209680"/>
              <a:ext cx="1390680" cy="38196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414520" y="2971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14520" y="3736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414520" y="45036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414520" y="52704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2785680" y="2298600"/>
            <a:ext cx="74880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695360" y="251460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5256360" y="2201760"/>
            <a:ext cx="2265120" cy="3823920"/>
            <a:chOff x="5256360" y="2201760"/>
            <a:chExt cx="2265120" cy="3823920"/>
          </a:xfrm>
        </p:grpSpPr>
        <p:grpSp>
          <p:nvGrpSpPr>
            <p:cNvPr id="578" name=""/>
            <p:cNvGrpSpPr/>
            <p:nvPr/>
          </p:nvGrpSpPr>
          <p:grpSpPr>
            <a:xfrm>
              <a:off x="5256360" y="2201760"/>
              <a:ext cx="2265120" cy="3823920"/>
              <a:chOff x="5256360" y="2201760"/>
              <a:chExt cx="2265120" cy="3823920"/>
            </a:xfrm>
          </p:grpSpPr>
          <p:sp>
            <p:nvSpPr>
              <p:cNvPr id="579" name=""/>
              <p:cNvSpPr/>
              <p:nvPr/>
            </p:nvSpPr>
            <p:spPr>
              <a:xfrm rot="16200000">
                <a:off x="3828960" y="3636360"/>
                <a:ext cx="3816360" cy="961920"/>
              </a:xfrm>
              <a:prstGeom prst="triangle">
                <a:avLst>
                  <a:gd name="adj" fmla="val 49995"/>
                </a:avLst>
              </a:prstGeom>
              <a:solidFill>
                <a:srgbClr val="ff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224760" y="2222640"/>
                <a:ext cx="1293480" cy="378612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224760" y="220176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229440" y="602460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7513560" y="2201760"/>
              <a:ext cx="0" cy="380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3992400" y="3886200"/>
            <a:ext cx="579240" cy="1227240"/>
            <a:chOff x="3992400" y="3886200"/>
            <a:chExt cx="579240" cy="1227240"/>
          </a:xfrm>
        </p:grpSpPr>
        <p:sp>
          <p:nvSpPr>
            <p:cNvPr id="585" name=""/>
            <p:cNvSpPr/>
            <p:nvPr/>
          </p:nvSpPr>
          <p:spPr>
            <a:xfrm>
              <a:off x="4563720" y="3897000"/>
              <a:ext cx="0" cy="12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992400" y="388620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000320" y="511344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04600" y="146160"/>
            <a:ext cx="75769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 Narrow"/>
              </a:rPr>
              <a:t>Bubble Sort: Pass One </a:t>
            </a:r>
            <a:endParaRPr b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9" name=""/>
          <p:cNvSpPr/>
          <p:nvPr/>
        </p:nvSpPr>
        <p:spPr>
          <a:xfrm>
            <a:off x="506520" y="1620720"/>
            <a:ext cx="22240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 0 ]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2414520" y="2209680"/>
            <a:ext cx="1416240" cy="3819600"/>
            <a:chOff x="2414520" y="2209680"/>
            <a:chExt cx="1416240" cy="3819600"/>
          </a:xfrm>
        </p:grpSpPr>
        <p:sp>
          <p:nvSpPr>
            <p:cNvPr id="591" name=""/>
            <p:cNvSpPr/>
            <p:nvPr/>
          </p:nvSpPr>
          <p:spPr>
            <a:xfrm>
              <a:off x="2433600" y="2209680"/>
              <a:ext cx="1390680" cy="38196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414520" y="2971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14520" y="3736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14520" y="45036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414520" y="52704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2785680" y="2298600"/>
            <a:ext cx="74880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5360" y="251460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5256360" y="2201760"/>
            <a:ext cx="2265120" cy="3823920"/>
            <a:chOff x="5256360" y="2201760"/>
            <a:chExt cx="2265120" cy="3823920"/>
          </a:xfrm>
        </p:grpSpPr>
        <p:grpSp>
          <p:nvGrpSpPr>
            <p:cNvPr id="599" name=""/>
            <p:cNvGrpSpPr/>
            <p:nvPr/>
          </p:nvGrpSpPr>
          <p:grpSpPr>
            <a:xfrm>
              <a:off x="5256360" y="2201760"/>
              <a:ext cx="2265120" cy="3823920"/>
              <a:chOff x="5256360" y="2201760"/>
              <a:chExt cx="2265120" cy="3823920"/>
            </a:xfrm>
          </p:grpSpPr>
          <p:sp>
            <p:nvSpPr>
              <p:cNvPr id="600" name=""/>
              <p:cNvSpPr/>
              <p:nvPr/>
            </p:nvSpPr>
            <p:spPr>
              <a:xfrm rot="16200000">
                <a:off x="3828960" y="3636360"/>
                <a:ext cx="3816360" cy="961920"/>
              </a:xfrm>
              <a:prstGeom prst="triangle">
                <a:avLst>
                  <a:gd name="adj" fmla="val 49995"/>
                </a:avLst>
              </a:prstGeom>
              <a:solidFill>
                <a:srgbClr val="ff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24760" y="2222640"/>
                <a:ext cx="1293480" cy="378612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224760" y="220176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29440" y="602460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7513560" y="2201760"/>
              <a:ext cx="0" cy="380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3992400" y="3124080"/>
            <a:ext cx="579240" cy="1227240"/>
            <a:chOff x="3992400" y="3124080"/>
            <a:chExt cx="579240" cy="1227240"/>
          </a:xfrm>
        </p:grpSpPr>
        <p:sp>
          <p:nvSpPr>
            <p:cNvPr id="606" name=""/>
            <p:cNvSpPr/>
            <p:nvPr/>
          </p:nvSpPr>
          <p:spPr>
            <a:xfrm>
              <a:off x="4563720" y="3134880"/>
              <a:ext cx="0" cy="12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992400" y="312408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000320" y="435132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04600" y="146160"/>
            <a:ext cx="757692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 Narrow"/>
              </a:rPr>
              <a:t>Bubble Sort: Pass One </a:t>
            </a:r>
            <a:endParaRPr b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0" name=""/>
          <p:cNvSpPr/>
          <p:nvPr/>
        </p:nvSpPr>
        <p:spPr>
          <a:xfrm>
            <a:off x="506520" y="1620720"/>
            <a:ext cx="22240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 0 ]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2414520" y="2209680"/>
            <a:ext cx="1416240" cy="3819600"/>
            <a:chOff x="2414520" y="2209680"/>
            <a:chExt cx="1416240" cy="3819600"/>
          </a:xfrm>
        </p:grpSpPr>
        <p:sp>
          <p:nvSpPr>
            <p:cNvPr id="612" name=""/>
            <p:cNvSpPr/>
            <p:nvPr/>
          </p:nvSpPr>
          <p:spPr>
            <a:xfrm>
              <a:off x="2433600" y="2209680"/>
              <a:ext cx="1390680" cy="38196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414520" y="2971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14520" y="3736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414520" y="45036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414520" y="52704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2785680" y="2298600"/>
            <a:ext cx="74880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95360" y="251460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5256360" y="2201760"/>
            <a:ext cx="2265120" cy="3823920"/>
            <a:chOff x="5256360" y="2201760"/>
            <a:chExt cx="2265120" cy="3823920"/>
          </a:xfrm>
        </p:grpSpPr>
        <p:grpSp>
          <p:nvGrpSpPr>
            <p:cNvPr id="620" name=""/>
            <p:cNvGrpSpPr/>
            <p:nvPr/>
          </p:nvGrpSpPr>
          <p:grpSpPr>
            <a:xfrm>
              <a:off x="5256360" y="2201760"/>
              <a:ext cx="2265120" cy="3823920"/>
              <a:chOff x="5256360" y="2201760"/>
              <a:chExt cx="2265120" cy="3823920"/>
            </a:xfrm>
          </p:grpSpPr>
          <p:sp>
            <p:nvSpPr>
              <p:cNvPr id="621" name=""/>
              <p:cNvSpPr/>
              <p:nvPr/>
            </p:nvSpPr>
            <p:spPr>
              <a:xfrm rot="16200000">
                <a:off x="3828960" y="3636360"/>
                <a:ext cx="3816360" cy="961920"/>
              </a:xfrm>
              <a:prstGeom prst="triangle">
                <a:avLst>
                  <a:gd name="adj" fmla="val 49995"/>
                </a:avLst>
              </a:prstGeom>
              <a:solidFill>
                <a:srgbClr val="ff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24760" y="2222640"/>
                <a:ext cx="1293480" cy="378612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24760" y="220176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29440" y="602460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7513560" y="2201760"/>
              <a:ext cx="0" cy="380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992400" y="2438280"/>
            <a:ext cx="579240" cy="1227240"/>
            <a:chOff x="3992400" y="2438280"/>
            <a:chExt cx="579240" cy="1227240"/>
          </a:xfrm>
        </p:grpSpPr>
        <p:sp>
          <p:nvSpPr>
            <p:cNvPr id="627" name=""/>
            <p:cNvSpPr/>
            <p:nvPr/>
          </p:nvSpPr>
          <p:spPr>
            <a:xfrm>
              <a:off x="4563720" y="2449080"/>
              <a:ext cx="0" cy="12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992400" y="243828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00320" y="366552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04600" y="146160"/>
            <a:ext cx="757692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Bubble Sort: End Pass One 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1" name=""/>
          <p:cNvSpPr/>
          <p:nvPr/>
        </p:nvSpPr>
        <p:spPr>
          <a:xfrm>
            <a:off x="506520" y="1620720"/>
            <a:ext cx="22240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 0 ]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2414520" y="2209680"/>
            <a:ext cx="1416240" cy="3819600"/>
            <a:chOff x="2414520" y="2209680"/>
            <a:chExt cx="1416240" cy="3819600"/>
          </a:xfrm>
        </p:grpSpPr>
        <p:sp>
          <p:nvSpPr>
            <p:cNvPr id="633" name=""/>
            <p:cNvSpPr/>
            <p:nvPr/>
          </p:nvSpPr>
          <p:spPr>
            <a:xfrm>
              <a:off x="2433600" y="2209680"/>
              <a:ext cx="1390680" cy="38196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414520" y="2971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414520" y="3736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414520" y="45036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414520" y="52704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2785680" y="2298600"/>
            <a:ext cx="63612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771680" y="304812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5256360" y="2941560"/>
            <a:ext cx="2265120" cy="3084480"/>
            <a:chOff x="5256360" y="2941560"/>
            <a:chExt cx="2265120" cy="3084480"/>
          </a:xfrm>
        </p:grpSpPr>
        <p:grpSp>
          <p:nvGrpSpPr>
            <p:cNvPr id="641" name=""/>
            <p:cNvGrpSpPr/>
            <p:nvPr/>
          </p:nvGrpSpPr>
          <p:grpSpPr>
            <a:xfrm>
              <a:off x="5256360" y="2941560"/>
              <a:ext cx="2265120" cy="3084480"/>
              <a:chOff x="5256360" y="2941560"/>
              <a:chExt cx="2265120" cy="3084480"/>
            </a:xfrm>
          </p:grpSpPr>
          <p:sp>
            <p:nvSpPr>
              <p:cNvPr id="642" name=""/>
              <p:cNvSpPr/>
              <p:nvPr/>
            </p:nvSpPr>
            <p:spPr>
              <a:xfrm rot="16200000">
                <a:off x="4199040" y="4006800"/>
                <a:ext cx="3076560" cy="961920"/>
              </a:xfrm>
              <a:prstGeom prst="triangle">
                <a:avLst>
                  <a:gd name="adj" fmla="val 49995"/>
                </a:avLst>
              </a:prstGeom>
              <a:solidFill>
                <a:srgbClr val="ff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24760" y="2959200"/>
                <a:ext cx="1293480" cy="305424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224760" y="294156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29440" y="602604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7513560" y="2941560"/>
              <a:ext cx="0" cy="306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5181480" y="2209320"/>
            <a:ext cx="2311560" cy="686160"/>
            <a:chOff x="5181480" y="2209320"/>
            <a:chExt cx="2311560" cy="686160"/>
          </a:xfrm>
        </p:grpSpPr>
        <p:grpSp>
          <p:nvGrpSpPr>
            <p:cNvPr id="648" name=""/>
            <p:cNvGrpSpPr/>
            <p:nvPr/>
          </p:nvGrpSpPr>
          <p:grpSpPr>
            <a:xfrm>
              <a:off x="5181480" y="2209320"/>
              <a:ext cx="2311560" cy="686160"/>
              <a:chOff x="5181480" y="2209320"/>
              <a:chExt cx="2311560" cy="686160"/>
            </a:xfrm>
          </p:grpSpPr>
          <p:sp>
            <p:nvSpPr>
              <p:cNvPr id="649" name=""/>
              <p:cNvSpPr/>
              <p:nvPr/>
            </p:nvSpPr>
            <p:spPr>
              <a:xfrm rot="16200000">
                <a:off x="5419440" y="2070000"/>
                <a:ext cx="625680" cy="952200"/>
              </a:xfrm>
              <a:prstGeom prst="triangle">
                <a:avLst>
                  <a:gd name="adj" fmla="val 49995"/>
                </a:avLst>
              </a:prstGeom>
              <a:solidFill>
                <a:srgbClr val="c1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16480" y="2230560"/>
                <a:ext cx="1276560" cy="633240"/>
              </a:xfrm>
              <a:prstGeom prst="rect">
                <a:avLst/>
              </a:prstGeom>
              <a:solidFill>
                <a:srgbClr val="c1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1" name=""/>
              <p:cNvGrpSpPr/>
              <p:nvPr/>
            </p:nvGrpSpPr>
            <p:grpSpPr>
              <a:xfrm>
                <a:off x="5181480" y="2209320"/>
                <a:ext cx="2311560" cy="686160"/>
                <a:chOff x="5181480" y="2209320"/>
                <a:chExt cx="2311560" cy="68616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6216480" y="2227320"/>
                  <a:ext cx="1270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6216480" y="2865600"/>
                  <a:ext cx="1276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V="1">
                  <a:off x="5181480" y="2209320"/>
                  <a:ext cx="106704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181480" y="2514600"/>
                  <a:ext cx="10670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5915520" y="2325600"/>
              <a:ext cx="1452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R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04600" y="146160"/>
            <a:ext cx="75769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 Narrow"/>
              </a:rPr>
              <a:t>Bubble Sort: Pass Two </a:t>
            </a:r>
            <a:endParaRPr b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8" name=""/>
          <p:cNvSpPr/>
          <p:nvPr/>
        </p:nvSpPr>
        <p:spPr>
          <a:xfrm>
            <a:off x="506520" y="1620720"/>
            <a:ext cx="22240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 0 ]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2414520" y="2209680"/>
            <a:ext cx="1416240" cy="3819600"/>
            <a:chOff x="2414520" y="2209680"/>
            <a:chExt cx="1416240" cy="3819600"/>
          </a:xfrm>
        </p:grpSpPr>
        <p:sp>
          <p:nvSpPr>
            <p:cNvPr id="660" name=""/>
            <p:cNvSpPr/>
            <p:nvPr/>
          </p:nvSpPr>
          <p:spPr>
            <a:xfrm>
              <a:off x="2433600" y="2209680"/>
              <a:ext cx="1390680" cy="38196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414520" y="2971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414520" y="3736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414520" y="45036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414520" y="52704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2785680" y="2298600"/>
            <a:ext cx="63612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771680" y="304812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5256360" y="2941560"/>
            <a:ext cx="2265120" cy="3084480"/>
            <a:chOff x="5256360" y="2941560"/>
            <a:chExt cx="2265120" cy="3084480"/>
          </a:xfrm>
        </p:grpSpPr>
        <p:grpSp>
          <p:nvGrpSpPr>
            <p:cNvPr id="668" name=""/>
            <p:cNvGrpSpPr/>
            <p:nvPr/>
          </p:nvGrpSpPr>
          <p:grpSpPr>
            <a:xfrm>
              <a:off x="5256360" y="2941560"/>
              <a:ext cx="2265120" cy="3084480"/>
              <a:chOff x="5256360" y="2941560"/>
              <a:chExt cx="2265120" cy="3084480"/>
            </a:xfrm>
          </p:grpSpPr>
          <p:sp>
            <p:nvSpPr>
              <p:cNvPr id="669" name=""/>
              <p:cNvSpPr/>
              <p:nvPr/>
            </p:nvSpPr>
            <p:spPr>
              <a:xfrm rot="16200000">
                <a:off x="4199040" y="4006800"/>
                <a:ext cx="3076560" cy="961920"/>
              </a:xfrm>
              <a:prstGeom prst="triangle">
                <a:avLst>
                  <a:gd name="adj" fmla="val 49995"/>
                </a:avLst>
              </a:prstGeom>
              <a:solidFill>
                <a:srgbClr val="ff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224760" y="2959200"/>
                <a:ext cx="1293480" cy="305424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224760" y="294156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229440" y="602604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3" name=""/>
            <p:cNvSpPr/>
            <p:nvPr/>
          </p:nvSpPr>
          <p:spPr>
            <a:xfrm>
              <a:off x="7513560" y="2941560"/>
              <a:ext cx="0" cy="306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5181480" y="2209320"/>
            <a:ext cx="2311560" cy="686160"/>
            <a:chOff x="5181480" y="2209320"/>
            <a:chExt cx="2311560" cy="686160"/>
          </a:xfrm>
        </p:grpSpPr>
        <p:grpSp>
          <p:nvGrpSpPr>
            <p:cNvPr id="675" name=""/>
            <p:cNvGrpSpPr/>
            <p:nvPr/>
          </p:nvGrpSpPr>
          <p:grpSpPr>
            <a:xfrm>
              <a:off x="5181480" y="2209320"/>
              <a:ext cx="2311560" cy="686160"/>
              <a:chOff x="5181480" y="2209320"/>
              <a:chExt cx="2311560" cy="686160"/>
            </a:xfrm>
          </p:grpSpPr>
          <p:sp>
            <p:nvSpPr>
              <p:cNvPr id="676" name=""/>
              <p:cNvSpPr/>
              <p:nvPr/>
            </p:nvSpPr>
            <p:spPr>
              <a:xfrm rot="16200000">
                <a:off x="5419440" y="2070000"/>
                <a:ext cx="625680" cy="952200"/>
              </a:xfrm>
              <a:prstGeom prst="triangle">
                <a:avLst>
                  <a:gd name="adj" fmla="val 49995"/>
                </a:avLst>
              </a:prstGeom>
              <a:solidFill>
                <a:srgbClr val="c1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216480" y="2230560"/>
                <a:ext cx="1276560" cy="633240"/>
              </a:xfrm>
              <a:prstGeom prst="rect">
                <a:avLst/>
              </a:prstGeom>
              <a:solidFill>
                <a:srgbClr val="c1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8" name=""/>
              <p:cNvGrpSpPr/>
              <p:nvPr/>
            </p:nvGrpSpPr>
            <p:grpSpPr>
              <a:xfrm>
                <a:off x="5181480" y="2209320"/>
                <a:ext cx="2311560" cy="686160"/>
                <a:chOff x="5181480" y="2209320"/>
                <a:chExt cx="2311560" cy="68616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6216480" y="2227320"/>
                  <a:ext cx="1270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216480" y="2865600"/>
                  <a:ext cx="1276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V="1">
                  <a:off x="5181480" y="2209320"/>
                  <a:ext cx="106704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181480" y="2514600"/>
                  <a:ext cx="10670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3" name=""/>
            <p:cNvSpPr/>
            <p:nvPr/>
          </p:nvSpPr>
          <p:spPr>
            <a:xfrm>
              <a:off x="5915520" y="2325600"/>
              <a:ext cx="1452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R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3992400" y="4648320"/>
            <a:ext cx="579240" cy="1226880"/>
            <a:chOff x="3992400" y="4648320"/>
            <a:chExt cx="579240" cy="1226880"/>
          </a:xfrm>
        </p:grpSpPr>
        <p:sp>
          <p:nvSpPr>
            <p:cNvPr id="685" name=""/>
            <p:cNvSpPr/>
            <p:nvPr/>
          </p:nvSpPr>
          <p:spPr>
            <a:xfrm>
              <a:off x="4563720" y="4659120"/>
              <a:ext cx="0" cy="12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92400" y="464832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000320" y="587520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O(N log N) vs. O(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3396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804600" y="146160"/>
            <a:ext cx="757692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 Narrow"/>
              </a:rPr>
              <a:t>Bubble Sort: Pass Two </a:t>
            </a:r>
            <a:endParaRPr b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9" name=""/>
          <p:cNvSpPr/>
          <p:nvPr/>
        </p:nvSpPr>
        <p:spPr>
          <a:xfrm>
            <a:off x="506520" y="1620720"/>
            <a:ext cx="22240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 0 ]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2414520" y="2209680"/>
            <a:ext cx="1416240" cy="3819600"/>
            <a:chOff x="2414520" y="2209680"/>
            <a:chExt cx="1416240" cy="3819600"/>
          </a:xfrm>
        </p:grpSpPr>
        <p:sp>
          <p:nvSpPr>
            <p:cNvPr id="691" name=""/>
            <p:cNvSpPr/>
            <p:nvPr/>
          </p:nvSpPr>
          <p:spPr>
            <a:xfrm>
              <a:off x="2433600" y="2209680"/>
              <a:ext cx="1390680" cy="38196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414520" y="2971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414520" y="3736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414520" y="45036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414520" y="52704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2785680" y="2298600"/>
            <a:ext cx="63612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771680" y="304812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256360" y="2941560"/>
            <a:ext cx="2265120" cy="3084480"/>
            <a:chOff x="5256360" y="2941560"/>
            <a:chExt cx="2265120" cy="3084480"/>
          </a:xfrm>
        </p:grpSpPr>
        <p:grpSp>
          <p:nvGrpSpPr>
            <p:cNvPr id="699" name=""/>
            <p:cNvGrpSpPr/>
            <p:nvPr/>
          </p:nvGrpSpPr>
          <p:grpSpPr>
            <a:xfrm>
              <a:off x="5256360" y="2941560"/>
              <a:ext cx="2265120" cy="3084480"/>
              <a:chOff x="5256360" y="2941560"/>
              <a:chExt cx="2265120" cy="3084480"/>
            </a:xfrm>
          </p:grpSpPr>
          <p:sp>
            <p:nvSpPr>
              <p:cNvPr id="700" name=""/>
              <p:cNvSpPr/>
              <p:nvPr/>
            </p:nvSpPr>
            <p:spPr>
              <a:xfrm rot="16200000">
                <a:off x="4199040" y="4006800"/>
                <a:ext cx="3076560" cy="961920"/>
              </a:xfrm>
              <a:prstGeom prst="triangle">
                <a:avLst>
                  <a:gd name="adj" fmla="val 49995"/>
                </a:avLst>
              </a:prstGeom>
              <a:solidFill>
                <a:srgbClr val="ff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224760" y="2959200"/>
                <a:ext cx="1293480" cy="305424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224760" y="294156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229440" y="602604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4" name=""/>
            <p:cNvSpPr/>
            <p:nvPr/>
          </p:nvSpPr>
          <p:spPr>
            <a:xfrm>
              <a:off x="7513560" y="2941560"/>
              <a:ext cx="0" cy="306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5181480" y="2209320"/>
            <a:ext cx="2311560" cy="686160"/>
            <a:chOff x="5181480" y="2209320"/>
            <a:chExt cx="2311560" cy="686160"/>
          </a:xfrm>
        </p:grpSpPr>
        <p:grpSp>
          <p:nvGrpSpPr>
            <p:cNvPr id="706" name=""/>
            <p:cNvGrpSpPr/>
            <p:nvPr/>
          </p:nvGrpSpPr>
          <p:grpSpPr>
            <a:xfrm>
              <a:off x="5181480" y="2209320"/>
              <a:ext cx="2311560" cy="686160"/>
              <a:chOff x="5181480" y="2209320"/>
              <a:chExt cx="2311560" cy="686160"/>
            </a:xfrm>
          </p:grpSpPr>
          <p:sp>
            <p:nvSpPr>
              <p:cNvPr id="707" name=""/>
              <p:cNvSpPr/>
              <p:nvPr/>
            </p:nvSpPr>
            <p:spPr>
              <a:xfrm rot="16200000">
                <a:off x="5419440" y="2070000"/>
                <a:ext cx="625680" cy="952200"/>
              </a:xfrm>
              <a:prstGeom prst="triangle">
                <a:avLst>
                  <a:gd name="adj" fmla="val 49995"/>
                </a:avLst>
              </a:prstGeom>
              <a:solidFill>
                <a:srgbClr val="c1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216480" y="2230560"/>
                <a:ext cx="1276560" cy="633240"/>
              </a:xfrm>
              <a:prstGeom prst="rect">
                <a:avLst/>
              </a:prstGeom>
              <a:solidFill>
                <a:srgbClr val="c1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9" name=""/>
              <p:cNvGrpSpPr/>
              <p:nvPr/>
            </p:nvGrpSpPr>
            <p:grpSpPr>
              <a:xfrm>
                <a:off x="5181480" y="2209320"/>
                <a:ext cx="2311560" cy="686160"/>
                <a:chOff x="5181480" y="2209320"/>
                <a:chExt cx="2311560" cy="68616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6216480" y="2227320"/>
                  <a:ext cx="1270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216480" y="2865600"/>
                  <a:ext cx="1276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flipV="1">
                  <a:off x="5181480" y="2209320"/>
                  <a:ext cx="106704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5181480" y="2514600"/>
                  <a:ext cx="10670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4" name=""/>
            <p:cNvSpPr/>
            <p:nvPr/>
          </p:nvSpPr>
          <p:spPr>
            <a:xfrm>
              <a:off x="5915520" y="2325600"/>
              <a:ext cx="1452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R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3992400" y="3886200"/>
            <a:ext cx="579240" cy="1227240"/>
            <a:chOff x="3992400" y="3886200"/>
            <a:chExt cx="579240" cy="1227240"/>
          </a:xfrm>
        </p:grpSpPr>
        <p:sp>
          <p:nvSpPr>
            <p:cNvPr id="716" name=""/>
            <p:cNvSpPr/>
            <p:nvPr/>
          </p:nvSpPr>
          <p:spPr>
            <a:xfrm>
              <a:off x="4563720" y="3897000"/>
              <a:ext cx="0" cy="12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992400" y="388620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000320" y="511344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04600" y="146160"/>
            <a:ext cx="757692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 Narrow"/>
              </a:rPr>
              <a:t>Bubble Sort: Pass Two </a:t>
            </a:r>
            <a:endParaRPr b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0" name=""/>
          <p:cNvSpPr/>
          <p:nvPr/>
        </p:nvSpPr>
        <p:spPr>
          <a:xfrm>
            <a:off x="506520" y="1620720"/>
            <a:ext cx="22240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 0 ]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414520" y="2209680"/>
            <a:ext cx="1416240" cy="3819600"/>
            <a:chOff x="2414520" y="2209680"/>
            <a:chExt cx="1416240" cy="3819600"/>
          </a:xfrm>
        </p:grpSpPr>
        <p:sp>
          <p:nvSpPr>
            <p:cNvPr id="722" name=""/>
            <p:cNvSpPr/>
            <p:nvPr/>
          </p:nvSpPr>
          <p:spPr>
            <a:xfrm>
              <a:off x="2433600" y="2209680"/>
              <a:ext cx="1390680" cy="38196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14520" y="2971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414520" y="3736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414520" y="45036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14520" y="52704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2785680" y="2298600"/>
            <a:ext cx="63612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771680" y="304812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5256360" y="2941560"/>
            <a:ext cx="2265120" cy="3084480"/>
            <a:chOff x="5256360" y="2941560"/>
            <a:chExt cx="2265120" cy="3084480"/>
          </a:xfrm>
        </p:grpSpPr>
        <p:grpSp>
          <p:nvGrpSpPr>
            <p:cNvPr id="730" name=""/>
            <p:cNvGrpSpPr/>
            <p:nvPr/>
          </p:nvGrpSpPr>
          <p:grpSpPr>
            <a:xfrm>
              <a:off x="5256360" y="2941560"/>
              <a:ext cx="2265120" cy="3084480"/>
              <a:chOff x="5256360" y="2941560"/>
              <a:chExt cx="2265120" cy="3084480"/>
            </a:xfrm>
          </p:grpSpPr>
          <p:sp>
            <p:nvSpPr>
              <p:cNvPr id="731" name=""/>
              <p:cNvSpPr/>
              <p:nvPr/>
            </p:nvSpPr>
            <p:spPr>
              <a:xfrm rot="16200000">
                <a:off x="4199040" y="4006800"/>
                <a:ext cx="3076560" cy="961920"/>
              </a:xfrm>
              <a:prstGeom prst="triangle">
                <a:avLst>
                  <a:gd name="adj" fmla="val 49995"/>
                </a:avLst>
              </a:prstGeom>
              <a:solidFill>
                <a:srgbClr val="ff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224760" y="2959200"/>
                <a:ext cx="1293480" cy="305424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224760" y="294156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229440" y="602604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5" name=""/>
            <p:cNvSpPr/>
            <p:nvPr/>
          </p:nvSpPr>
          <p:spPr>
            <a:xfrm>
              <a:off x="7513560" y="2941560"/>
              <a:ext cx="0" cy="306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5181480" y="2209320"/>
            <a:ext cx="2311560" cy="686160"/>
            <a:chOff x="5181480" y="2209320"/>
            <a:chExt cx="2311560" cy="686160"/>
          </a:xfrm>
        </p:grpSpPr>
        <p:grpSp>
          <p:nvGrpSpPr>
            <p:cNvPr id="737" name=""/>
            <p:cNvGrpSpPr/>
            <p:nvPr/>
          </p:nvGrpSpPr>
          <p:grpSpPr>
            <a:xfrm>
              <a:off x="5181480" y="2209320"/>
              <a:ext cx="2311560" cy="686160"/>
              <a:chOff x="5181480" y="2209320"/>
              <a:chExt cx="2311560" cy="686160"/>
            </a:xfrm>
          </p:grpSpPr>
          <p:sp>
            <p:nvSpPr>
              <p:cNvPr id="738" name=""/>
              <p:cNvSpPr/>
              <p:nvPr/>
            </p:nvSpPr>
            <p:spPr>
              <a:xfrm rot="16200000">
                <a:off x="5419440" y="2070000"/>
                <a:ext cx="625680" cy="952200"/>
              </a:xfrm>
              <a:prstGeom prst="triangle">
                <a:avLst>
                  <a:gd name="adj" fmla="val 49995"/>
                </a:avLst>
              </a:prstGeom>
              <a:solidFill>
                <a:srgbClr val="c1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216480" y="2230560"/>
                <a:ext cx="1276560" cy="633240"/>
              </a:xfrm>
              <a:prstGeom prst="rect">
                <a:avLst/>
              </a:prstGeom>
              <a:solidFill>
                <a:srgbClr val="c1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0" name=""/>
              <p:cNvGrpSpPr/>
              <p:nvPr/>
            </p:nvGrpSpPr>
            <p:grpSpPr>
              <a:xfrm>
                <a:off x="5181480" y="2209320"/>
                <a:ext cx="2311560" cy="686160"/>
                <a:chOff x="5181480" y="2209320"/>
                <a:chExt cx="2311560" cy="686160"/>
              </a:xfrm>
            </p:grpSpPr>
            <p:sp>
              <p:nvSpPr>
                <p:cNvPr id="741" name=""/>
                <p:cNvSpPr/>
                <p:nvPr/>
              </p:nvSpPr>
              <p:spPr>
                <a:xfrm>
                  <a:off x="6216480" y="2227320"/>
                  <a:ext cx="1270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6216480" y="2865600"/>
                  <a:ext cx="1276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V="1">
                  <a:off x="5181480" y="2209320"/>
                  <a:ext cx="106704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181480" y="2514600"/>
                  <a:ext cx="10670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5" name=""/>
            <p:cNvSpPr/>
            <p:nvPr/>
          </p:nvSpPr>
          <p:spPr>
            <a:xfrm>
              <a:off x="5915520" y="2325600"/>
              <a:ext cx="1452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R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3992400" y="3200400"/>
            <a:ext cx="579240" cy="1227240"/>
            <a:chOff x="3992400" y="3200400"/>
            <a:chExt cx="579240" cy="1227240"/>
          </a:xfrm>
        </p:grpSpPr>
        <p:sp>
          <p:nvSpPr>
            <p:cNvPr id="747" name=""/>
            <p:cNvSpPr/>
            <p:nvPr/>
          </p:nvSpPr>
          <p:spPr>
            <a:xfrm>
              <a:off x="4563720" y="3211200"/>
              <a:ext cx="0" cy="12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92400" y="320040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00320" y="442764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04600" y="146160"/>
            <a:ext cx="757692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 Narrow"/>
              </a:rPr>
              <a:t>Bubble Sort: End Pass Two </a:t>
            </a:r>
            <a:endParaRPr b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1" name=""/>
          <p:cNvSpPr/>
          <p:nvPr/>
        </p:nvSpPr>
        <p:spPr>
          <a:xfrm>
            <a:off x="506520" y="1620720"/>
            <a:ext cx="22240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 0 ]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2414520" y="2209680"/>
            <a:ext cx="1416240" cy="3819600"/>
            <a:chOff x="2414520" y="2209680"/>
            <a:chExt cx="1416240" cy="3819600"/>
          </a:xfrm>
        </p:grpSpPr>
        <p:sp>
          <p:nvSpPr>
            <p:cNvPr id="753" name=""/>
            <p:cNvSpPr/>
            <p:nvPr/>
          </p:nvSpPr>
          <p:spPr>
            <a:xfrm>
              <a:off x="2433600" y="2209680"/>
              <a:ext cx="1390680" cy="38196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414520" y="2971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414520" y="3736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414520" y="45036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414520" y="52704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2785680" y="2298600"/>
            <a:ext cx="63612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771680" y="304812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5256360" y="3789360"/>
            <a:ext cx="2265120" cy="2259000"/>
            <a:chOff x="5256360" y="3789360"/>
            <a:chExt cx="2265120" cy="2259000"/>
          </a:xfrm>
        </p:grpSpPr>
        <p:grpSp>
          <p:nvGrpSpPr>
            <p:cNvPr id="761" name=""/>
            <p:cNvGrpSpPr/>
            <p:nvPr/>
          </p:nvGrpSpPr>
          <p:grpSpPr>
            <a:xfrm>
              <a:off x="5256360" y="3789360"/>
              <a:ext cx="2265120" cy="2259000"/>
              <a:chOff x="5256360" y="3789360"/>
              <a:chExt cx="2265120" cy="2259000"/>
            </a:xfrm>
          </p:grpSpPr>
          <p:sp>
            <p:nvSpPr>
              <p:cNvPr id="762" name=""/>
              <p:cNvSpPr/>
              <p:nvPr/>
            </p:nvSpPr>
            <p:spPr>
              <a:xfrm rot="16200000">
                <a:off x="4613400" y="4440240"/>
                <a:ext cx="2247840" cy="961920"/>
              </a:xfrm>
              <a:prstGeom prst="triangle">
                <a:avLst>
                  <a:gd name="adj" fmla="val 49995"/>
                </a:avLst>
              </a:prstGeom>
              <a:solidFill>
                <a:srgbClr val="ff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224760" y="3801960"/>
                <a:ext cx="1293480" cy="223704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224760" y="378936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229440" y="604836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7513560" y="3789360"/>
              <a:ext cx="0" cy="224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5257800" y="2209320"/>
            <a:ext cx="2235240" cy="1524600"/>
            <a:chOff x="5257800" y="2209320"/>
            <a:chExt cx="2235240" cy="1524600"/>
          </a:xfrm>
        </p:grpSpPr>
        <p:sp>
          <p:nvSpPr>
            <p:cNvPr id="768" name=""/>
            <p:cNvSpPr/>
            <p:nvPr/>
          </p:nvSpPr>
          <p:spPr>
            <a:xfrm rot="16200000">
              <a:off x="5051160" y="2477520"/>
              <a:ext cx="1441800" cy="952560"/>
            </a:xfrm>
            <a:prstGeom prst="triangle">
              <a:avLst>
                <a:gd name="adj" fmla="val 49995"/>
              </a:avLst>
            </a:prstGeom>
            <a:solidFill>
              <a:srgbClr val="c1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16480" y="2235240"/>
              <a:ext cx="1276560" cy="1440000"/>
            </a:xfrm>
            <a:prstGeom prst="rect">
              <a:avLst/>
            </a:prstGeom>
            <a:solidFill>
              <a:srgbClr val="c1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216480" y="222732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216480" y="3679920"/>
              <a:ext cx="12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86560" y="2227320"/>
              <a:ext cx="0" cy="144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915520" y="2655720"/>
              <a:ext cx="1452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R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5257800" y="2209320"/>
              <a:ext cx="9907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257800" y="2971800"/>
              <a:ext cx="106668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04600" y="146160"/>
            <a:ext cx="757692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 Narrow"/>
              </a:rPr>
              <a:t>Bubble Sort:  Pass Three </a:t>
            </a:r>
            <a:endParaRPr b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7" name=""/>
          <p:cNvSpPr/>
          <p:nvPr/>
        </p:nvSpPr>
        <p:spPr>
          <a:xfrm>
            <a:off x="506520" y="1620720"/>
            <a:ext cx="22240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 0 ]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2414520" y="2209680"/>
            <a:ext cx="1416240" cy="3819600"/>
            <a:chOff x="2414520" y="2209680"/>
            <a:chExt cx="1416240" cy="3819600"/>
          </a:xfrm>
        </p:grpSpPr>
        <p:sp>
          <p:nvSpPr>
            <p:cNvPr id="779" name=""/>
            <p:cNvSpPr/>
            <p:nvPr/>
          </p:nvSpPr>
          <p:spPr>
            <a:xfrm>
              <a:off x="2433600" y="2209680"/>
              <a:ext cx="1390680" cy="38196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414520" y="2971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414520" y="3736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414520" y="45036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414520" y="52704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2785680" y="2298600"/>
            <a:ext cx="63612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771680" y="304812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256360" y="3789360"/>
            <a:ext cx="2265120" cy="2259000"/>
            <a:chOff x="5256360" y="3789360"/>
            <a:chExt cx="2265120" cy="2259000"/>
          </a:xfrm>
        </p:grpSpPr>
        <p:grpSp>
          <p:nvGrpSpPr>
            <p:cNvPr id="787" name=""/>
            <p:cNvGrpSpPr/>
            <p:nvPr/>
          </p:nvGrpSpPr>
          <p:grpSpPr>
            <a:xfrm>
              <a:off x="5256360" y="3789360"/>
              <a:ext cx="2265120" cy="2259000"/>
              <a:chOff x="5256360" y="3789360"/>
              <a:chExt cx="2265120" cy="2259000"/>
            </a:xfrm>
          </p:grpSpPr>
          <p:sp>
            <p:nvSpPr>
              <p:cNvPr id="788" name=""/>
              <p:cNvSpPr/>
              <p:nvPr/>
            </p:nvSpPr>
            <p:spPr>
              <a:xfrm rot="16200000">
                <a:off x="4613400" y="4440240"/>
                <a:ext cx="2247840" cy="961920"/>
              </a:xfrm>
              <a:prstGeom prst="triangle">
                <a:avLst>
                  <a:gd name="adj" fmla="val 49995"/>
                </a:avLst>
              </a:prstGeom>
              <a:solidFill>
                <a:srgbClr val="ff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224760" y="3801960"/>
                <a:ext cx="1293480" cy="223704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224760" y="378936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229440" y="604836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2" name=""/>
            <p:cNvSpPr/>
            <p:nvPr/>
          </p:nvSpPr>
          <p:spPr>
            <a:xfrm>
              <a:off x="7513560" y="3789360"/>
              <a:ext cx="0" cy="224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5257800" y="2209320"/>
            <a:ext cx="2235240" cy="1524600"/>
            <a:chOff x="5257800" y="2209320"/>
            <a:chExt cx="2235240" cy="1524600"/>
          </a:xfrm>
        </p:grpSpPr>
        <p:sp>
          <p:nvSpPr>
            <p:cNvPr id="794" name=""/>
            <p:cNvSpPr/>
            <p:nvPr/>
          </p:nvSpPr>
          <p:spPr>
            <a:xfrm rot="16200000">
              <a:off x="5051160" y="2477520"/>
              <a:ext cx="1441800" cy="952560"/>
            </a:xfrm>
            <a:prstGeom prst="triangle">
              <a:avLst>
                <a:gd name="adj" fmla="val 49995"/>
              </a:avLst>
            </a:prstGeom>
            <a:solidFill>
              <a:srgbClr val="c1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216480" y="2235240"/>
              <a:ext cx="1276560" cy="1440000"/>
            </a:xfrm>
            <a:prstGeom prst="rect">
              <a:avLst/>
            </a:prstGeom>
            <a:solidFill>
              <a:srgbClr val="c1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216480" y="222732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216480" y="3679920"/>
              <a:ext cx="12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486560" y="2227320"/>
              <a:ext cx="0" cy="144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915520" y="2655720"/>
              <a:ext cx="1452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R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5257800" y="2209320"/>
              <a:ext cx="9907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257800" y="2971800"/>
              <a:ext cx="106668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992400" y="4648320"/>
            <a:ext cx="579240" cy="1226880"/>
            <a:chOff x="3992400" y="4648320"/>
            <a:chExt cx="579240" cy="1226880"/>
          </a:xfrm>
        </p:grpSpPr>
        <p:sp>
          <p:nvSpPr>
            <p:cNvPr id="803" name=""/>
            <p:cNvSpPr/>
            <p:nvPr/>
          </p:nvSpPr>
          <p:spPr>
            <a:xfrm>
              <a:off x="4563720" y="4659120"/>
              <a:ext cx="0" cy="12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992400" y="464832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000320" y="587520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04600" y="146160"/>
            <a:ext cx="757692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 Narrow"/>
              </a:rPr>
              <a:t>Bubble Sort:  Pass Three </a:t>
            </a:r>
            <a:endParaRPr b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7" name=""/>
          <p:cNvSpPr/>
          <p:nvPr/>
        </p:nvSpPr>
        <p:spPr>
          <a:xfrm>
            <a:off x="506520" y="1620720"/>
            <a:ext cx="22240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 0 ]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2414520" y="2209680"/>
            <a:ext cx="1416240" cy="3819600"/>
            <a:chOff x="2414520" y="2209680"/>
            <a:chExt cx="1416240" cy="3819600"/>
          </a:xfrm>
        </p:grpSpPr>
        <p:sp>
          <p:nvSpPr>
            <p:cNvPr id="809" name=""/>
            <p:cNvSpPr/>
            <p:nvPr/>
          </p:nvSpPr>
          <p:spPr>
            <a:xfrm>
              <a:off x="2433600" y="2209680"/>
              <a:ext cx="1390680" cy="38196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414520" y="2971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414520" y="3736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414520" y="45036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414520" y="52704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2785680" y="2298600"/>
            <a:ext cx="63612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771680" y="304812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5256360" y="3789360"/>
            <a:ext cx="2265120" cy="2259000"/>
            <a:chOff x="5256360" y="3789360"/>
            <a:chExt cx="2265120" cy="2259000"/>
          </a:xfrm>
        </p:grpSpPr>
        <p:grpSp>
          <p:nvGrpSpPr>
            <p:cNvPr id="817" name=""/>
            <p:cNvGrpSpPr/>
            <p:nvPr/>
          </p:nvGrpSpPr>
          <p:grpSpPr>
            <a:xfrm>
              <a:off x="5256360" y="3789360"/>
              <a:ext cx="2265120" cy="2259000"/>
              <a:chOff x="5256360" y="3789360"/>
              <a:chExt cx="2265120" cy="2259000"/>
            </a:xfrm>
          </p:grpSpPr>
          <p:sp>
            <p:nvSpPr>
              <p:cNvPr id="818" name=""/>
              <p:cNvSpPr/>
              <p:nvPr/>
            </p:nvSpPr>
            <p:spPr>
              <a:xfrm rot="16200000">
                <a:off x="4613400" y="4440240"/>
                <a:ext cx="2247840" cy="961920"/>
              </a:xfrm>
              <a:prstGeom prst="triangle">
                <a:avLst>
                  <a:gd name="adj" fmla="val 49995"/>
                </a:avLst>
              </a:prstGeom>
              <a:solidFill>
                <a:srgbClr val="ffcc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224760" y="3801960"/>
                <a:ext cx="1293480" cy="223704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224760" y="378936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229440" y="604836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>
              <a:off x="7513560" y="3789360"/>
              <a:ext cx="0" cy="224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257800" y="2209320"/>
            <a:ext cx="2235240" cy="1524600"/>
            <a:chOff x="5257800" y="2209320"/>
            <a:chExt cx="2235240" cy="1524600"/>
          </a:xfrm>
        </p:grpSpPr>
        <p:sp>
          <p:nvSpPr>
            <p:cNvPr id="824" name=""/>
            <p:cNvSpPr/>
            <p:nvPr/>
          </p:nvSpPr>
          <p:spPr>
            <a:xfrm rot="16200000">
              <a:off x="5051160" y="2477520"/>
              <a:ext cx="1441800" cy="952560"/>
            </a:xfrm>
            <a:prstGeom prst="triangle">
              <a:avLst>
                <a:gd name="adj" fmla="val 49995"/>
              </a:avLst>
            </a:prstGeom>
            <a:solidFill>
              <a:srgbClr val="c1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216480" y="2235240"/>
              <a:ext cx="1276560" cy="1440000"/>
            </a:xfrm>
            <a:prstGeom prst="rect">
              <a:avLst/>
            </a:prstGeom>
            <a:solidFill>
              <a:srgbClr val="c1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16480" y="222732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216480" y="3679920"/>
              <a:ext cx="12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486560" y="2227320"/>
              <a:ext cx="0" cy="144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915520" y="2655720"/>
              <a:ext cx="1452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R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5257800" y="2209320"/>
              <a:ext cx="9907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57800" y="2971800"/>
              <a:ext cx="106668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992400" y="3809880"/>
            <a:ext cx="579240" cy="1227240"/>
            <a:chOff x="3992400" y="3809880"/>
            <a:chExt cx="579240" cy="1227240"/>
          </a:xfrm>
        </p:grpSpPr>
        <p:sp>
          <p:nvSpPr>
            <p:cNvPr id="833" name=""/>
            <p:cNvSpPr/>
            <p:nvPr/>
          </p:nvSpPr>
          <p:spPr>
            <a:xfrm>
              <a:off x="4563720" y="3820680"/>
              <a:ext cx="0" cy="12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992400" y="380988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000320" y="503712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804960" y="146160"/>
            <a:ext cx="788184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 Narrow"/>
              </a:rPr>
              <a:t>Bubble Sort:  End Pass Three </a:t>
            </a:r>
            <a:endParaRPr b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7" name=""/>
          <p:cNvSpPr/>
          <p:nvPr/>
        </p:nvSpPr>
        <p:spPr>
          <a:xfrm>
            <a:off x="506520" y="1620720"/>
            <a:ext cx="22240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 0 ]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2414520" y="2209680"/>
            <a:ext cx="1416240" cy="3819600"/>
            <a:chOff x="2414520" y="2209680"/>
            <a:chExt cx="1416240" cy="3819600"/>
          </a:xfrm>
        </p:grpSpPr>
        <p:sp>
          <p:nvSpPr>
            <p:cNvPr id="839" name=""/>
            <p:cNvSpPr/>
            <p:nvPr/>
          </p:nvSpPr>
          <p:spPr>
            <a:xfrm>
              <a:off x="2433600" y="2209680"/>
              <a:ext cx="1390680" cy="38196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14520" y="2971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14520" y="3736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14520" y="45036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14520" y="52704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" name=""/>
          <p:cNvSpPr/>
          <p:nvPr/>
        </p:nvSpPr>
        <p:spPr>
          <a:xfrm>
            <a:off x="2785680" y="2298600"/>
            <a:ext cx="63612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5257800" y="4648320"/>
            <a:ext cx="2241360" cy="1523520"/>
            <a:chOff x="5257800" y="4648320"/>
            <a:chExt cx="2241360" cy="1523520"/>
          </a:xfrm>
        </p:grpSpPr>
        <p:grpSp>
          <p:nvGrpSpPr>
            <p:cNvPr id="846" name=""/>
            <p:cNvGrpSpPr/>
            <p:nvPr/>
          </p:nvGrpSpPr>
          <p:grpSpPr>
            <a:xfrm>
              <a:off x="5257800" y="4648320"/>
              <a:ext cx="2235240" cy="1523520"/>
              <a:chOff x="5257800" y="4648320"/>
              <a:chExt cx="2235240" cy="1523520"/>
            </a:xfrm>
          </p:grpSpPr>
          <p:sp>
            <p:nvSpPr>
              <p:cNvPr id="847" name=""/>
              <p:cNvSpPr/>
              <p:nvPr/>
            </p:nvSpPr>
            <p:spPr>
              <a:xfrm rot="16200000">
                <a:off x="5051520" y="4916160"/>
                <a:ext cx="1441440" cy="952560"/>
              </a:xfrm>
              <a:prstGeom prst="triangle">
                <a:avLst>
                  <a:gd name="adj" fmla="val 49995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216840" y="4673520"/>
                <a:ext cx="1276200" cy="143964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216840" y="4665600"/>
                <a:ext cx="1269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216840" y="6118200"/>
                <a:ext cx="127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486560" y="4665600"/>
                <a:ext cx="0" cy="144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V="1">
                <a:off x="5257800" y="4648320"/>
                <a:ext cx="99072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257800" y="5410080"/>
                <a:ext cx="106668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4" name=""/>
            <p:cNvSpPr/>
            <p:nvPr/>
          </p:nvSpPr>
          <p:spPr>
            <a:xfrm>
              <a:off x="5607360" y="5153040"/>
              <a:ext cx="1891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NSOR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5256360" y="2230560"/>
            <a:ext cx="2265120" cy="2346120"/>
            <a:chOff x="5256360" y="2230560"/>
            <a:chExt cx="2265120" cy="2346120"/>
          </a:xfrm>
        </p:grpSpPr>
        <p:grpSp>
          <p:nvGrpSpPr>
            <p:cNvPr id="856" name=""/>
            <p:cNvGrpSpPr/>
            <p:nvPr/>
          </p:nvGrpSpPr>
          <p:grpSpPr>
            <a:xfrm>
              <a:off x="5256360" y="2230560"/>
              <a:ext cx="2265120" cy="2346120"/>
              <a:chOff x="5256360" y="2230560"/>
              <a:chExt cx="2265120" cy="2346120"/>
            </a:xfrm>
          </p:grpSpPr>
          <p:sp>
            <p:nvSpPr>
              <p:cNvPr id="857" name=""/>
              <p:cNvSpPr/>
              <p:nvPr/>
            </p:nvSpPr>
            <p:spPr>
              <a:xfrm flipH="1" rot="16200000">
                <a:off x="4568760" y="2919240"/>
                <a:ext cx="2336760" cy="961920"/>
              </a:xfrm>
              <a:prstGeom prst="triangle">
                <a:avLst>
                  <a:gd name="adj" fmla="val 49995"/>
                </a:avLst>
              </a:prstGeom>
              <a:solidFill>
                <a:srgbClr val="c1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224760" y="2239920"/>
                <a:ext cx="1293480" cy="2324160"/>
              </a:xfrm>
              <a:prstGeom prst="rect">
                <a:avLst/>
              </a:prstGeom>
              <a:solidFill>
                <a:srgbClr val="c1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224760" y="457668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229440" y="223056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 flipV="1">
              <a:off x="7513560" y="2243160"/>
              <a:ext cx="0" cy="23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"/>
          <p:cNvSpPr/>
          <p:nvPr/>
        </p:nvSpPr>
        <p:spPr>
          <a:xfrm>
            <a:off x="7717680" y="2279520"/>
            <a:ext cx="4226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804960" y="146160"/>
            <a:ext cx="788184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 Narrow"/>
              </a:rPr>
              <a:t>Bubble Sort:  Pass Four </a:t>
            </a:r>
            <a:endParaRPr b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4" name=""/>
          <p:cNvSpPr/>
          <p:nvPr/>
        </p:nvSpPr>
        <p:spPr>
          <a:xfrm>
            <a:off x="506520" y="1620720"/>
            <a:ext cx="22240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 0 ]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2414520" y="2209680"/>
            <a:ext cx="1416240" cy="3819600"/>
            <a:chOff x="2414520" y="2209680"/>
            <a:chExt cx="1416240" cy="3819600"/>
          </a:xfrm>
        </p:grpSpPr>
        <p:sp>
          <p:nvSpPr>
            <p:cNvPr id="866" name=""/>
            <p:cNvSpPr/>
            <p:nvPr/>
          </p:nvSpPr>
          <p:spPr>
            <a:xfrm>
              <a:off x="2433600" y="2209680"/>
              <a:ext cx="1390680" cy="38196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414520" y="2971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414520" y="3736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414520" y="45036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414520" y="52704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2785680" y="2298600"/>
            <a:ext cx="63612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5257800" y="4648320"/>
            <a:ext cx="2241360" cy="1523520"/>
            <a:chOff x="5257800" y="4648320"/>
            <a:chExt cx="2241360" cy="1523520"/>
          </a:xfrm>
        </p:grpSpPr>
        <p:grpSp>
          <p:nvGrpSpPr>
            <p:cNvPr id="873" name=""/>
            <p:cNvGrpSpPr/>
            <p:nvPr/>
          </p:nvGrpSpPr>
          <p:grpSpPr>
            <a:xfrm>
              <a:off x="5257800" y="4648320"/>
              <a:ext cx="2235240" cy="1523520"/>
              <a:chOff x="5257800" y="4648320"/>
              <a:chExt cx="2235240" cy="1523520"/>
            </a:xfrm>
          </p:grpSpPr>
          <p:sp>
            <p:nvSpPr>
              <p:cNvPr id="874" name=""/>
              <p:cNvSpPr/>
              <p:nvPr/>
            </p:nvSpPr>
            <p:spPr>
              <a:xfrm rot="16200000">
                <a:off x="5051520" y="4916160"/>
                <a:ext cx="1441440" cy="952560"/>
              </a:xfrm>
              <a:prstGeom prst="triangle">
                <a:avLst>
                  <a:gd name="adj" fmla="val 49995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216840" y="4673520"/>
                <a:ext cx="1276200" cy="143964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216840" y="4665600"/>
                <a:ext cx="1269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216840" y="6118200"/>
                <a:ext cx="127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486560" y="4665600"/>
                <a:ext cx="0" cy="144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5257800" y="4648320"/>
                <a:ext cx="99072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257800" y="5410080"/>
                <a:ext cx="106668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>
              <a:off x="5607360" y="5153040"/>
              <a:ext cx="1891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NSOR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256360" y="2230560"/>
            <a:ext cx="2265120" cy="2346120"/>
            <a:chOff x="5256360" y="2230560"/>
            <a:chExt cx="2265120" cy="2346120"/>
          </a:xfrm>
        </p:grpSpPr>
        <p:grpSp>
          <p:nvGrpSpPr>
            <p:cNvPr id="883" name=""/>
            <p:cNvGrpSpPr/>
            <p:nvPr/>
          </p:nvGrpSpPr>
          <p:grpSpPr>
            <a:xfrm>
              <a:off x="5256360" y="2230560"/>
              <a:ext cx="2265120" cy="2346120"/>
              <a:chOff x="5256360" y="2230560"/>
              <a:chExt cx="2265120" cy="2346120"/>
            </a:xfrm>
          </p:grpSpPr>
          <p:sp>
            <p:nvSpPr>
              <p:cNvPr id="884" name=""/>
              <p:cNvSpPr/>
              <p:nvPr/>
            </p:nvSpPr>
            <p:spPr>
              <a:xfrm flipH="1" rot="16200000">
                <a:off x="4568760" y="2919240"/>
                <a:ext cx="2336760" cy="961920"/>
              </a:xfrm>
              <a:prstGeom prst="triangle">
                <a:avLst>
                  <a:gd name="adj" fmla="val 49995"/>
                </a:avLst>
              </a:prstGeom>
              <a:solidFill>
                <a:srgbClr val="c1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224760" y="2239920"/>
                <a:ext cx="1293480" cy="2324160"/>
              </a:xfrm>
              <a:prstGeom prst="rect">
                <a:avLst/>
              </a:prstGeom>
              <a:solidFill>
                <a:srgbClr val="c1fe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224760" y="457668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229440" y="2230560"/>
                <a:ext cx="129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8" name=""/>
            <p:cNvSpPr/>
            <p:nvPr/>
          </p:nvSpPr>
          <p:spPr>
            <a:xfrm flipV="1">
              <a:off x="7513560" y="2243160"/>
              <a:ext cx="0" cy="23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7717680" y="2279520"/>
            <a:ext cx="4226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3992400" y="4724280"/>
            <a:ext cx="579240" cy="1227240"/>
            <a:chOff x="3992400" y="4724280"/>
            <a:chExt cx="579240" cy="1227240"/>
          </a:xfrm>
        </p:grpSpPr>
        <p:sp>
          <p:nvSpPr>
            <p:cNvPr id="891" name=""/>
            <p:cNvSpPr/>
            <p:nvPr/>
          </p:nvSpPr>
          <p:spPr>
            <a:xfrm>
              <a:off x="4563720" y="4735080"/>
              <a:ext cx="0" cy="12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92400" y="472428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000320" y="5951520"/>
              <a:ext cx="57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04960" y="146160"/>
            <a:ext cx="788184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 Narrow"/>
              </a:rPr>
              <a:t>Bubble Sort:   End Pass Four</a:t>
            </a:r>
            <a:endParaRPr b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5" name=""/>
          <p:cNvSpPr/>
          <p:nvPr/>
        </p:nvSpPr>
        <p:spPr>
          <a:xfrm>
            <a:off x="506520" y="1620720"/>
            <a:ext cx="22240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 0 ]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2414520" y="2209680"/>
            <a:ext cx="1416240" cy="3819600"/>
            <a:chOff x="2414520" y="2209680"/>
            <a:chExt cx="1416240" cy="3819600"/>
          </a:xfrm>
        </p:grpSpPr>
        <p:sp>
          <p:nvSpPr>
            <p:cNvPr id="897" name=""/>
            <p:cNvSpPr/>
            <p:nvPr/>
          </p:nvSpPr>
          <p:spPr>
            <a:xfrm>
              <a:off x="2433600" y="2209680"/>
              <a:ext cx="1390680" cy="38196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414520" y="2971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414520" y="3736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414520" y="45036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414520" y="52704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2" name=""/>
          <p:cNvSpPr/>
          <p:nvPr/>
        </p:nvSpPr>
        <p:spPr>
          <a:xfrm>
            <a:off x="2785680" y="2298600"/>
            <a:ext cx="63612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5256360" y="2201760"/>
            <a:ext cx="2265120" cy="3865680"/>
            <a:chOff x="5256360" y="2201760"/>
            <a:chExt cx="2265120" cy="3865680"/>
          </a:xfrm>
        </p:grpSpPr>
        <p:sp>
          <p:nvSpPr>
            <p:cNvPr id="904" name=""/>
            <p:cNvSpPr/>
            <p:nvPr/>
          </p:nvSpPr>
          <p:spPr>
            <a:xfrm rot="16200000">
              <a:off x="3808440" y="3657600"/>
              <a:ext cx="3857760" cy="961920"/>
            </a:xfrm>
            <a:prstGeom prst="triangle">
              <a:avLst>
                <a:gd name="adj" fmla="val 49995"/>
              </a:avLst>
            </a:prstGeom>
            <a:solidFill>
              <a:srgbClr val="c1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224760" y="2222640"/>
              <a:ext cx="1293480" cy="3828960"/>
            </a:xfrm>
            <a:prstGeom prst="rect">
              <a:avLst/>
            </a:prstGeom>
            <a:solidFill>
              <a:srgbClr val="c1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24760" y="2201760"/>
              <a:ext cx="129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229440" y="6067440"/>
              <a:ext cx="129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"/>
          <p:cNvSpPr/>
          <p:nvPr/>
        </p:nvSpPr>
        <p:spPr>
          <a:xfrm>
            <a:off x="7717320" y="2540160"/>
            <a:ext cx="5022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/>
          </p:nvPr>
        </p:nvSpPr>
        <p:spPr>
          <a:xfrm>
            <a:off x="741240" y="947520"/>
            <a:ext cx="7925040" cy="51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mplate &lt;class  ItemType &gt;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oid BubbleUp  ( ItemType  values [ ] ,  </a:t>
            </a:r>
            <a:r>
              <a:rPr b="0" lang="en-US" sz="2400" spc="-1" strike="noStrike">
                <a:solidFill>
                  <a:srgbClr val="dc0081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  start ,  int end 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 Narrow"/>
              </a:rPr>
              <a:t>//  Post: Neighboring elements that were out of order have bee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 Narrow"/>
              </a:rPr>
              <a:t>//            swapped between values [start] and  values [end],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 Narrow"/>
              </a:rPr>
              <a:t>//            beginning at values [end]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 ( int  index = end ;  index &gt; start ; index-- 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 (values [ index ] &lt; values [ index - 1 ] 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wap ( values [ index ], values [ index - 1 ] ) ;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} </a:t>
            </a:r>
            <a:r>
              <a:rPr b="0" i="1" lang="en-US" sz="2400" spc="-1" strike="noStrike">
                <a:solidFill>
                  <a:srgbClr val="cecece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0" name=""/>
          <p:cNvSpPr/>
          <p:nvPr/>
        </p:nvSpPr>
        <p:spPr>
          <a:xfrm>
            <a:off x="78487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5BF5-CC61-40B9-BE5E-52B73FC84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/>
          </p:nvPr>
        </p:nvSpPr>
        <p:spPr>
          <a:xfrm>
            <a:off x="741240" y="947520"/>
            <a:ext cx="7925040" cy="51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mplate &lt;class  ItemType &gt;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oid  BubbleSort  ( ItemType  values [ ] ,  </a:t>
            </a:r>
            <a:r>
              <a:rPr b="0" lang="en-US" sz="2400" spc="-1" strike="noStrike">
                <a:solidFill>
                  <a:srgbClr val="dc0081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  numValues 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 Narrow"/>
              </a:rPr>
              <a:t>//  Post: Sorts array values[0 . . numValues-1 ] into ascending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 Narrow"/>
              </a:rPr>
              <a:t>//            order by ke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  current = 0  ;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ile  ( current &lt; numValues - 1 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ubbleUp ( values , current , numValues - 1 ) ;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urrent++ ;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1600" spc="-1" strike="noStrike">
                <a:solidFill>
                  <a:srgbClr val="cecece"/>
                </a:solidFill>
                <a:latin typeface="Arial Narrow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2" name=""/>
          <p:cNvSpPr/>
          <p:nvPr/>
        </p:nvSpPr>
        <p:spPr>
          <a:xfrm>
            <a:off x="78487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170C-B2B2-4343-A7BF-A0F0919E0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660066"/>
                </a:solidFill>
                <a:latin typeface="Arial Narrow"/>
              </a:rPr>
              <a:t>Sorting means . . .</a:t>
            </a:r>
            <a:endParaRPr b="1" lang="en-US" sz="5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999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Sorting means rearranges the elements into either </a:t>
            </a:r>
            <a:r>
              <a:rPr b="1" lang="en-US" sz="4000" spc="-1" strike="noStrike">
                <a:solidFill>
                  <a:srgbClr val="dc0081"/>
                </a:solidFill>
                <a:latin typeface="Arial Narrow"/>
              </a:rPr>
              <a:t>ascending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1" lang="en-US" sz="4000" spc="-1" strike="noStrike">
                <a:solidFill>
                  <a:srgbClr val="dc0081"/>
                </a:solidFill>
                <a:latin typeface="Arial Narrow"/>
              </a:rPr>
              <a:t>descending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order within the array. 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999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(we’ll use ascending order.)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/>
          </p:nvPr>
        </p:nvSpPr>
        <p:spPr>
          <a:xfrm>
            <a:off x="838080" y="12952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ion Sort, Insertion Sort, and Bubble Sort all  have a worst-case time of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), making them impractical for large array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ut they are easy to program, easy to debug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sertion Sort also has good performance when the array is nearly sorted to begin with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ut more sophisticated sorting algorithms are needed when good performance is needed in all cases for large array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ext time: Merge Sort, Quick Sort, and Radix Sort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 Narrow"/>
              </a:rPr>
              <a:t>Conclusion</a:t>
            </a:r>
            <a:endParaRPr b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0" dur="500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5" dur="500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0" dur="500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5" dur="500"/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 Narrow"/>
              </a:rPr>
              <a:t>Two Common Categories</a:t>
            </a:r>
            <a:endParaRPr b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6532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Sorting Algorithms of </a:t>
            </a:r>
            <a:r>
              <a:rPr b="1" lang="en-US" sz="3200" spc="-1" strike="noStrike" u="sng">
                <a:solidFill>
                  <a:srgbClr val="dc0081"/>
                </a:solidFill>
                <a:uFillTx/>
                <a:latin typeface="Arial Narrow"/>
              </a:rPr>
              <a:t>O(N</a:t>
            </a:r>
            <a:r>
              <a:rPr b="1" lang="en-US" sz="3200" spc="-1" strike="noStrike" u="sng" baseline="30000">
                <a:solidFill>
                  <a:srgbClr val="dc0081"/>
                </a:solidFill>
                <a:uFillTx/>
                <a:latin typeface="Arial Narrow"/>
              </a:rPr>
              <a:t>2</a:t>
            </a:r>
            <a:r>
              <a:rPr b="1" lang="en-US" sz="3200" spc="-1" strike="noStrike" u="sng">
                <a:solidFill>
                  <a:srgbClr val="dc0081"/>
                </a:solidFill>
                <a:uFillTx/>
                <a:latin typeface="Arial Narrow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65320" indent="-26532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lection Sor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65320" indent="-26532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sertion Sor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65320" indent="-26532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ubble Sor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6532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Sorting Algorithms of  </a:t>
            </a:r>
            <a:r>
              <a:rPr b="1" lang="en-US" sz="3200" spc="-1" strike="noStrike" u="sng">
                <a:solidFill>
                  <a:srgbClr val="dc0081"/>
                </a:solidFill>
                <a:uFillTx/>
                <a:latin typeface="Arial Narrow"/>
              </a:rPr>
              <a:t>O(N log N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65320" indent="-26532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p Sor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65320" indent="-26532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rge Sor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65320" indent="-265320">
              <a:lnSpc>
                <a:spcPct val="9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uick Sor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 Narrow"/>
              </a:rPr>
              <a:t>For small values of </a:t>
            </a:r>
            <a:r>
              <a:rPr b="1" lang="en-US" sz="4200" spc="-1" strike="noStrike">
                <a:solidFill>
                  <a:srgbClr val="dc0081"/>
                </a:solidFill>
                <a:latin typeface="Arial Narrow"/>
              </a:rPr>
              <a:t>N</a:t>
            </a:r>
            <a:endParaRPr b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46748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999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It is important to note that all algorithms appear to run equally as fast for small values of </a:t>
            </a:r>
            <a:r>
              <a:rPr b="0" lang="en-US" sz="4000" spc="-1" strike="noStrike">
                <a:solidFill>
                  <a:srgbClr val="dc0081"/>
                </a:solidFill>
                <a:latin typeface="Arial Narrow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999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For values of </a:t>
            </a:r>
            <a:r>
              <a:rPr b="0" lang="en-US" sz="4000" spc="-1" strike="noStrike">
                <a:solidFill>
                  <a:srgbClr val="dc0081"/>
                </a:solidFill>
                <a:latin typeface="Arial Narrow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  from the thousands to the millions, The differences between </a:t>
            </a:r>
            <a:r>
              <a:rPr b="0" lang="en-US" sz="4000" spc="-1" strike="noStrike">
                <a:solidFill>
                  <a:srgbClr val="dc0081"/>
                </a:solidFill>
                <a:latin typeface="Arial Narrow"/>
              </a:rPr>
              <a:t>O(N</a:t>
            </a:r>
            <a:r>
              <a:rPr b="0" lang="en-US" sz="4000" spc="-1" strike="noStrike" baseline="30000">
                <a:solidFill>
                  <a:srgbClr val="dc0081"/>
                </a:solidFill>
                <a:latin typeface="Arial Narrow"/>
              </a:rPr>
              <a:t>2</a:t>
            </a:r>
            <a:r>
              <a:rPr b="0" lang="en-US" sz="4000" spc="-1" strike="noStrike">
                <a:solidFill>
                  <a:srgbClr val="dc0081"/>
                </a:solidFill>
                <a:latin typeface="Arial Narrow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lang="en-US" sz="4000" spc="-1" strike="noStrike">
                <a:solidFill>
                  <a:srgbClr val="dc0081"/>
                </a:solidFill>
                <a:latin typeface="Arial Narrow"/>
              </a:rPr>
              <a:t>O(N log N)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 become dramatically apparent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819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Black"/>
              </a:rPr>
              <a:t>O(N</a:t>
            </a:r>
            <a:r>
              <a:rPr b="0" lang="en-US" sz="42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Arial Black"/>
              </a:rPr>
              <a:t>) Sorts</a:t>
            </a:r>
            <a:endParaRPr b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999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Easy to program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999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imple to understand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999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Very slow, especially for large values of </a:t>
            </a:r>
            <a:r>
              <a:rPr b="1" lang="en-US" sz="4000" spc="-1" strike="noStrike">
                <a:solidFill>
                  <a:srgbClr val="dc0081"/>
                </a:solidFill>
                <a:latin typeface="Arial Narrow"/>
              </a:rPr>
              <a:t>N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999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Almost never used in professional software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114800" y="2057400"/>
            <a:ext cx="42591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s the array into two parts:  already sorted, and not yet sorted.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On each pass, finds the smallest of the unsorted elements, and swaps it into its correct place,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by increasing the number of sorted elements by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588780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 Narrow"/>
              </a:rPr>
              <a:t>Straight Selection Sort</a:t>
            </a:r>
            <a:endParaRPr b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506520" y="1620720"/>
            <a:ext cx="222408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 0 ]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414520" y="2209680"/>
            <a:ext cx="1416240" cy="3819600"/>
            <a:chOff x="2414520" y="2209680"/>
            <a:chExt cx="1416240" cy="3819600"/>
          </a:xfrm>
        </p:grpSpPr>
        <p:sp>
          <p:nvSpPr>
            <p:cNvPr id="106" name=""/>
            <p:cNvSpPr/>
            <p:nvPr/>
          </p:nvSpPr>
          <p:spPr>
            <a:xfrm>
              <a:off x="2433600" y="2209680"/>
              <a:ext cx="1390680" cy="3819600"/>
            </a:xfrm>
            <a:prstGeom prst="rect">
              <a:avLst/>
            </a:prstGeom>
            <a:solidFill>
              <a:srgbClr val="009e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14520" y="2971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14520" y="37368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14520" y="45036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14520" y="5270400"/>
              <a:ext cx="141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786040" y="2298600"/>
            <a:ext cx="63648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00:39:03Z</dcterms:created>
  <dc:creator/>
  <dc:description/>
  <dc:language>en-US</dc:language>
  <cp:lastModifiedBy>ramallah</cp:lastModifiedBy>
  <dcterms:modified xsi:type="dcterms:W3CDTF">2007-12-07T19:47:12Z</dcterms:modified>
  <cp:revision>320</cp:revision>
  <dc:subject/>
  <dc:title>Course 2559A: Introduction to Visual Basic .NET Programming with Microsoft .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lpwstr>3.1.1005</vt:lpwstr>
  </property>
</Properties>
</file>