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Laser.wav" ContentType="audio/x-wav"/>
  <Override PartName="/ppt/media/Typ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3225A3-0E0A-4F78-A3A5-8B5E7CCF0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FD3DB1-791F-486C-83CE-ABE37349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PlaceHolder 1"/>
          <p:cNvSpPr>
            <a:spLocks noGrp="1"/>
          </p:cNvSpPr>
          <p:nvPr>
            <p:ph type="sldImg"/>
          </p:nvPr>
        </p:nvSpPr>
        <p:spPr>
          <a:xfrm>
            <a:off x="1268280" y="71748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6102" name="PlaceHolder 2"/>
          <p:cNvSpPr>
            <a:spLocks noGrp="1"/>
          </p:cNvSpPr>
          <p:nvPr>
            <p:ph type="body"/>
          </p:nvPr>
        </p:nvSpPr>
        <p:spPr>
          <a:xfrm>
            <a:off x="976320" y="4541400"/>
            <a:ext cx="53625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90E-2BE3-4910-9E02-EAF08F3A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B36-D16C-4194-A90B-40DA2DFB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2C7-282F-418E-BAD3-E043C150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9D4-A1D0-4E73-82AB-3E7422AF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9C1-29E8-4282-B426-DD94675F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FED-5AD5-442F-83AB-E39C4B82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9CF-B8E6-4EB3-AAB6-4D422E7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B8F-3BF1-458B-BDD4-B47C7300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0DC-2214-4B96-8B0A-EADAB5C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E7F-986E-4E69-8C21-B1145F3D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EBD-BF48-4BC1-8818-DABB1EE0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8040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83040" y="144792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7776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8040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783040" y="3827880"/>
            <a:ext cx="22878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02D-1AEA-41B6-8703-D33119E5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9160" y="382788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9160" y="1447920"/>
            <a:ext cx="346752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7760" y="3827880"/>
            <a:ext cx="710568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gradFill rotWithShape="0">
            <a:gsLst>
              <a:gs pos="0">
                <a:srgbClr val="fcfeb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996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560" y="987480"/>
            <a:ext cx="7566120" cy="1396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393840"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537D-6AB4-4FE3-B219-E15DFFABFA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ENCS 311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9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Narrow"/>
              </a:rPr>
              <a:t>Graph</a:t>
            </a:r>
            <a:endParaRPr b="1" lang="en-US" sz="6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Shortest Path Proble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Minimum Spanning Tre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GB" sz="20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 semester, 2007/200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moun Nawahda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3353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28600" y="1062000"/>
          <a:ext cx="868680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2000"/>
                    <a:ext cx="868680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914400" y="304920"/>
          <a:ext cx="7315200" cy="43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731520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19320" y="4724280"/>
          <a:ext cx="6869160" cy="19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724280"/>
                    <a:ext cx="68691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049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xercise of finding the shortest path between A &amp;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9160" y="2521080"/>
            <a:ext cx="216000" cy="215640"/>
          </a:xfrm>
          <a:prstGeom prst="ellipse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282840"/>
            <a:ext cx="215640" cy="216000"/>
          </a:xfrm>
          <a:prstGeom prst="ellipse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31160" y="3359160"/>
            <a:ext cx="216000" cy="216000"/>
          </a:xfrm>
          <a:prstGeom prst="ellipse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9160" y="3816360"/>
            <a:ext cx="216000" cy="216000"/>
          </a:xfrm>
          <a:prstGeom prst="ellipse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2360" y="3816360"/>
            <a:ext cx="216000" cy="216000"/>
          </a:xfrm>
          <a:prstGeom prst="ellipse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02360" y="2521080"/>
            <a:ext cx="216000" cy="215640"/>
          </a:xfrm>
          <a:prstGeom prst="ellipse">
            <a:avLst/>
          </a:prstGeom>
          <a:solidFill>
            <a:srgbClr val="c1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4520" y="2666880"/>
            <a:ext cx="25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982880" y="2668680"/>
            <a:ext cx="13683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4320" y="3508200"/>
            <a:ext cx="1444680" cy="45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4520" y="3962520"/>
            <a:ext cx="25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26280" y="3582720"/>
            <a:ext cx="1596960" cy="45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7720" y="2670120"/>
            <a:ext cx="159696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2746440"/>
            <a:ext cx="0" cy="10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2670120"/>
            <a:ext cx="0" cy="11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583080" y="2668680"/>
            <a:ext cx="2587680" cy="12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4360" y="2817720"/>
            <a:ext cx="38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84200" y="197964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84560" y="3884760"/>
            <a:ext cx="38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3720" y="197964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80040" y="4037040"/>
            <a:ext cx="38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13760" y="3122640"/>
            <a:ext cx="38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6120" y="258912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6120" y="342756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12800" y="274176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98600" y="213192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98600" y="297036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79480" y="3808440"/>
            <a:ext cx="64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89520" y="236052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32320" y="297036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94080" y="3656160"/>
            <a:ext cx="41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36280" y="4646520"/>
            <a:ext cx="597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--&gt; c--&gt; b--&gt; d--&gt; e--&gt;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  +  2  +  1  +  5  +  2  + 3 =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17680" y="1441440"/>
          <a:ext cx="104616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1441440"/>
                    <a:ext cx="104616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All Pairs Shortest Paths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ome Times you want to know All of the combinations of shortest paths.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2701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e could run Dijkstra’s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(V)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tim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36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arshall’s Algorithm 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O(N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6956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Minimum Spanning Tree</a:t>
            </a:r>
            <a:endParaRPr b="1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1143000"/>
            <a:ext cx="739116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panning tree of a graph is just a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</a:rPr>
              <a:t>acycl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</a:rPr>
              <a:t>subgra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contains all the vertices and i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graph may have many spanning t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2767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40384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0384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2" idx="6"/>
            <a:endCxn id="193" idx="2"/>
          </p:cNvCxnSpPr>
          <p:nvPr/>
        </p:nvCxnSpPr>
        <p:spPr>
          <a:xfrm>
            <a:off x="3886200" y="34286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2" idx="4"/>
            <a:endCxn id="194" idx="0"/>
          </p:cNvCxnSpPr>
          <p:nvPr/>
        </p:nvCxnSpPr>
        <p:spPr>
          <a:xfrm>
            <a:off x="373356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4" idx="6"/>
            <a:endCxn id="195" idx="2"/>
          </p:cNvCxnSpPr>
          <p:nvPr/>
        </p:nvCxnSpPr>
        <p:spPr>
          <a:xfrm>
            <a:off x="3886200" y="41907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3" idx="4"/>
            <a:endCxn id="195" idx="0"/>
          </p:cNvCxnSpPr>
          <p:nvPr/>
        </p:nvCxnSpPr>
        <p:spPr>
          <a:xfrm>
            <a:off x="4419360" y="35812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93" idx="3"/>
            <a:endCxn id="194" idx="7"/>
          </p:cNvCxnSpPr>
          <p:nvPr/>
        </p:nvCxnSpPr>
        <p:spPr>
          <a:xfrm flipH="1">
            <a:off x="3841200" y="353664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2" idx="5"/>
            <a:endCxn id="195" idx="1"/>
          </p:cNvCxnSpPr>
          <p:nvPr/>
        </p:nvCxnSpPr>
        <p:spPr>
          <a:xfrm>
            <a:off x="3841560" y="353664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20040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2" idx="6"/>
            <a:endCxn id="203" idx="2"/>
          </p:cNvCxnSpPr>
          <p:nvPr/>
        </p:nvCxnSpPr>
        <p:spPr>
          <a:xfrm>
            <a:off x="3505320" y="52574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2" idx="4"/>
            <a:endCxn id="204" idx="0"/>
          </p:cNvCxnSpPr>
          <p:nvPr/>
        </p:nvCxnSpPr>
        <p:spPr>
          <a:xfrm>
            <a:off x="3352320" y="5410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3" idx="4"/>
            <a:endCxn id="205" idx="0"/>
          </p:cNvCxnSpPr>
          <p:nvPr/>
        </p:nvCxnSpPr>
        <p:spPr>
          <a:xfrm>
            <a:off x="4038120" y="5410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09" idx="4"/>
            <a:endCxn id="211" idx="0"/>
          </p:cNvCxnSpPr>
          <p:nvPr/>
        </p:nvCxnSpPr>
        <p:spPr>
          <a:xfrm>
            <a:off x="5105160" y="5410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11" idx="6"/>
            <a:endCxn id="212" idx="2"/>
          </p:cNvCxnSpPr>
          <p:nvPr/>
        </p:nvCxnSpPr>
        <p:spPr>
          <a:xfrm>
            <a:off x="5257800" y="6019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0" idx="4"/>
            <a:endCxn id="212" idx="0"/>
          </p:cNvCxnSpPr>
          <p:nvPr/>
        </p:nvCxnSpPr>
        <p:spPr>
          <a:xfrm>
            <a:off x="5790960" y="5410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678168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7" idx="4"/>
            <a:endCxn id="219" idx="0"/>
          </p:cNvCxnSpPr>
          <p:nvPr/>
        </p:nvCxnSpPr>
        <p:spPr>
          <a:xfrm>
            <a:off x="7619760" y="5410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7" idx="3"/>
            <a:endCxn id="218" idx="7"/>
          </p:cNvCxnSpPr>
          <p:nvPr/>
        </p:nvCxnSpPr>
        <p:spPr>
          <a:xfrm flipH="1">
            <a:off x="7041600" y="536544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6" idx="5"/>
            <a:endCxn id="219" idx="1"/>
          </p:cNvCxnSpPr>
          <p:nvPr/>
        </p:nvCxnSpPr>
        <p:spPr>
          <a:xfrm>
            <a:off x="7041960" y="536544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60020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5105520"/>
            <a:ext cx="304920" cy="30456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5867280"/>
            <a:ext cx="304920" cy="30492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3" idx="6"/>
            <a:endCxn id="224" idx="2"/>
          </p:cNvCxnSpPr>
          <p:nvPr/>
        </p:nvCxnSpPr>
        <p:spPr>
          <a:xfrm>
            <a:off x="1905120" y="52574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5" idx="6"/>
            <a:endCxn id="226" idx="2"/>
          </p:cNvCxnSpPr>
          <p:nvPr/>
        </p:nvCxnSpPr>
        <p:spPr>
          <a:xfrm>
            <a:off x="1905120" y="6019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3" idx="5"/>
            <a:endCxn id="226" idx="1"/>
          </p:cNvCxnSpPr>
          <p:nvPr/>
        </p:nvCxnSpPr>
        <p:spPr>
          <a:xfrm>
            <a:off x="1860120" y="536544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 rot="5593800">
            <a:off x="3956760" y="43416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486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457200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panning Trees from Grap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27432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286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ann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69960" y="498600"/>
            <a:ext cx="725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27432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27432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3505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5053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8" idx="6"/>
            <a:endCxn id="239" idx="2"/>
          </p:cNvCxnSpPr>
          <p:nvPr/>
        </p:nvCxnSpPr>
        <p:spPr>
          <a:xfrm>
            <a:off x="837720" y="28951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8" idx="4"/>
            <a:endCxn id="240" idx="0"/>
          </p:cNvCxnSpPr>
          <p:nvPr/>
        </p:nvCxnSpPr>
        <p:spPr>
          <a:xfrm>
            <a:off x="685440" y="3048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40" idx="6"/>
            <a:endCxn id="241" idx="2"/>
          </p:cNvCxnSpPr>
          <p:nvPr/>
        </p:nvCxnSpPr>
        <p:spPr>
          <a:xfrm>
            <a:off x="837720" y="36572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9" idx="4"/>
            <a:endCxn id="241" idx="0"/>
          </p:cNvCxnSpPr>
          <p:nvPr/>
        </p:nvCxnSpPr>
        <p:spPr>
          <a:xfrm>
            <a:off x="1371240" y="3048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9" idx="3"/>
            <a:endCxn id="240" idx="7"/>
          </p:cNvCxnSpPr>
          <p:nvPr/>
        </p:nvCxnSpPr>
        <p:spPr>
          <a:xfrm flipH="1">
            <a:off x="793080" y="30031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8" idx="5"/>
            <a:endCxn id="241" idx="1"/>
          </p:cNvCxnSpPr>
          <p:nvPr/>
        </p:nvCxnSpPr>
        <p:spPr>
          <a:xfrm>
            <a:off x="793440" y="30031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2590920" y="685800"/>
            <a:ext cx="30456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85800"/>
            <a:ext cx="30456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1447920"/>
            <a:ext cx="304560" cy="304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1447920"/>
            <a:ext cx="304560" cy="304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8" idx="6"/>
            <a:endCxn id="249" idx="2"/>
          </p:cNvCxnSpPr>
          <p:nvPr/>
        </p:nvCxnSpPr>
        <p:spPr>
          <a:xfrm>
            <a:off x="2895120" y="8377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8" idx="4"/>
            <a:endCxn id="250" idx="0"/>
          </p:cNvCxnSpPr>
          <p:nvPr/>
        </p:nvCxnSpPr>
        <p:spPr>
          <a:xfrm>
            <a:off x="2742840" y="990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9" idx="4"/>
            <a:endCxn id="251" idx="0"/>
          </p:cNvCxnSpPr>
          <p:nvPr/>
        </p:nvCxnSpPr>
        <p:spPr>
          <a:xfrm>
            <a:off x="3428640" y="990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172200" y="68580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0" y="68580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1447920"/>
            <a:ext cx="304920" cy="304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1447920"/>
            <a:ext cx="304920" cy="304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4"/>
            <a:endCxn id="257" idx="0"/>
          </p:cNvCxnSpPr>
          <p:nvPr/>
        </p:nvCxnSpPr>
        <p:spPr>
          <a:xfrm>
            <a:off x="6324120" y="990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7" idx="6"/>
            <a:endCxn id="258" idx="2"/>
          </p:cNvCxnSpPr>
          <p:nvPr/>
        </p:nvCxnSpPr>
        <p:spPr>
          <a:xfrm>
            <a:off x="6477120" y="15998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6" idx="4"/>
            <a:endCxn id="258" idx="0"/>
          </p:cNvCxnSpPr>
          <p:nvPr/>
        </p:nvCxnSpPr>
        <p:spPr>
          <a:xfrm>
            <a:off x="7009920" y="990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2670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16 of its Spanning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685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685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1447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14479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4" idx="6"/>
            <a:endCxn id="265" idx="2"/>
          </p:cNvCxnSpPr>
          <p:nvPr/>
        </p:nvCxnSpPr>
        <p:spPr>
          <a:xfrm>
            <a:off x="4723920" y="8377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4" idx="4"/>
            <a:endCxn id="266" idx="0"/>
          </p:cNvCxnSpPr>
          <p:nvPr/>
        </p:nvCxnSpPr>
        <p:spPr>
          <a:xfrm>
            <a:off x="4571640" y="990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/>
          <p:nvPr/>
        </p:nvCxnSpPr>
        <p:spPr>
          <a:xfrm>
            <a:off x="4723920" y="15998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7924680" y="6858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10480" y="6858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924680" y="1447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610480" y="1447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2" idx="2"/>
          </p:cNvCxnSpPr>
          <p:nvPr/>
        </p:nvCxnSpPr>
        <p:spPr>
          <a:xfrm>
            <a:off x="8229600" y="8377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"/>
          <p:cNvCxnSpPr/>
          <p:nvPr/>
        </p:nvCxnSpPr>
        <p:spPr>
          <a:xfrm>
            <a:off x="8762760" y="990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/>
          <p:nvPr/>
        </p:nvCxnSpPr>
        <p:spPr>
          <a:xfrm>
            <a:off x="8229600" y="15998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2590920" y="22096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22096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97180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8" idx="6"/>
            <a:endCxn id="279" idx="2"/>
          </p:cNvCxnSpPr>
          <p:nvPr/>
        </p:nvCxnSpPr>
        <p:spPr>
          <a:xfrm>
            <a:off x="2895120" y="23619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9" idx="3"/>
            <a:endCxn id="280" idx="7"/>
          </p:cNvCxnSpPr>
          <p:nvPr/>
        </p:nvCxnSpPr>
        <p:spPr>
          <a:xfrm flipH="1">
            <a:off x="285048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78" idx="5"/>
            <a:endCxn id="281" idx="1"/>
          </p:cNvCxnSpPr>
          <p:nvPr/>
        </p:nvCxnSpPr>
        <p:spPr>
          <a:xfrm>
            <a:off x="285084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5" name=""/>
          <p:cNvSpPr/>
          <p:nvPr/>
        </p:nvSpPr>
        <p:spPr>
          <a:xfrm>
            <a:off x="2590920" y="3809880"/>
            <a:ext cx="30456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809880"/>
            <a:ext cx="30456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4572000"/>
            <a:ext cx="30456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4572000"/>
            <a:ext cx="30456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5" idx="4"/>
            <a:endCxn id="287" idx="0"/>
          </p:cNvCxnSpPr>
          <p:nvPr/>
        </p:nvCxnSpPr>
        <p:spPr>
          <a:xfrm>
            <a:off x="2742840" y="4114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" name=""/>
          <p:cNvCxnSpPr>
            <a:stCxn id="286" idx="4"/>
            <a:endCxn id="288" idx="0"/>
          </p:cNvCxnSpPr>
          <p:nvPr/>
        </p:nvCxnSpPr>
        <p:spPr>
          <a:xfrm>
            <a:off x="3428640" y="4114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85" idx="5"/>
            <a:endCxn id="288" idx="1"/>
          </p:cNvCxnSpPr>
          <p:nvPr/>
        </p:nvCxnSpPr>
        <p:spPr>
          <a:xfrm>
            <a:off x="2850840" y="40705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7924680" y="22096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10480" y="22096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24680" y="29718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10480" y="29718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3" idx="4"/>
            <a:endCxn id="295" idx="0"/>
          </p:cNvCxnSpPr>
          <p:nvPr/>
        </p:nvCxnSpPr>
        <p:spPr>
          <a:xfrm>
            <a:off x="8762760" y="25146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93" idx="3"/>
            <a:endCxn id="294" idx="7"/>
          </p:cNvCxnSpPr>
          <p:nvPr/>
        </p:nvCxnSpPr>
        <p:spPr>
          <a:xfrm flipH="1">
            <a:off x="818460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2" idx="5"/>
            <a:endCxn id="295" idx="1"/>
          </p:cNvCxnSpPr>
          <p:nvPr/>
        </p:nvCxnSpPr>
        <p:spPr>
          <a:xfrm>
            <a:off x="818496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6172200" y="22096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0" y="22096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29718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29718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1" idx="6"/>
            <a:endCxn id="302" idx="2"/>
          </p:cNvCxnSpPr>
          <p:nvPr/>
        </p:nvCxnSpPr>
        <p:spPr>
          <a:xfrm>
            <a:off x="6477120" y="31237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0" idx="3"/>
            <a:endCxn id="301" idx="7"/>
          </p:cNvCxnSpPr>
          <p:nvPr/>
        </p:nvCxnSpPr>
        <p:spPr>
          <a:xfrm flipH="1">
            <a:off x="643176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9" idx="5"/>
            <a:endCxn id="302" idx="1"/>
          </p:cNvCxnSpPr>
          <p:nvPr/>
        </p:nvCxnSpPr>
        <p:spPr>
          <a:xfrm>
            <a:off x="643212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4419720" y="220968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220968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29718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6" idx="4"/>
            <a:endCxn id="308" idx="0"/>
          </p:cNvCxnSpPr>
          <p:nvPr/>
        </p:nvCxnSpPr>
        <p:spPr>
          <a:xfrm>
            <a:off x="4571640" y="25146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7" idx="3"/>
            <a:endCxn id="308" idx="7"/>
          </p:cNvCxnSpPr>
          <p:nvPr/>
        </p:nvCxnSpPr>
        <p:spPr>
          <a:xfrm flipH="1">
            <a:off x="467928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6" idx="5"/>
            <a:endCxn id="309" idx="1"/>
          </p:cNvCxnSpPr>
          <p:nvPr/>
        </p:nvCxnSpPr>
        <p:spPr>
          <a:xfrm>
            <a:off x="4679640" y="24703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924680" y="3809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10480" y="3809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924680" y="45720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0480" y="45720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6"/>
            <a:endCxn id="314" idx="2"/>
          </p:cNvCxnSpPr>
          <p:nvPr/>
        </p:nvCxnSpPr>
        <p:spPr>
          <a:xfrm>
            <a:off x="8229600" y="39621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15" idx="6"/>
            <a:endCxn id="316" idx="2"/>
          </p:cNvCxnSpPr>
          <p:nvPr/>
        </p:nvCxnSpPr>
        <p:spPr>
          <a:xfrm>
            <a:off x="8229600" y="47239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3" idx="5"/>
            <a:endCxn id="316" idx="1"/>
          </p:cNvCxnSpPr>
          <p:nvPr/>
        </p:nvCxnSpPr>
        <p:spPr>
          <a:xfrm>
            <a:off x="8184960" y="40705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6172200" y="380988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80988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457200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4572000"/>
            <a:ext cx="304920" cy="30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4"/>
            <a:endCxn id="322" idx="0"/>
          </p:cNvCxnSpPr>
          <p:nvPr/>
        </p:nvCxnSpPr>
        <p:spPr>
          <a:xfrm>
            <a:off x="6324120" y="4114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21" idx="4"/>
            <a:endCxn id="323" idx="0"/>
          </p:cNvCxnSpPr>
          <p:nvPr/>
        </p:nvCxnSpPr>
        <p:spPr>
          <a:xfrm>
            <a:off x="7009920" y="41148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3"/>
            <a:endCxn id="322" idx="7"/>
          </p:cNvCxnSpPr>
          <p:nvPr/>
        </p:nvCxnSpPr>
        <p:spPr>
          <a:xfrm flipH="1">
            <a:off x="6431760" y="40705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38098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4572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7" idx="6"/>
            <a:endCxn id="328" idx="2"/>
          </p:cNvCxnSpPr>
          <p:nvPr/>
        </p:nvCxnSpPr>
        <p:spPr>
          <a:xfrm>
            <a:off x="4723920" y="39621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30" idx="2"/>
          </p:cNvCxnSpPr>
          <p:nvPr/>
        </p:nvCxnSpPr>
        <p:spPr>
          <a:xfrm>
            <a:off x="4723920" y="47239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3"/>
            <a:endCxn id="329" idx="7"/>
          </p:cNvCxnSpPr>
          <p:nvPr/>
        </p:nvCxnSpPr>
        <p:spPr>
          <a:xfrm flipH="1">
            <a:off x="4679280" y="40705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2590920" y="54100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54100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617220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617220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4" idx="6"/>
            <a:endCxn id="335" idx="2"/>
          </p:cNvCxnSpPr>
          <p:nvPr/>
        </p:nvCxnSpPr>
        <p:spPr>
          <a:xfrm>
            <a:off x="2895120" y="55623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4" idx="4"/>
            <a:endCxn id="336" idx="0"/>
          </p:cNvCxnSpPr>
          <p:nvPr/>
        </p:nvCxnSpPr>
        <p:spPr>
          <a:xfrm>
            <a:off x="2742840" y="5715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4" idx="5"/>
            <a:endCxn id="337" idx="1"/>
          </p:cNvCxnSpPr>
          <p:nvPr/>
        </p:nvCxnSpPr>
        <p:spPr>
          <a:xfrm>
            <a:off x="2850840" y="56707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7924680" y="54100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610480" y="541008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24680" y="61722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10480" y="6172200"/>
            <a:ext cx="30492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1" idx="6"/>
            <a:endCxn id="342" idx="2"/>
          </p:cNvCxnSpPr>
          <p:nvPr/>
        </p:nvCxnSpPr>
        <p:spPr>
          <a:xfrm>
            <a:off x="8229600" y="55623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42" idx="4"/>
            <a:endCxn id="344" idx="0"/>
          </p:cNvCxnSpPr>
          <p:nvPr/>
        </p:nvCxnSpPr>
        <p:spPr>
          <a:xfrm>
            <a:off x="8762760" y="5715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42" idx="3"/>
            <a:endCxn id="343" idx="7"/>
          </p:cNvCxnSpPr>
          <p:nvPr/>
        </p:nvCxnSpPr>
        <p:spPr>
          <a:xfrm flipH="1">
            <a:off x="8184600" y="56707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6172200" y="54100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54100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6172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0" y="6172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0" idx="6"/>
            <a:endCxn id="351" idx="2"/>
          </p:cNvCxnSpPr>
          <p:nvPr/>
        </p:nvCxnSpPr>
        <p:spPr>
          <a:xfrm>
            <a:off x="6477120" y="63241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49" idx="4"/>
            <a:endCxn id="351" idx="0"/>
          </p:cNvCxnSpPr>
          <p:nvPr/>
        </p:nvCxnSpPr>
        <p:spPr>
          <a:xfrm>
            <a:off x="7009920" y="5715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48" idx="5"/>
            <a:endCxn id="351" idx="1"/>
          </p:cNvCxnSpPr>
          <p:nvPr/>
        </p:nvCxnSpPr>
        <p:spPr>
          <a:xfrm>
            <a:off x="6432120" y="56707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419720" y="541008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61722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6172200"/>
            <a:ext cx="304560" cy="304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5" idx="4"/>
            <a:endCxn id="357" idx="0"/>
          </p:cNvCxnSpPr>
          <p:nvPr/>
        </p:nvCxnSpPr>
        <p:spPr>
          <a:xfrm>
            <a:off x="4571640" y="5715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8" idx="2"/>
          </p:cNvCxnSpPr>
          <p:nvPr/>
        </p:nvCxnSpPr>
        <p:spPr>
          <a:xfrm>
            <a:off x="4723920" y="63241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3"/>
            <a:endCxn id="357" idx="7"/>
          </p:cNvCxnSpPr>
          <p:nvPr/>
        </p:nvCxnSpPr>
        <p:spPr>
          <a:xfrm flipH="1">
            <a:off x="4679280" y="5670720"/>
            <a:ext cx="470520" cy="54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21337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Spanning Tree Construc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nown = { start }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covered = { start }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ile ( Discovere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ke nod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ut of Discove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each success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not in Know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ent[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] =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Discover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Know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Narrow"/>
              </a:rPr>
              <a:t>Recursive Spanning Tree Construction</a:t>
            </a:r>
            <a:endParaRPr b="1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nown = { start }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plore ( start );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oid explore (Node X)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r each success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not in Know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rent[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] =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Know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lore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62120" y="21276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inimum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anning Trees M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12193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ST for a given graph is a Spanning Tree of minimum cost for tha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403848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403848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533412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0920" y="533412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69" idx="6"/>
            <a:endCxn id="370" idx="2"/>
          </p:cNvCxnSpPr>
          <p:nvPr/>
        </p:nvCxnSpPr>
        <p:spPr>
          <a:xfrm>
            <a:off x="1447560" y="42667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9" idx="4"/>
            <a:endCxn id="371" idx="0"/>
          </p:cNvCxnSpPr>
          <p:nvPr/>
        </p:nvCxnSpPr>
        <p:spPr>
          <a:xfrm>
            <a:off x="1218960" y="44953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71" idx="6"/>
            <a:endCxn id="372" idx="2"/>
          </p:cNvCxnSpPr>
          <p:nvPr/>
        </p:nvCxnSpPr>
        <p:spPr>
          <a:xfrm>
            <a:off x="1447560" y="55623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70" idx="4"/>
            <a:endCxn id="372" idx="0"/>
          </p:cNvCxnSpPr>
          <p:nvPr/>
        </p:nvCxnSpPr>
        <p:spPr>
          <a:xfrm>
            <a:off x="2819160" y="44953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70" idx="3"/>
            <a:endCxn id="371" idx="7"/>
          </p:cNvCxnSpPr>
          <p:nvPr/>
        </p:nvCxnSpPr>
        <p:spPr>
          <a:xfrm flipH="1">
            <a:off x="1380960" y="4428720"/>
            <a:ext cx="1276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9" idx="5"/>
            <a:endCxn id="372" idx="1"/>
          </p:cNvCxnSpPr>
          <p:nvPr/>
        </p:nvCxnSpPr>
        <p:spPr>
          <a:xfrm>
            <a:off x="1380960" y="4428720"/>
            <a:ext cx="1276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99180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62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128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6200" y="5486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2060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7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15200" y="403848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533412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315200" y="5334120"/>
            <a:ext cx="457200" cy="457200"/>
          </a:xfrm>
          <a:prstGeom prst="ellipse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7" idx="6"/>
            <a:endCxn id="388" idx="2"/>
          </p:cNvCxnSpPr>
          <p:nvPr/>
        </p:nvCxnSpPr>
        <p:spPr>
          <a:xfrm>
            <a:off x="6171840" y="55623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86" idx="4"/>
            <a:endCxn id="388" idx="0"/>
          </p:cNvCxnSpPr>
          <p:nvPr/>
        </p:nvCxnSpPr>
        <p:spPr>
          <a:xfrm>
            <a:off x="7543440" y="44953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5" idx="5"/>
            <a:endCxn id="388" idx="1"/>
          </p:cNvCxnSpPr>
          <p:nvPr/>
        </p:nvCxnSpPr>
        <p:spPr>
          <a:xfrm>
            <a:off x="6105240" y="4428720"/>
            <a:ext cx="127656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632556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30480" y="5486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488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14040" y="335268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4000" y="3276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1143000"/>
          <a:ext cx="914400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04920" y="228600"/>
            <a:ext cx="8381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Dijkstra’s shortest path algorith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580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gorithms for Obtaining the M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7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BFS (non-weighted graph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7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DFS (non-weighted graph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70000"/>
              </a:lnSpc>
              <a:spcBef>
                <a:spcPts val="21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Greedy algorithms (weighted graphs) :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20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ruskal's Algorith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20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im's Algorith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200000"/>
              </a:lnSpc>
              <a:spcBef>
                <a:spcPts val="21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oruvka's Algorith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2286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ruskal's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4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1295280"/>
            <a:ext cx="746748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lgorithm creates a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rees. Initially the forest consists of n single node trees (and no edges). At each step, we add one edge (the cheapest one) so that it joins two trees together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 were to form a cycle, it would simply link two nodes that were already part of a single connected tree, so that this edge would not be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914400" y="1143000"/>
            <a:ext cx="746748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forest is constructed - with each node in a separate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dges are placed in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iority que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we've add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dg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xtract the cheapest edge from the que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it forms a cycle, reject 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lse add it to the forest. Adding it to the forest will join two tre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ep will have joined two trees in the forest together, so that at the end, there will only be one tree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one edge not in MST will create a cyc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2286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ruskal's Algorithm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5" idx="6"/>
            <a:endCxn id="406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5" idx="3"/>
            <a:endCxn id="410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410" idx="5"/>
            <a:endCxn id="411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1" idx="7"/>
            <a:endCxn id="413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2" idx="3"/>
            <a:endCxn id="413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09" idx="4"/>
            <a:endCxn id="413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05" idx="4"/>
            <a:endCxn id="411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06" idx="3"/>
            <a:endCxn id="409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06" idx="4"/>
            <a:endCxn id="412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11" idx="6"/>
            <a:endCxn id="423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11" idx="2"/>
            <a:endCxn id="424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10" idx="1"/>
            <a:endCxn id="425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3" idx="1"/>
            <a:endCxn id="413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12" idx="4"/>
            <a:endCxn id="423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5" idx="7"/>
            <a:endCxn id="405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10" idx="4"/>
            <a:endCxn id="424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9" idx="6"/>
            <a:endCxn id="460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3" idx="6"/>
            <a:endCxn id="464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>
            <a:stCxn id="467" idx="6"/>
            <a:endCxn id="468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1" idx="6"/>
            <a:endCxn id="472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>
            <a:stCxn id="475" idx="6"/>
            <a:endCxn id="476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6"/>
            <a:endCxn id="480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3" idx="6"/>
            <a:endCxn id="484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87" idx="6"/>
            <a:endCxn id="488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7773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1" idx="6"/>
            <a:endCxn id="492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1" idx="3"/>
            <a:endCxn id="496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1" name=""/>
          <p:cNvCxnSpPr>
            <a:stCxn id="496" idx="5"/>
            <a:endCxn id="497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" name=""/>
          <p:cNvCxnSpPr>
            <a:stCxn id="497" idx="7"/>
            <a:endCxn id="499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3" name=""/>
          <p:cNvCxnSpPr>
            <a:stCxn id="498" idx="3"/>
            <a:endCxn id="499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4" name=""/>
          <p:cNvCxnSpPr>
            <a:stCxn id="495" idx="4"/>
            <a:endCxn id="499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5" name=""/>
          <p:cNvCxnSpPr>
            <a:stCxn id="491" idx="4"/>
            <a:endCxn id="497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6" name=""/>
          <p:cNvCxnSpPr>
            <a:stCxn id="492" idx="3"/>
            <a:endCxn id="495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7" name=""/>
          <p:cNvCxnSpPr>
            <a:stCxn id="492" idx="4"/>
            <a:endCxn id="498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8" idx="6"/>
            <a:endCxn id="509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6"/>
            <a:endCxn id="513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" name=""/>
          <p:cNvCxnSpPr>
            <a:stCxn id="516" idx="6"/>
            <a:endCxn id="517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5486760" y="2057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0" idx="6"/>
            <a:endCxn id="521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4" idx="6"/>
            <a:endCxn id="525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8" idx="6"/>
            <a:endCxn id="529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2" idx="6"/>
            <a:endCxn id="533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6" idx="6"/>
            <a:endCxn id="537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497" idx="6"/>
            <a:endCxn id="541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5" name=""/>
          <p:cNvCxnSpPr>
            <a:stCxn id="497" idx="2"/>
            <a:endCxn id="542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6" name=""/>
          <p:cNvCxnSpPr>
            <a:stCxn id="496" idx="1"/>
            <a:endCxn id="543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7" name=""/>
          <p:cNvCxnSpPr>
            <a:stCxn id="541" idx="1"/>
            <a:endCxn id="499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8" name=""/>
          <p:cNvCxnSpPr>
            <a:stCxn id="498" idx="4"/>
            <a:endCxn id="541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9" name=""/>
          <p:cNvCxnSpPr>
            <a:stCxn id="543" idx="7"/>
            <a:endCxn id="491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936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503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536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936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5012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503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612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50120" y="2819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35960" y="2133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4996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36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5363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49960" y="3581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5760" y="3581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9760" y="43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5760" y="4343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503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35600" y="43434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50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535960" y="5105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35400" y="5867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496" idx="4"/>
            <a:endCxn id="542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08" idx="6"/>
            <a:endCxn id="60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2" idx="6"/>
            <a:endCxn id="61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6" idx="6"/>
            <a:endCxn id="61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20" idx="6"/>
            <a:endCxn id="62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6" name=""/>
          <p:cNvCxnSpPr>
            <a:stCxn id="624" idx="6"/>
            <a:endCxn id="62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8" idx="6"/>
            <a:endCxn id="62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2" idx="6"/>
            <a:endCxn id="63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63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2" idx="3"/>
            <a:endCxn id="63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2" name=""/>
          <p:cNvCxnSpPr>
            <a:stCxn id="637" idx="5"/>
            <a:endCxn id="63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3" name=""/>
          <p:cNvCxnSpPr>
            <a:stCxn id="638" idx="7"/>
            <a:endCxn id="64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4" name=""/>
          <p:cNvCxnSpPr>
            <a:stCxn id="639" idx="3"/>
            <a:endCxn id="64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5" name=""/>
          <p:cNvCxnSpPr>
            <a:stCxn id="636" idx="4"/>
            <a:endCxn id="64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6" name=""/>
          <p:cNvCxnSpPr>
            <a:stCxn id="632" idx="4"/>
            <a:endCxn id="63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7" name=""/>
          <p:cNvCxnSpPr>
            <a:stCxn id="633" idx="3"/>
            <a:endCxn id="63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48" name=""/>
          <p:cNvCxnSpPr>
            <a:stCxn id="633" idx="4"/>
            <a:endCxn id="63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stCxn id="649" idx="6"/>
            <a:endCxn id="65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5" name=""/>
          <p:cNvCxnSpPr>
            <a:stCxn id="653" idx="6"/>
            <a:endCxn id="65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9" name=""/>
          <p:cNvCxnSpPr>
            <a:stCxn id="657" idx="6"/>
            <a:endCxn id="65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61" idx="6"/>
            <a:endCxn id="66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stCxn id="665" idx="6"/>
            <a:endCxn id="66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9" idx="6"/>
            <a:endCxn id="67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>
            <a:stCxn id="673" idx="6"/>
            <a:endCxn id="67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38" idx="6"/>
            <a:endCxn id="6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82" name=""/>
          <p:cNvCxnSpPr>
            <a:stCxn id="638" idx="2"/>
            <a:endCxn id="6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83" name=""/>
          <p:cNvCxnSpPr>
            <a:stCxn id="637" idx="1"/>
            <a:endCxn id="6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84" name=""/>
          <p:cNvCxnSpPr>
            <a:stCxn id="678" idx="1"/>
            <a:endCxn id="64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85" name=""/>
          <p:cNvCxnSpPr>
            <a:stCxn id="639" idx="4"/>
            <a:endCxn id="6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686" name=""/>
          <p:cNvCxnSpPr>
            <a:stCxn id="680" idx="7"/>
            <a:endCxn id="63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6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637" idx="4"/>
            <a:endCxn id="6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9" idx="6"/>
            <a:endCxn id="74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5" idx="6"/>
            <a:endCxn id="74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3" name=""/>
          <p:cNvCxnSpPr>
            <a:stCxn id="751" idx="6"/>
            <a:endCxn id="75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457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Ed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0" name=""/>
          <p:cNvCxnSpPr>
            <a:stCxn id="758" idx="6"/>
            <a:endCxn id="75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2" idx="6"/>
            <a:endCxn id="76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8" name=""/>
          <p:cNvCxnSpPr>
            <a:stCxn id="766" idx="6"/>
            <a:endCxn id="76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70" idx="6"/>
            <a:endCxn id="77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4" idx="6"/>
            <a:endCxn id="77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78" idx="6"/>
            <a:endCxn id="77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2" idx="6"/>
            <a:endCxn id="7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82" idx="3"/>
            <a:endCxn id="7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2" name=""/>
          <p:cNvCxnSpPr>
            <a:stCxn id="787" idx="5"/>
            <a:endCxn id="7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3" name=""/>
          <p:cNvCxnSpPr>
            <a:stCxn id="788" idx="7"/>
            <a:endCxn id="7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4" name=""/>
          <p:cNvCxnSpPr>
            <a:stCxn id="789" idx="3"/>
            <a:endCxn id="7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5" name=""/>
          <p:cNvCxnSpPr>
            <a:stCxn id="786" idx="4"/>
            <a:endCxn id="7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6" name=""/>
          <p:cNvCxnSpPr>
            <a:stCxn id="782" idx="4"/>
            <a:endCxn id="7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7" name=""/>
          <p:cNvCxnSpPr>
            <a:stCxn id="783" idx="3"/>
            <a:endCxn id="7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798" name=""/>
          <p:cNvCxnSpPr>
            <a:stCxn id="783" idx="4"/>
            <a:endCxn id="7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9" idx="6"/>
            <a:endCxn id="80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803" idx="6"/>
            <a:endCxn id="80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7" idx="6"/>
            <a:endCxn id="80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1" idx="6"/>
            <a:endCxn id="81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15" idx="6"/>
            <a:endCxn id="81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1" name=""/>
          <p:cNvCxnSpPr>
            <a:stCxn id="819" idx="6"/>
            <a:endCxn id="82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23" idx="6"/>
            <a:endCxn id="82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88" idx="6"/>
            <a:endCxn id="8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832" name=""/>
          <p:cNvCxnSpPr>
            <a:stCxn id="788" idx="2"/>
            <a:endCxn id="8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833" name=""/>
          <p:cNvCxnSpPr>
            <a:stCxn id="787" idx="1"/>
            <a:endCxn id="8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4" name=""/>
          <p:cNvCxnSpPr>
            <a:stCxn id="828" idx="1"/>
            <a:endCxn id="7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835" name=""/>
          <p:cNvCxnSpPr>
            <a:stCxn id="789" idx="4"/>
            <a:endCxn id="8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836" name=""/>
          <p:cNvCxnSpPr>
            <a:stCxn id="830" idx="7"/>
            <a:endCxn id="7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8" name=""/>
          <p:cNvCxnSpPr>
            <a:stCxn id="787" idx="4"/>
            <a:endCxn id="8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9" idx="6"/>
            <a:endCxn id="89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5" idx="6"/>
            <a:endCxn id="89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3" name=""/>
          <p:cNvCxnSpPr>
            <a:stCxn id="901" idx="6"/>
            <a:endCxn id="90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0" name=""/>
          <p:cNvCxnSpPr>
            <a:stCxn id="908" idx="6"/>
            <a:endCxn id="90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12" idx="6"/>
            <a:endCxn id="91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8" name=""/>
          <p:cNvCxnSpPr>
            <a:stCxn id="916" idx="6"/>
            <a:endCxn id="91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2" name=""/>
          <p:cNvCxnSpPr>
            <a:stCxn id="920" idx="6"/>
            <a:endCxn id="92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6" name=""/>
          <p:cNvCxnSpPr>
            <a:stCxn id="924" idx="6"/>
            <a:endCxn id="92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0" name=""/>
          <p:cNvCxnSpPr>
            <a:stCxn id="928" idx="6"/>
            <a:endCxn id="92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32" idx="6"/>
            <a:endCxn id="93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2" idx="3"/>
            <a:endCxn id="93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2" name=""/>
          <p:cNvCxnSpPr>
            <a:stCxn id="937" idx="5"/>
            <a:endCxn id="93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3" name=""/>
          <p:cNvCxnSpPr>
            <a:stCxn id="938" idx="7"/>
            <a:endCxn id="94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4" name=""/>
          <p:cNvCxnSpPr>
            <a:stCxn id="939" idx="3"/>
            <a:endCxn id="94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5" name=""/>
          <p:cNvCxnSpPr>
            <a:stCxn id="936" idx="4"/>
            <a:endCxn id="94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6" name=""/>
          <p:cNvCxnSpPr>
            <a:stCxn id="932" idx="4"/>
            <a:endCxn id="93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7" name=""/>
          <p:cNvCxnSpPr>
            <a:stCxn id="933" idx="3"/>
            <a:endCxn id="93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48" name=""/>
          <p:cNvCxnSpPr>
            <a:stCxn id="933" idx="4"/>
            <a:endCxn id="93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1" name=""/>
          <p:cNvCxnSpPr>
            <a:stCxn id="949" idx="6"/>
            <a:endCxn id="95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53" idx="6"/>
            <a:endCxn id="95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7" idx="6"/>
            <a:endCxn id="95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3" name=""/>
          <p:cNvCxnSpPr>
            <a:stCxn id="961" idx="6"/>
            <a:endCxn id="96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7" name=""/>
          <p:cNvCxnSpPr>
            <a:stCxn id="965" idx="6"/>
            <a:endCxn id="96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69" idx="6"/>
            <a:endCxn id="97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73" idx="6"/>
            <a:endCxn id="97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38" idx="6"/>
            <a:endCxn id="9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82" name=""/>
          <p:cNvCxnSpPr>
            <a:stCxn id="938" idx="2"/>
            <a:endCxn id="9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83" name=""/>
          <p:cNvCxnSpPr>
            <a:stCxn id="937" idx="1"/>
            <a:endCxn id="9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78" idx="1"/>
            <a:endCxn id="94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85" name=""/>
          <p:cNvCxnSpPr>
            <a:stCxn id="939" idx="4"/>
            <a:endCxn id="9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986" name=""/>
          <p:cNvCxnSpPr>
            <a:stCxn id="980" idx="7"/>
            <a:endCxn id="93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937" idx="4"/>
            <a:endCxn id="9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39" idx="6"/>
            <a:endCxn id="104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04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7" name=""/>
          <p:cNvCxnSpPr>
            <a:stCxn id="1045" idx="6"/>
            <a:endCxn id="104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3" name=""/>
          <p:cNvCxnSpPr>
            <a:stCxn id="1051" idx="6"/>
            <a:endCxn id="105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stCxn id="1058" idx="6"/>
            <a:endCxn id="105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06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4" name=""/>
          <p:cNvCxnSpPr>
            <a:stCxn id="1062" idx="6"/>
            <a:endCxn id="106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stCxn id="1066" idx="6"/>
            <a:endCxn id="106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6" name=""/>
          <p:cNvCxnSpPr>
            <a:stCxn id="1074" idx="6"/>
            <a:endCxn id="107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0" name=""/>
          <p:cNvCxnSpPr>
            <a:stCxn id="1078" idx="6"/>
            <a:endCxn id="107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4" name=""/>
          <p:cNvCxnSpPr>
            <a:stCxn id="1082" idx="6"/>
            <a:endCxn id="10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0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stCxn id="1082" idx="3"/>
            <a:endCxn id="10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092" name=""/>
          <p:cNvCxnSpPr>
            <a:stCxn id="1087" idx="5"/>
            <a:endCxn id="10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093" name=""/>
          <p:cNvCxnSpPr>
            <a:stCxn id="1088" idx="7"/>
            <a:endCxn id="10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094" name=""/>
          <p:cNvCxnSpPr>
            <a:stCxn id="1089" idx="3"/>
            <a:endCxn id="10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095" name=""/>
          <p:cNvCxnSpPr>
            <a:stCxn id="1086" idx="4"/>
            <a:endCxn id="10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096" name=""/>
          <p:cNvCxnSpPr>
            <a:stCxn id="1082" idx="4"/>
            <a:endCxn id="10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097" name=""/>
          <p:cNvCxnSpPr>
            <a:stCxn id="1083" idx="3"/>
            <a:endCxn id="10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83" idx="4"/>
            <a:endCxn id="10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099" idx="6"/>
            <a:endCxn id="110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5" name=""/>
          <p:cNvCxnSpPr>
            <a:stCxn id="1103" idx="6"/>
            <a:endCxn id="110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9" name=""/>
          <p:cNvCxnSpPr>
            <a:stCxn id="1107" idx="6"/>
            <a:endCxn id="110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stCxn id="1111" idx="6"/>
            <a:endCxn id="111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7" name=""/>
          <p:cNvCxnSpPr>
            <a:stCxn id="1115" idx="6"/>
            <a:endCxn id="111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1" name=""/>
          <p:cNvCxnSpPr>
            <a:stCxn id="1119" idx="6"/>
            <a:endCxn id="112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5" name=""/>
          <p:cNvCxnSpPr>
            <a:stCxn id="1123" idx="6"/>
            <a:endCxn id="112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1" name=""/>
          <p:cNvCxnSpPr>
            <a:stCxn id="1088" idx="6"/>
            <a:endCxn id="11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132" name=""/>
          <p:cNvCxnSpPr>
            <a:stCxn id="1088" idx="2"/>
            <a:endCxn id="11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133" name=""/>
          <p:cNvCxnSpPr>
            <a:stCxn id="1087" idx="1"/>
            <a:endCxn id="11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128" idx="1"/>
            <a:endCxn id="10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135" name=""/>
          <p:cNvCxnSpPr>
            <a:stCxn id="1089" idx="4"/>
            <a:endCxn id="11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136" name=""/>
          <p:cNvCxnSpPr>
            <a:stCxn id="1130" idx="7"/>
            <a:endCxn id="10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1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>
            <a:stCxn id="1087" idx="4"/>
            <a:endCxn id="11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1" name=""/>
          <p:cNvCxnSpPr>
            <a:stCxn id="1189" idx="6"/>
            <a:endCxn id="119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7" name=""/>
          <p:cNvCxnSpPr>
            <a:stCxn id="1195" idx="6"/>
            <a:endCxn id="119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3" name=""/>
          <p:cNvCxnSpPr>
            <a:stCxn id="1201" idx="6"/>
            <a:endCxn id="120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21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4" name=""/>
          <p:cNvCxnSpPr>
            <a:stCxn id="1212" idx="6"/>
            <a:endCxn id="121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2" name=""/>
          <p:cNvCxnSpPr>
            <a:stCxn id="1220" idx="6"/>
            <a:endCxn id="122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6" name=""/>
          <p:cNvCxnSpPr>
            <a:stCxn id="1224" idx="6"/>
            <a:endCxn id="122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4" name=""/>
          <p:cNvCxnSpPr>
            <a:stCxn id="1232" idx="6"/>
            <a:endCxn id="123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23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>
            <a:stCxn id="1232" idx="3"/>
            <a:endCxn id="123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42" name=""/>
          <p:cNvCxnSpPr>
            <a:stCxn id="1237" idx="5"/>
            <a:endCxn id="123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43" name=""/>
          <p:cNvCxnSpPr>
            <a:stCxn id="1238" idx="7"/>
            <a:endCxn id="124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44" name=""/>
          <p:cNvCxnSpPr>
            <a:stCxn id="1239" idx="3"/>
            <a:endCxn id="124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45" name=""/>
          <p:cNvCxnSpPr>
            <a:stCxn id="1236" idx="4"/>
            <a:endCxn id="124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232" idx="4"/>
            <a:endCxn id="123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47" name=""/>
          <p:cNvCxnSpPr>
            <a:stCxn id="1233" idx="3"/>
            <a:endCxn id="123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33" idx="4"/>
            <a:endCxn id="123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"/>
          <p:cNvCxnSpPr>
            <a:stCxn id="1249" idx="6"/>
            <a:endCxn id="125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5" name=""/>
          <p:cNvCxnSpPr>
            <a:stCxn id="1253" idx="6"/>
            <a:endCxn id="125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3" name=""/>
          <p:cNvCxnSpPr>
            <a:stCxn id="1261" idx="6"/>
            <a:endCxn id="126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7" name=""/>
          <p:cNvCxnSpPr>
            <a:stCxn id="1265" idx="6"/>
            <a:endCxn id="126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1" name=""/>
          <p:cNvCxnSpPr>
            <a:stCxn id="1269" idx="6"/>
            <a:endCxn id="127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5" name=""/>
          <p:cNvCxnSpPr>
            <a:stCxn id="1273" idx="6"/>
            <a:endCxn id="127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1" name=""/>
          <p:cNvCxnSpPr>
            <a:stCxn id="1238" idx="6"/>
            <a:endCxn id="12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82" name=""/>
          <p:cNvCxnSpPr>
            <a:stCxn id="1238" idx="2"/>
            <a:endCxn id="12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83" name=""/>
          <p:cNvCxnSpPr>
            <a:stCxn id="1237" idx="1"/>
            <a:endCxn id="12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4" name=""/>
          <p:cNvCxnSpPr>
            <a:stCxn id="1278" idx="1"/>
            <a:endCxn id="124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85" name=""/>
          <p:cNvCxnSpPr>
            <a:stCxn id="1239" idx="4"/>
            <a:endCxn id="12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286" name=""/>
          <p:cNvCxnSpPr>
            <a:stCxn id="1280" idx="7"/>
            <a:endCxn id="123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2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237" idx="4"/>
            <a:endCxn id="12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33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1" name=""/>
          <p:cNvCxnSpPr>
            <a:stCxn id="1339" idx="6"/>
            <a:endCxn id="134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34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7" name=""/>
          <p:cNvCxnSpPr>
            <a:stCxn id="1345" idx="6"/>
            <a:endCxn id="134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51" idx="6"/>
            <a:endCxn id="135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0880" y="504720"/>
          <a:ext cx="8534520" cy="574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4720"/>
                    <a:ext cx="8534520" cy="57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0" name=""/>
          <p:cNvCxnSpPr>
            <a:stCxn id="1358" idx="6"/>
            <a:endCxn id="135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36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stCxn id="1362" idx="6"/>
            <a:endCxn id="136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8" name=""/>
          <p:cNvCxnSpPr>
            <a:stCxn id="1366" idx="6"/>
            <a:endCxn id="136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36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2" name=""/>
          <p:cNvCxnSpPr>
            <a:stCxn id="1370" idx="6"/>
            <a:endCxn id="137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74" idx="6"/>
            <a:endCxn id="137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78" idx="6"/>
            <a:endCxn id="137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4" name=""/>
          <p:cNvCxnSpPr>
            <a:stCxn id="1382" idx="6"/>
            <a:endCxn id="13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3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1" name=""/>
          <p:cNvCxnSpPr>
            <a:stCxn id="1382" idx="3"/>
            <a:endCxn id="13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392" name=""/>
          <p:cNvCxnSpPr>
            <a:stCxn id="1387" idx="5"/>
            <a:endCxn id="13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393" name=""/>
          <p:cNvCxnSpPr>
            <a:stCxn id="1388" idx="7"/>
            <a:endCxn id="13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394" name=""/>
          <p:cNvCxnSpPr>
            <a:stCxn id="1389" idx="3"/>
            <a:endCxn id="13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395" name=""/>
          <p:cNvCxnSpPr>
            <a:stCxn id="1386" idx="4"/>
            <a:endCxn id="13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82" idx="4"/>
            <a:endCxn id="13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397" name=""/>
          <p:cNvCxnSpPr>
            <a:stCxn id="1383" idx="3"/>
            <a:endCxn id="13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83" idx="4"/>
            <a:endCxn id="13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1" name=""/>
          <p:cNvCxnSpPr>
            <a:stCxn id="1399" idx="6"/>
            <a:endCxn id="140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5" name=""/>
          <p:cNvCxnSpPr>
            <a:stCxn id="1403" idx="6"/>
            <a:endCxn id="140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9" name=""/>
          <p:cNvCxnSpPr>
            <a:stCxn id="1407" idx="6"/>
            <a:endCxn id="140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41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3" name=""/>
          <p:cNvCxnSpPr>
            <a:stCxn id="1411" idx="6"/>
            <a:endCxn id="141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7" name=""/>
          <p:cNvCxnSpPr>
            <a:stCxn id="1415" idx="6"/>
            <a:endCxn id="141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419" idx="6"/>
            <a:endCxn id="142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5" name=""/>
          <p:cNvCxnSpPr>
            <a:stCxn id="1423" idx="6"/>
            <a:endCxn id="142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42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1" name=""/>
          <p:cNvCxnSpPr>
            <a:stCxn id="1388" idx="6"/>
            <a:endCxn id="14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432" name=""/>
          <p:cNvCxnSpPr>
            <a:stCxn id="1388" idx="2"/>
            <a:endCxn id="14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3" name=""/>
          <p:cNvCxnSpPr>
            <a:stCxn id="1387" idx="1"/>
            <a:endCxn id="14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4" name=""/>
          <p:cNvCxnSpPr>
            <a:stCxn id="1428" idx="1"/>
            <a:endCxn id="13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435" name=""/>
          <p:cNvCxnSpPr>
            <a:stCxn id="1389" idx="4"/>
            <a:endCxn id="14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436" name=""/>
          <p:cNvCxnSpPr>
            <a:stCxn id="1430" idx="7"/>
            <a:endCxn id="13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4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8" name=""/>
          <p:cNvCxnSpPr>
            <a:stCxn id="1387" idx="4"/>
            <a:endCxn id="14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48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1" name=""/>
          <p:cNvCxnSpPr>
            <a:stCxn id="1489" idx="6"/>
            <a:endCxn id="149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49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7" name=""/>
          <p:cNvCxnSpPr>
            <a:stCxn id="1495" idx="6"/>
            <a:endCxn id="149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3" name=""/>
          <p:cNvCxnSpPr>
            <a:stCxn id="1501" idx="6"/>
            <a:endCxn id="150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0" name=""/>
          <p:cNvCxnSpPr>
            <a:stCxn id="1508" idx="6"/>
            <a:endCxn id="150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51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12" idx="6"/>
            <a:endCxn id="151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516" idx="6"/>
            <a:endCxn id="151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2" name=""/>
          <p:cNvCxnSpPr>
            <a:stCxn id="1520" idx="6"/>
            <a:endCxn id="152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"/>
          <p:cNvCxnSpPr>
            <a:stCxn id="1524" idx="6"/>
            <a:endCxn id="152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0" name=""/>
          <p:cNvCxnSpPr>
            <a:stCxn id="1528" idx="6"/>
            <a:endCxn id="152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4" name=""/>
          <p:cNvCxnSpPr>
            <a:stCxn id="1532" idx="6"/>
            <a:endCxn id="153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53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1" name=""/>
          <p:cNvCxnSpPr>
            <a:stCxn id="1532" idx="3"/>
            <a:endCxn id="153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42" name=""/>
          <p:cNvCxnSpPr>
            <a:stCxn id="1537" idx="5"/>
            <a:endCxn id="153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43" name=""/>
          <p:cNvCxnSpPr>
            <a:stCxn id="1538" idx="7"/>
            <a:endCxn id="154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44" name=""/>
          <p:cNvCxnSpPr>
            <a:stCxn id="1539" idx="3"/>
            <a:endCxn id="154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45" name=""/>
          <p:cNvCxnSpPr>
            <a:stCxn id="1536" idx="4"/>
            <a:endCxn id="154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6" name=""/>
          <p:cNvCxnSpPr>
            <a:stCxn id="1532" idx="4"/>
            <a:endCxn id="153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47" name=""/>
          <p:cNvCxnSpPr>
            <a:stCxn id="1533" idx="3"/>
            <a:endCxn id="153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8" name=""/>
          <p:cNvCxnSpPr>
            <a:stCxn id="1533" idx="4"/>
            <a:endCxn id="153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1" name=""/>
          <p:cNvCxnSpPr>
            <a:stCxn id="1549" idx="6"/>
            <a:endCxn id="155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5" name=""/>
          <p:cNvCxnSpPr>
            <a:stCxn id="1553" idx="6"/>
            <a:endCxn id="155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9" name=""/>
          <p:cNvCxnSpPr>
            <a:stCxn id="1557" idx="6"/>
            <a:endCxn id="155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61" idx="6"/>
            <a:endCxn id="156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5" idx="6"/>
            <a:endCxn id="156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56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1" name=""/>
          <p:cNvCxnSpPr>
            <a:stCxn id="1569" idx="6"/>
            <a:endCxn id="157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7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5" name=""/>
          <p:cNvCxnSpPr>
            <a:stCxn id="1573" idx="6"/>
            <a:endCxn id="157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57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38" idx="6"/>
            <a:endCxn id="15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82" name=""/>
          <p:cNvCxnSpPr>
            <a:stCxn id="1538" idx="2"/>
            <a:endCxn id="15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3" name=""/>
          <p:cNvCxnSpPr>
            <a:stCxn id="1537" idx="1"/>
            <a:endCxn id="15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4" name=""/>
          <p:cNvCxnSpPr>
            <a:stCxn id="1578" idx="1"/>
            <a:endCxn id="154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85" name=""/>
          <p:cNvCxnSpPr>
            <a:stCxn id="1539" idx="4"/>
            <a:endCxn id="15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586" name=""/>
          <p:cNvCxnSpPr>
            <a:stCxn id="1580" idx="7"/>
            <a:endCxn id="153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5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8" name=""/>
          <p:cNvCxnSpPr>
            <a:stCxn id="1537" idx="4"/>
            <a:endCxn id="15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63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1" name=""/>
          <p:cNvCxnSpPr>
            <a:stCxn id="1639" idx="6"/>
            <a:endCxn id="164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64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7" name=""/>
          <p:cNvCxnSpPr>
            <a:stCxn id="1645" idx="6"/>
            <a:endCxn id="164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3" name=""/>
          <p:cNvCxnSpPr>
            <a:stCxn id="1651" idx="6"/>
            <a:endCxn id="165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57200"/>
            <a:ext cx="266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0" name=""/>
          <p:cNvCxnSpPr>
            <a:stCxn id="1658" idx="6"/>
            <a:endCxn id="165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66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"/>
          <p:cNvCxnSpPr>
            <a:stCxn id="1662" idx="6"/>
            <a:endCxn id="166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8" name=""/>
          <p:cNvCxnSpPr>
            <a:stCxn id="1666" idx="6"/>
            <a:endCxn id="166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66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70" idx="6"/>
            <a:endCxn id="167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6" name=""/>
          <p:cNvCxnSpPr>
            <a:stCxn id="1674" idx="6"/>
            <a:endCxn id="167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0" name=""/>
          <p:cNvCxnSpPr>
            <a:stCxn id="1678" idx="6"/>
            <a:endCxn id="167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4" name=""/>
          <p:cNvCxnSpPr>
            <a:stCxn id="1682" idx="6"/>
            <a:endCxn id="16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6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1" name=""/>
          <p:cNvCxnSpPr>
            <a:stCxn id="1682" idx="3"/>
            <a:endCxn id="16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692" name=""/>
          <p:cNvCxnSpPr>
            <a:stCxn id="1687" idx="5"/>
            <a:endCxn id="16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693" name=""/>
          <p:cNvCxnSpPr>
            <a:stCxn id="1688" idx="7"/>
            <a:endCxn id="16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694" name=""/>
          <p:cNvCxnSpPr>
            <a:stCxn id="1689" idx="3"/>
            <a:endCxn id="16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695" name=""/>
          <p:cNvCxnSpPr>
            <a:stCxn id="1686" idx="4"/>
            <a:endCxn id="16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82" idx="4"/>
            <a:endCxn id="16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697" name=""/>
          <p:cNvCxnSpPr>
            <a:stCxn id="1683" idx="3"/>
            <a:endCxn id="16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8" name=""/>
          <p:cNvCxnSpPr>
            <a:stCxn id="1683" idx="4"/>
            <a:endCxn id="16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99" idx="6"/>
            <a:endCxn id="170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5" name=""/>
          <p:cNvCxnSpPr>
            <a:stCxn id="1703" idx="6"/>
            <a:endCxn id="170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9" name=""/>
          <p:cNvCxnSpPr>
            <a:stCxn id="1707" idx="6"/>
            <a:endCxn id="170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1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"/>
          <p:cNvCxnSpPr>
            <a:stCxn id="1711" idx="6"/>
            <a:endCxn id="171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7" name=""/>
          <p:cNvCxnSpPr>
            <a:stCxn id="1715" idx="6"/>
            <a:endCxn id="171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1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1" name=""/>
          <p:cNvCxnSpPr>
            <a:stCxn id="1719" idx="6"/>
            <a:endCxn id="172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2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5" name=""/>
          <p:cNvCxnSpPr>
            <a:stCxn id="1723" idx="6"/>
            <a:endCxn id="172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2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1" name=""/>
          <p:cNvCxnSpPr>
            <a:stCxn id="1688" idx="6"/>
            <a:endCxn id="17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732" name=""/>
          <p:cNvCxnSpPr>
            <a:stCxn id="1688" idx="2"/>
            <a:endCxn id="17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3" name=""/>
          <p:cNvCxnSpPr>
            <a:stCxn id="1687" idx="1"/>
            <a:endCxn id="17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4" name=""/>
          <p:cNvCxnSpPr>
            <a:stCxn id="1728" idx="1"/>
            <a:endCxn id="16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5" name=""/>
          <p:cNvCxnSpPr>
            <a:stCxn id="1689" idx="4"/>
            <a:endCxn id="17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736" name=""/>
          <p:cNvCxnSpPr>
            <a:stCxn id="1730" idx="7"/>
            <a:endCxn id="16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8" name=""/>
          <p:cNvCxnSpPr>
            <a:stCxn id="1687" idx="4"/>
            <a:endCxn id="17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8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1" name=""/>
          <p:cNvCxnSpPr>
            <a:stCxn id="1789" idx="6"/>
            <a:endCxn id="179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79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7" name=""/>
          <p:cNvCxnSpPr>
            <a:stCxn id="1795" idx="6"/>
            <a:endCxn id="179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0" name=""/>
          <p:cNvCxnSpPr>
            <a:stCxn id="1808" idx="6"/>
            <a:endCxn id="180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1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4" name=""/>
          <p:cNvCxnSpPr>
            <a:stCxn id="1812" idx="6"/>
            <a:endCxn id="181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8" name=""/>
          <p:cNvCxnSpPr>
            <a:stCxn id="1816" idx="6"/>
            <a:endCxn id="181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1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2" name=""/>
          <p:cNvCxnSpPr>
            <a:stCxn id="1820" idx="6"/>
            <a:endCxn id="182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6" name=""/>
          <p:cNvCxnSpPr>
            <a:stCxn id="1824" idx="6"/>
            <a:endCxn id="182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0" name=""/>
          <p:cNvCxnSpPr>
            <a:stCxn id="1828" idx="6"/>
            <a:endCxn id="182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3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4" name=""/>
          <p:cNvCxnSpPr>
            <a:stCxn id="1832" idx="6"/>
            <a:endCxn id="183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3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1" name=""/>
          <p:cNvCxnSpPr>
            <a:stCxn id="1832" idx="3"/>
            <a:endCxn id="183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42" name=""/>
          <p:cNvCxnSpPr>
            <a:stCxn id="1837" idx="5"/>
            <a:endCxn id="183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43" name=""/>
          <p:cNvCxnSpPr>
            <a:stCxn id="1838" idx="7"/>
            <a:endCxn id="184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44" name=""/>
          <p:cNvCxnSpPr>
            <a:stCxn id="1839" idx="3"/>
            <a:endCxn id="184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45" name=""/>
          <p:cNvCxnSpPr>
            <a:stCxn id="1836" idx="4"/>
            <a:endCxn id="184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32" idx="4"/>
            <a:endCxn id="183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47" name=""/>
          <p:cNvCxnSpPr>
            <a:stCxn id="1833" idx="3"/>
            <a:endCxn id="183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3" idx="4"/>
            <a:endCxn id="183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1" name=""/>
          <p:cNvCxnSpPr>
            <a:stCxn id="1849" idx="6"/>
            <a:endCxn id="185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5" name=""/>
          <p:cNvCxnSpPr>
            <a:stCxn id="1853" idx="6"/>
            <a:endCxn id="185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9" name=""/>
          <p:cNvCxnSpPr>
            <a:stCxn id="1857" idx="6"/>
            <a:endCxn id="185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6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3" name=""/>
          <p:cNvCxnSpPr>
            <a:stCxn id="1861" idx="6"/>
            <a:endCxn id="186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5" idx="6"/>
            <a:endCxn id="186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6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7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5" name=""/>
          <p:cNvCxnSpPr>
            <a:stCxn id="1873" idx="6"/>
            <a:endCxn id="187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7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38" idx="6"/>
            <a:endCxn id="18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38" idx="2"/>
            <a:endCxn id="18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37" idx="1"/>
            <a:endCxn id="18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8" idx="1"/>
            <a:endCxn id="184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39" idx="4"/>
            <a:endCxn id="18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886" name=""/>
          <p:cNvCxnSpPr>
            <a:stCxn id="1880" idx="7"/>
            <a:endCxn id="183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8" name=""/>
          <p:cNvCxnSpPr>
            <a:stCxn id="1837" idx="4"/>
            <a:endCxn id="18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93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39" idx="6"/>
            <a:endCxn id="194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94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7" name=""/>
          <p:cNvCxnSpPr>
            <a:stCxn id="1945" idx="6"/>
            <a:endCxn id="194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3" name=""/>
          <p:cNvCxnSpPr>
            <a:stCxn id="1951" idx="6"/>
            <a:endCxn id="195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0" name=""/>
          <p:cNvCxnSpPr>
            <a:stCxn id="1958" idx="6"/>
            <a:endCxn id="195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96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4" name=""/>
          <p:cNvCxnSpPr>
            <a:stCxn id="1962" idx="6"/>
            <a:endCxn id="196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8" name=""/>
          <p:cNvCxnSpPr>
            <a:stCxn id="1966" idx="6"/>
            <a:endCxn id="196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96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2" name=""/>
          <p:cNvCxnSpPr>
            <a:stCxn id="1970" idx="6"/>
            <a:endCxn id="197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6" name=""/>
          <p:cNvCxnSpPr>
            <a:stCxn id="1974" idx="6"/>
            <a:endCxn id="197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0" name=""/>
          <p:cNvCxnSpPr>
            <a:stCxn id="1978" idx="6"/>
            <a:endCxn id="197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98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4" name=""/>
          <p:cNvCxnSpPr>
            <a:stCxn id="1982" idx="6"/>
            <a:endCxn id="19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19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1" name=""/>
          <p:cNvCxnSpPr>
            <a:stCxn id="1982" idx="3"/>
            <a:endCxn id="19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992" name=""/>
          <p:cNvCxnSpPr>
            <a:stCxn id="1987" idx="5"/>
            <a:endCxn id="19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993" name=""/>
          <p:cNvCxnSpPr>
            <a:stCxn id="1988" idx="7"/>
            <a:endCxn id="19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994" name=""/>
          <p:cNvCxnSpPr>
            <a:stCxn id="1989" idx="3"/>
            <a:endCxn id="19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995" name=""/>
          <p:cNvCxnSpPr>
            <a:stCxn id="1986" idx="4"/>
            <a:endCxn id="19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6" name=""/>
          <p:cNvCxnSpPr>
            <a:stCxn id="1982" idx="4"/>
            <a:endCxn id="19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1997" name=""/>
          <p:cNvCxnSpPr>
            <a:stCxn id="1983" idx="3"/>
            <a:endCxn id="19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83" idx="4"/>
            <a:endCxn id="19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1" name=""/>
          <p:cNvCxnSpPr>
            <a:stCxn id="1999" idx="6"/>
            <a:endCxn id="200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5" name=""/>
          <p:cNvCxnSpPr>
            <a:stCxn id="2003" idx="6"/>
            <a:endCxn id="200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9" name=""/>
          <p:cNvCxnSpPr>
            <a:stCxn id="2007" idx="6"/>
            <a:endCxn id="200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3" name=""/>
          <p:cNvCxnSpPr>
            <a:stCxn id="2011" idx="6"/>
            <a:endCxn id="201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7" name=""/>
          <p:cNvCxnSpPr>
            <a:stCxn id="2015" idx="6"/>
            <a:endCxn id="201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01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1" name=""/>
          <p:cNvCxnSpPr>
            <a:stCxn id="2019" idx="6"/>
            <a:endCxn id="202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"/>
          <p:cNvCxnSpPr>
            <a:stCxn id="2023" idx="6"/>
            <a:endCxn id="202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02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1" name=""/>
          <p:cNvCxnSpPr>
            <a:stCxn id="1988" idx="6"/>
            <a:endCxn id="20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88" idx="2"/>
            <a:endCxn id="20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87" idx="1"/>
            <a:endCxn id="20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2028" idx="1"/>
            <a:endCxn id="19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9" idx="4"/>
            <a:endCxn id="20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036" name=""/>
          <p:cNvCxnSpPr>
            <a:stCxn id="2030" idx="7"/>
            <a:endCxn id="19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8" name=""/>
          <p:cNvCxnSpPr>
            <a:stCxn id="1987" idx="4"/>
            <a:endCxn id="20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08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1" name=""/>
          <p:cNvCxnSpPr>
            <a:stCxn id="2089" idx="6"/>
            <a:endCxn id="209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09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7" name=""/>
          <p:cNvCxnSpPr>
            <a:stCxn id="2095" idx="6"/>
            <a:endCxn id="209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3" name=""/>
          <p:cNvCxnSpPr>
            <a:stCxn id="2101" idx="6"/>
            <a:endCxn id="210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0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0" name=""/>
          <p:cNvCxnSpPr>
            <a:stCxn id="2108" idx="6"/>
            <a:endCxn id="210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1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4" name=""/>
          <p:cNvCxnSpPr>
            <a:stCxn id="2112" idx="6"/>
            <a:endCxn id="211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1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8" name=""/>
          <p:cNvCxnSpPr>
            <a:stCxn id="2116" idx="6"/>
            <a:endCxn id="211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1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2" name=""/>
          <p:cNvCxnSpPr>
            <a:stCxn id="2120" idx="6"/>
            <a:endCxn id="212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6" name=""/>
          <p:cNvCxnSpPr>
            <a:stCxn id="2124" idx="6"/>
            <a:endCxn id="212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0" name=""/>
          <p:cNvCxnSpPr>
            <a:stCxn id="2128" idx="6"/>
            <a:endCxn id="212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3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4" name=""/>
          <p:cNvCxnSpPr>
            <a:stCxn id="2132" idx="6"/>
            <a:endCxn id="213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3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1" name=""/>
          <p:cNvCxnSpPr>
            <a:stCxn id="2132" idx="3"/>
            <a:endCxn id="213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142" name=""/>
          <p:cNvCxnSpPr>
            <a:stCxn id="2137" idx="5"/>
            <a:endCxn id="213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143" name=""/>
          <p:cNvCxnSpPr>
            <a:stCxn id="2138" idx="7"/>
            <a:endCxn id="214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144" name=""/>
          <p:cNvCxnSpPr>
            <a:stCxn id="2139" idx="3"/>
            <a:endCxn id="214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145" name=""/>
          <p:cNvCxnSpPr>
            <a:stCxn id="2136" idx="4"/>
            <a:endCxn id="214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6" name=""/>
          <p:cNvCxnSpPr>
            <a:stCxn id="2132" idx="4"/>
            <a:endCxn id="213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147" name=""/>
          <p:cNvCxnSpPr>
            <a:stCxn id="2133" idx="3"/>
            <a:endCxn id="213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8" name=""/>
          <p:cNvCxnSpPr>
            <a:stCxn id="2133" idx="4"/>
            <a:endCxn id="213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4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1" name=""/>
          <p:cNvCxnSpPr>
            <a:stCxn id="2149" idx="6"/>
            <a:endCxn id="215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215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5" name=""/>
          <p:cNvCxnSpPr>
            <a:stCxn id="2153" idx="6"/>
            <a:endCxn id="215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5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9" name=""/>
          <p:cNvCxnSpPr>
            <a:stCxn id="2157" idx="6"/>
            <a:endCxn id="215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6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3" name=""/>
          <p:cNvCxnSpPr>
            <a:stCxn id="2161" idx="6"/>
            <a:endCxn id="216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7" name=""/>
          <p:cNvCxnSpPr>
            <a:stCxn id="2165" idx="6"/>
            <a:endCxn id="216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6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1" name=""/>
          <p:cNvCxnSpPr>
            <a:stCxn id="2169" idx="6"/>
            <a:endCxn id="217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7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5" name=""/>
          <p:cNvCxnSpPr>
            <a:stCxn id="2173" idx="6"/>
            <a:endCxn id="217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17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1" name=""/>
          <p:cNvCxnSpPr>
            <a:stCxn id="2138" idx="6"/>
            <a:endCxn id="21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2" name=""/>
          <p:cNvCxnSpPr>
            <a:stCxn id="2138" idx="2"/>
            <a:endCxn id="21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3" name=""/>
          <p:cNvCxnSpPr>
            <a:stCxn id="2137" idx="1"/>
            <a:endCxn id="21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4" name=""/>
          <p:cNvCxnSpPr>
            <a:stCxn id="2178" idx="1"/>
            <a:endCxn id="214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5" name=""/>
          <p:cNvCxnSpPr>
            <a:stCxn id="2139" idx="4"/>
            <a:endCxn id="21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186" name=""/>
          <p:cNvCxnSpPr>
            <a:stCxn id="2180" idx="7"/>
            <a:endCxn id="213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8" name=""/>
          <p:cNvCxnSpPr>
            <a:stCxn id="2137" idx="4"/>
            <a:endCxn id="21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3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1" name=""/>
          <p:cNvCxnSpPr>
            <a:stCxn id="2239" idx="6"/>
            <a:endCxn id="224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4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7" name=""/>
          <p:cNvCxnSpPr>
            <a:stCxn id="2245" idx="6"/>
            <a:endCxn id="224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3" name=""/>
          <p:cNvCxnSpPr>
            <a:stCxn id="2251" idx="6"/>
            <a:endCxn id="225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5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838080" y="457200"/>
            <a:ext cx="266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/>
          <p:nvPr/>
        </p:nvSpPr>
        <p:spPr>
          <a:xfrm>
            <a:off x="4572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172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0" name=""/>
          <p:cNvCxnSpPr>
            <a:stCxn id="2258" idx="6"/>
            <a:endCxn id="2259" idx="2"/>
          </p:cNvCxnSpPr>
          <p:nvPr/>
        </p:nvCxnSpPr>
        <p:spPr>
          <a:xfrm>
            <a:off x="5028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61" name=""/>
          <p:cNvSpPr/>
          <p:nvPr/>
        </p:nvSpPr>
        <p:spPr>
          <a:xfrm>
            <a:off x="5487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58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458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4" name=""/>
          <p:cNvCxnSpPr>
            <a:stCxn id="2262" idx="6"/>
            <a:endCxn id="2263" idx="2"/>
          </p:cNvCxnSpPr>
          <p:nvPr/>
        </p:nvCxnSpPr>
        <p:spPr>
          <a:xfrm>
            <a:off x="7314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65" name=""/>
          <p:cNvSpPr/>
          <p:nvPr/>
        </p:nvSpPr>
        <p:spPr>
          <a:xfrm>
            <a:off x="7773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8580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458200" y="1295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8" name=""/>
          <p:cNvCxnSpPr>
            <a:stCxn id="2266" idx="6"/>
            <a:endCxn id="2267" idx="2"/>
          </p:cNvCxnSpPr>
          <p:nvPr/>
        </p:nvCxnSpPr>
        <p:spPr>
          <a:xfrm>
            <a:off x="7314840" y="15235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69" name=""/>
          <p:cNvSpPr/>
          <p:nvPr/>
        </p:nvSpPr>
        <p:spPr>
          <a:xfrm>
            <a:off x="7773480" y="1295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5720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17220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2" name=""/>
          <p:cNvCxnSpPr>
            <a:stCxn id="2270" idx="6"/>
            <a:endCxn id="2271" idx="2"/>
          </p:cNvCxnSpPr>
          <p:nvPr/>
        </p:nvCxnSpPr>
        <p:spPr>
          <a:xfrm>
            <a:off x="5028840" y="52574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73" name=""/>
          <p:cNvSpPr/>
          <p:nvPr/>
        </p:nvSpPr>
        <p:spPr>
          <a:xfrm>
            <a:off x="5487480" y="5029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8580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458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6" name=""/>
          <p:cNvCxnSpPr>
            <a:stCxn id="2274" idx="6"/>
            <a:endCxn id="2275" idx="2"/>
          </p:cNvCxnSpPr>
          <p:nvPr/>
        </p:nvCxnSpPr>
        <p:spPr>
          <a:xfrm>
            <a:off x="7314840" y="449532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77" name=""/>
          <p:cNvSpPr/>
          <p:nvPr/>
        </p:nvSpPr>
        <p:spPr>
          <a:xfrm>
            <a:off x="7773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858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8458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0" name=""/>
          <p:cNvCxnSpPr>
            <a:stCxn id="2278" idx="6"/>
            <a:endCxn id="2279" idx="2"/>
          </p:cNvCxnSpPr>
          <p:nvPr/>
        </p:nvCxnSpPr>
        <p:spPr>
          <a:xfrm>
            <a:off x="7314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281" name=""/>
          <p:cNvSpPr/>
          <p:nvPr/>
        </p:nvSpPr>
        <p:spPr>
          <a:xfrm>
            <a:off x="7773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4" name=""/>
          <p:cNvCxnSpPr>
            <a:stCxn id="2282" idx="6"/>
            <a:endCxn id="22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1" name=""/>
          <p:cNvCxnSpPr>
            <a:stCxn id="2282" idx="3"/>
            <a:endCxn id="22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292" name=""/>
          <p:cNvCxnSpPr>
            <a:stCxn id="2287" idx="5"/>
            <a:endCxn id="22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293" name=""/>
          <p:cNvCxnSpPr>
            <a:stCxn id="2288" idx="7"/>
            <a:endCxn id="22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294" name=""/>
          <p:cNvCxnSpPr>
            <a:stCxn id="2289" idx="3"/>
            <a:endCxn id="22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295" name=""/>
          <p:cNvCxnSpPr>
            <a:stCxn id="2286" idx="4"/>
            <a:endCxn id="22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6" name=""/>
          <p:cNvCxnSpPr>
            <a:stCxn id="2282" idx="4"/>
            <a:endCxn id="22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297" name=""/>
          <p:cNvCxnSpPr>
            <a:stCxn id="2283" idx="3"/>
            <a:endCxn id="22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8" name=""/>
          <p:cNvCxnSpPr>
            <a:stCxn id="2283" idx="4"/>
            <a:endCxn id="22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99" name=""/>
          <p:cNvSpPr/>
          <p:nvPr/>
        </p:nvSpPr>
        <p:spPr>
          <a:xfrm>
            <a:off x="68580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84582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1" name=""/>
          <p:cNvCxnSpPr>
            <a:stCxn id="2299" idx="6"/>
            <a:endCxn id="2300" idx="2"/>
          </p:cNvCxnSpPr>
          <p:nvPr/>
        </p:nvCxnSpPr>
        <p:spPr>
          <a:xfrm>
            <a:off x="7314840" y="37335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02" name=""/>
          <p:cNvSpPr/>
          <p:nvPr/>
        </p:nvSpPr>
        <p:spPr>
          <a:xfrm>
            <a:off x="7773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858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8458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5" name=""/>
          <p:cNvCxnSpPr>
            <a:stCxn id="2303" idx="6"/>
            <a:endCxn id="2304" idx="2"/>
          </p:cNvCxnSpPr>
          <p:nvPr/>
        </p:nvCxnSpPr>
        <p:spPr>
          <a:xfrm>
            <a:off x="7314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6" name=""/>
          <p:cNvSpPr/>
          <p:nvPr/>
        </p:nvSpPr>
        <p:spPr>
          <a:xfrm>
            <a:off x="7772760" y="5791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858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8458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9" name=""/>
          <p:cNvCxnSpPr>
            <a:stCxn id="2307" idx="6"/>
            <a:endCxn id="2308" idx="2"/>
          </p:cNvCxnSpPr>
          <p:nvPr/>
        </p:nvCxnSpPr>
        <p:spPr>
          <a:xfrm>
            <a:off x="7314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10" name=""/>
          <p:cNvSpPr/>
          <p:nvPr/>
        </p:nvSpPr>
        <p:spPr>
          <a:xfrm>
            <a:off x="7773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5720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1722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3" name=""/>
          <p:cNvCxnSpPr>
            <a:stCxn id="2311" idx="6"/>
            <a:endCxn id="2312" idx="2"/>
          </p:cNvCxnSpPr>
          <p:nvPr/>
        </p:nvCxnSpPr>
        <p:spPr>
          <a:xfrm>
            <a:off x="5028840" y="60195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4" name=""/>
          <p:cNvSpPr/>
          <p:nvPr/>
        </p:nvSpPr>
        <p:spPr>
          <a:xfrm>
            <a:off x="54874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858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458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7" name=""/>
          <p:cNvCxnSpPr>
            <a:stCxn id="2315" idx="6"/>
            <a:endCxn id="2316" idx="2"/>
          </p:cNvCxnSpPr>
          <p:nvPr/>
        </p:nvCxnSpPr>
        <p:spPr>
          <a:xfrm>
            <a:off x="7314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18" name=""/>
          <p:cNvSpPr/>
          <p:nvPr/>
        </p:nvSpPr>
        <p:spPr>
          <a:xfrm>
            <a:off x="7773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17220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1" name=""/>
          <p:cNvCxnSpPr>
            <a:stCxn id="2319" idx="6"/>
            <a:endCxn id="2320" idx="2"/>
          </p:cNvCxnSpPr>
          <p:nvPr/>
        </p:nvCxnSpPr>
        <p:spPr>
          <a:xfrm>
            <a:off x="5028840" y="29714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22" name=""/>
          <p:cNvSpPr/>
          <p:nvPr/>
        </p:nvSpPr>
        <p:spPr>
          <a:xfrm>
            <a:off x="54874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45720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1722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5" name=""/>
          <p:cNvCxnSpPr>
            <a:stCxn id="2323" idx="6"/>
            <a:endCxn id="2324" idx="2"/>
          </p:cNvCxnSpPr>
          <p:nvPr/>
        </p:nvCxnSpPr>
        <p:spPr>
          <a:xfrm>
            <a:off x="502884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26" name=""/>
          <p:cNvSpPr/>
          <p:nvPr/>
        </p:nvSpPr>
        <p:spPr>
          <a:xfrm>
            <a:off x="548748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1" name=""/>
          <p:cNvCxnSpPr>
            <a:stCxn id="2288" idx="6"/>
            <a:endCxn id="23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2" name=""/>
          <p:cNvCxnSpPr>
            <a:stCxn id="2288" idx="2"/>
            <a:endCxn id="23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3" name=""/>
          <p:cNvCxnSpPr>
            <a:stCxn id="2287" idx="1"/>
            <a:endCxn id="23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4" name=""/>
          <p:cNvCxnSpPr>
            <a:stCxn id="2328" idx="1"/>
            <a:endCxn id="22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5" name=""/>
          <p:cNvCxnSpPr>
            <a:stCxn id="2289" idx="4"/>
            <a:endCxn id="23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336" name=""/>
          <p:cNvCxnSpPr>
            <a:stCxn id="2330" idx="7"/>
            <a:endCxn id="22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9361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6936120" y="5867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85363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535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650120" y="13716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936120" y="609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2499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535960" y="609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650120" y="5867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9361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8536320" y="510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62499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935760" y="13716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8536320" y="1371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935760" y="213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64976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85363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24960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650120" y="2819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93612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2496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8535960" y="43434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650120" y="2133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249960" y="21337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8535960" y="2819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6935400" y="2819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8" name=""/>
          <p:cNvCxnSpPr>
            <a:stCxn id="2287" idx="4"/>
            <a:endCxn id="23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89" name=""/>
          <p:cNvSpPr/>
          <p:nvPr/>
        </p:nvSpPr>
        <p:spPr>
          <a:xfrm>
            <a:off x="45720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72200" y="533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1" name=""/>
          <p:cNvCxnSpPr>
            <a:stCxn id="2389" idx="6"/>
            <a:endCxn id="2390" idx="2"/>
          </p:cNvCxnSpPr>
          <p:nvPr/>
        </p:nvCxnSpPr>
        <p:spPr>
          <a:xfrm>
            <a:off x="5028840" y="7617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92" name=""/>
          <p:cNvSpPr/>
          <p:nvPr/>
        </p:nvSpPr>
        <p:spPr>
          <a:xfrm>
            <a:off x="5487480" y="533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6501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250320" y="609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457200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17220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7" name=""/>
          <p:cNvCxnSpPr>
            <a:stCxn id="2395" idx="6"/>
            <a:endCxn id="2396" idx="2"/>
          </p:cNvCxnSpPr>
          <p:nvPr/>
        </p:nvCxnSpPr>
        <p:spPr>
          <a:xfrm>
            <a:off x="5028840" y="449532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398" name=""/>
          <p:cNvSpPr/>
          <p:nvPr/>
        </p:nvSpPr>
        <p:spPr>
          <a:xfrm>
            <a:off x="548748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6501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25032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5720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172200" y="3505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3" name=""/>
          <p:cNvCxnSpPr>
            <a:stCxn id="2401" idx="6"/>
            <a:endCxn id="2402" idx="2"/>
          </p:cNvCxnSpPr>
          <p:nvPr/>
        </p:nvCxnSpPr>
        <p:spPr>
          <a:xfrm>
            <a:off x="5028840" y="37335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404" name=""/>
          <p:cNvSpPr/>
          <p:nvPr/>
        </p:nvSpPr>
        <p:spPr>
          <a:xfrm>
            <a:off x="5487480" y="3505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650120" y="3581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250320" y="3581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0" name=""/>
          <p:cNvCxnSpPr>
            <a:stCxn id="2408" idx="6"/>
            <a:endCxn id="2409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1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7" name=""/>
          <p:cNvCxnSpPr>
            <a:stCxn id="2412" idx="4"/>
            <a:endCxn id="2416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8" name=""/>
          <p:cNvCxnSpPr>
            <a:stCxn id="2409" idx="3"/>
            <a:endCxn id="2412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9" name=""/>
          <p:cNvCxnSpPr>
            <a:stCxn id="2409" idx="4"/>
            <a:endCxn id="2415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20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4" name=""/>
          <p:cNvCxnSpPr>
            <a:stCxn id="2414" idx="6"/>
            <a:endCxn id="2421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5" name=""/>
          <p:cNvCxnSpPr>
            <a:stCxn id="2414" idx="2"/>
            <a:endCxn id="2422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6" name=""/>
          <p:cNvCxnSpPr>
            <a:stCxn id="2413" idx="1"/>
            <a:endCxn id="2423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7" name=""/>
          <p:cNvCxnSpPr>
            <a:stCxn id="2421" idx="1"/>
            <a:endCxn id="2416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8" name=""/>
          <p:cNvCxnSpPr>
            <a:stCxn id="2423" idx="7"/>
            <a:endCxn id="2408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29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9" name=""/>
          <p:cNvCxnSpPr>
            <a:stCxn id="2447" idx="6"/>
            <a:endCxn id="2448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0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6" name=""/>
          <p:cNvCxnSpPr>
            <a:stCxn id="2447" idx="3"/>
            <a:endCxn id="2452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7" name=""/>
          <p:cNvCxnSpPr>
            <a:stCxn id="2452" idx="5"/>
            <a:endCxn id="2453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8" name=""/>
          <p:cNvCxnSpPr>
            <a:stCxn id="2453" idx="7"/>
            <a:endCxn id="2455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9" name=""/>
          <p:cNvCxnSpPr>
            <a:stCxn id="2454" idx="3"/>
            <a:endCxn id="2455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0" name=""/>
          <p:cNvCxnSpPr>
            <a:stCxn id="2451" idx="4"/>
            <a:endCxn id="2455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1" name=""/>
          <p:cNvCxnSpPr>
            <a:stCxn id="2447" idx="4"/>
            <a:endCxn id="2453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2" name=""/>
          <p:cNvCxnSpPr>
            <a:stCxn id="2448" idx="3"/>
            <a:endCxn id="2451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3" name=""/>
          <p:cNvCxnSpPr>
            <a:stCxn id="2448" idx="4"/>
            <a:endCxn id="2454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64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7" name=""/>
          <p:cNvCxnSpPr>
            <a:stCxn id="2453" idx="6"/>
            <a:endCxn id="2464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3" idx="2"/>
            <a:endCxn id="2465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9" name=""/>
          <p:cNvCxnSpPr>
            <a:stCxn id="2452" idx="1"/>
            <a:endCxn id="2466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4" idx="1"/>
            <a:endCxn id="2455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54" idx="4"/>
            <a:endCxn id="2464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2" name=""/>
          <p:cNvCxnSpPr>
            <a:stCxn id="2466" idx="7"/>
            <a:endCxn id="2447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3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8" name=""/>
          <p:cNvCxnSpPr>
            <a:stCxn id="2452" idx="4"/>
            <a:endCxn id="2465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99" name=""/>
          <p:cNvSpPr/>
          <p:nvPr/>
        </p:nvSpPr>
        <p:spPr>
          <a:xfrm>
            <a:off x="304920" y="45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"/>
          <p:cNvSpPr/>
          <p:nvPr/>
        </p:nvSpPr>
        <p:spPr>
          <a:xfrm>
            <a:off x="685800" y="228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alysis of Kruskal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62120" y="1965240"/>
            <a:ext cx="754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ning Time =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(m log n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(m = edges, n = nod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if an edge creates a cycle can be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838080" y="2286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im'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838080" y="1295280"/>
            <a:ext cx="7391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algorithm starts with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o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hen, one by one, adds a node that is unconnected to the new graph to the new graph, each time selecting the node whose connecting edge ha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allest we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 of the available nodes’ connecting ed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28600" y="304920"/>
          <a:ext cx="8686800" cy="64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"/>
          <p:cNvSpPr/>
          <p:nvPr/>
        </p:nvSpPr>
        <p:spPr>
          <a:xfrm>
            <a:off x="762120" y="1295280"/>
            <a:ext cx="7467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new graph is constructed -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from the old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ile new graph has fewer th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Find the node from the old graph with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necting edge to the new grap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dd it to the new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ep will have joined one node, so that at the end we will have one graph with all the nodes and it will be a minimum spanning tree of the original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380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im's Algorithm: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9" name=""/>
          <p:cNvCxnSpPr>
            <a:stCxn id="2507" idx="6"/>
            <a:endCxn id="2508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0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6" name=""/>
          <p:cNvCxnSpPr>
            <a:stCxn id="2507" idx="3"/>
            <a:endCxn id="2512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7" name=""/>
          <p:cNvCxnSpPr>
            <a:stCxn id="2512" idx="5"/>
            <a:endCxn id="2513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8" name=""/>
          <p:cNvCxnSpPr>
            <a:stCxn id="2513" idx="7"/>
            <a:endCxn id="2515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9" name=""/>
          <p:cNvCxnSpPr>
            <a:stCxn id="2514" idx="3"/>
            <a:endCxn id="2515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0" name=""/>
          <p:cNvCxnSpPr>
            <a:stCxn id="2511" idx="4"/>
            <a:endCxn id="2515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07" idx="4"/>
            <a:endCxn id="2513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08" idx="3"/>
            <a:endCxn id="2511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3" name=""/>
          <p:cNvCxnSpPr>
            <a:stCxn id="2508" idx="4"/>
            <a:endCxn id="2514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24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8" name=""/>
          <p:cNvCxnSpPr>
            <a:stCxn id="2513" idx="6"/>
            <a:endCxn id="2525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9" name=""/>
          <p:cNvCxnSpPr>
            <a:stCxn id="2513" idx="2"/>
            <a:endCxn id="2526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0" name=""/>
          <p:cNvCxnSpPr>
            <a:stCxn id="2512" idx="1"/>
            <a:endCxn id="2527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1" name=""/>
          <p:cNvCxnSpPr>
            <a:stCxn id="2525" idx="1"/>
            <a:endCxn id="2515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2" name=""/>
          <p:cNvCxnSpPr>
            <a:stCxn id="2514" idx="4"/>
            <a:endCxn id="2525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3" name=""/>
          <p:cNvCxnSpPr>
            <a:stCxn id="2527" idx="7"/>
            <a:endCxn id="2507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4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9" name=""/>
          <p:cNvCxnSpPr>
            <a:stCxn id="2512" idx="4"/>
            <a:endCxn id="2526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0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3" name=""/>
          <p:cNvCxnSpPr>
            <a:stCxn id="2561" idx="6"/>
            <a:endCxn id="2562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4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0" name=""/>
          <p:cNvCxnSpPr>
            <a:stCxn id="2561" idx="3"/>
            <a:endCxn id="2566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1" name=""/>
          <p:cNvCxnSpPr>
            <a:stCxn id="2566" idx="5"/>
            <a:endCxn id="2567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2" name=""/>
          <p:cNvCxnSpPr>
            <a:stCxn id="2567" idx="7"/>
            <a:endCxn id="2569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3" name=""/>
          <p:cNvCxnSpPr>
            <a:stCxn id="2568" idx="3"/>
            <a:endCxn id="2569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4" name=""/>
          <p:cNvCxnSpPr>
            <a:stCxn id="2565" idx="4"/>
            <a:endCxn id="2569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5" name=""/>
          <p:cNvCxnSpPr>
            <a:stCxn id="2561" idx="4"/>
            <a:endCxn id="2567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6" name=""/>
          <p:cNvCxnSpPr>
            <a:stCxn id="2562" idx="3"/>
            <a:endCxn id="2565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7" name=""/>
          <p:cNvCxnSpPr>
            <a:stCxn id="2562" idx="4"/>
            <a:endCxn id="2568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78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2" name=""/>
          <p:cNvCxnSpPr>
            <a:stCxn id="2567" idx="6"/>
            <a:endCxn id="2579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3" name=""/>
          <p:cNvCxnSpPr>
            <a:stCxn id="2567" idx="2"/>
            <a:endCxn id="2580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4" name=""/>
          <p:cNvCxnSpPr>
            <a:stCxn id="2566" idx="1"/>
            <a:endCxn id="2581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585" name=""/>
          <p:cNvCxnSpPr>
            <a:stCxn id="2579" idx="1"/>
            <a:endCxn id="2569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6" name=""/>
          <p:cNvCxnSpPr>
            <a:stCxn id="2568" idx="4"/>
            <a:endCxn id="2579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81" idx="7"/>
            <a:endCxn id="2561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588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3" name=""/>
          <p:cNvCxnSpPr>
            <a:stCxn id="2566" idx="4"/>
            <a:endCxn id="2580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4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8" name=""/>
          <p:cNvCxnSpPr>
            <a:stCxn id="2616" idx="6"/>
            <a:endCxn id="2617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619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5" name=""/>
          <p:cNvCxnSpPr>
            <a:stCxn id="2616" idx="3"/>
            <a:endCxn id="2621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26" name=""/>
          <p:cNvCxnSpPr>
            <a:stCxn id="2621" idx="5"/>
            <a:endCxn id="2622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27" name=""/>
          <p:cNvCxnSpPr>
            <a:stCxn id="2622" idx="7"/>
            <a:endCxn id="2624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28" name=""/>
          <p:cNvCxnSpPr>
            <a:stCxn id="2623" idx="3"/>
            <a:endCxn id="2624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29" name=""/>
          <p:cNvCxnSpPr>
            <a:stCxn id="2620" idx="4"/>
            <a:endCxn id="2624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30" name=""/>
          <p:cNvCxnSpPr>
            <a:stCxn id="2616" idx="4"/>
            <a:endCxn id="2622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31" name=""/>
          <p:cNvCxnSpPr>
            <a:stCxn id="2617" idx="3"/>
            <a:endCxn id="2620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32" name=""/>
          <p:cNvCxnSpPr>
            <a:stCxn id="2617" idx="4"/>
            <a:endCxn id="2623" idx="0"/>
          </p:cNvCxnSpPr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633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6" name=""/>
          <p:cNvCxnSpPr>
            <a:stCxn id="2622" idx="6"/>
            <a:endCxn id="2633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37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38" name=""/>
          <p:cNvCxnSpPr>
            <a:stCxn id="2621" idx="1"/>
            <a:endCxn id="2635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639" name=""/>
          <p:cNvCxnSpPr>
            <a:stCxn id="2633" idx="1"/>
            <a:endCxn id="2624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40" name=""/>
          <p:cNvCxnSpPr>
            <a:stCxn id="2623" idx="4"/>
            <a:endCxn id="2633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41" name=""/>
          <p:cNvCxnSpPr>
            <a:stCxn id="2635" idx="7"/>
            <a:endCxn id="2616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642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7" name=""/>
          <p:cNvCxnSpPr>
            <a:stCxn id="2621" idx="4"/>
            <a:endCxn id="2634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0" name=""/>
          <p:cNvCxnSpPr>
            <a:stCxn id="2668" idx="6"/>
            <a:endCxn id="2669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1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7" name=""/>
          <p:cNvCxnSpPr>
            <a:stCxn id="2668" idx="3"/>
            <a:endCxn id="2673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678" name=""/>
          <p:cNvCxnSpPr>
            <a:stCxn id="2673" idx="5"/>
            <a:endCxn id="2674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679" name=""/>
          <p:cNvCxnSpPr>
            <a:stCxn id="2674" idx="7"/>
            <a:endCxn id="2676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0" name=""/>
          <p:cNvCxnSpPr>
            <a:stCxn id="2675" idx="3"/>
            <a:endCxn id="2676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1" name=""/>
          <p:cNvCxnSpPr>
            <a:stCxn id="2672" idx="4"/>
            <a:endCxn id="2676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2" name=""/>
          <p:cNvCxnSpPr>
            <a:stCxn id="2668" idx="4"/>
            <a:endCxn id="2674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3" name=""/>
          <p:cNvCxnSpPr>
            <a:stCxn id="2669" idx="3"/>
            <a:endCxn id="2672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4" name=""/>
          <p:cNvCxnSpPr>
            <a:stCxn id="2669" idx="4"/>
            <a:endCxn id="2675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5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9" name=""/>
          <p:cNvCxnSpPr>
            <a:stCxn id="2674" idx="6"/>
            <a:endCxn id="2686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0" name=""/>
          <p:cNvCxnSpPr>
            <a:stCxn id="2674" idx="2"/>
            <a:endCxn id="2687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1" name=""/>
          <p:cNvCxnSpPr>
            <a:stCxn id="2673" idx="1"/>
            <a:endCxn id="2688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692" name=""/>
          <p:cNvCxnSpPr>
            <a:stCxn id="2686" idx="1"/>
            <a:endCxn id="2676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3" name=""/>
          <p:cNvCxnSpPr>
            <a:stCxn id="2675" idx="4"/>
            <a:endCxn id="2686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4" name=""/>
          <p:cNvCxnSpPr>
            <a:stCxn id="2688" idx="7"/>
            <a:endCxn id="2668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695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0" name=""/>
          <p:cNvCxnSpPr>
            <a:stCxn id="2673" idx="4"/>
            <a:endCxn id="2687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721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5" name=""/>
          <p:cNvCxnSpPr>
            <a:stCxn id="2723" idx="6"/>
            <a:endCxn id="2724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726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2" name=""/>
          <p:cNvCxnSpPr>
            <a:stCxn id="2723" idx="3"/>
            <a:endCxn id="2728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733" name=""/>
          <p:cNvCxnSpPr>
            <a:stCxn id="2728" idx="5"/>
            <a:endCxn id="2729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734" name=""/>
          <p:cNvCxnSpPr>
            <a:stCxn id="2729" idx="7"/>
            <a:endCxn id="2731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35" name=""/>
          <p:cNvCxnSpPr>
            <a:stCxn id="2730" idx="3"/>
            <a:endCxn id="2731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36" name=""/>
          <p:cNvCxnSpPr>
            <a:stCxn id="2727" idx="4"/>
            <a:endCxn id="2731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37" name=""/>
          <p:cNvCxnSpPr>
            <a:stCxn id="2723" idx="4"/>
            <a:endCxn id="2729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38" name=""/>
          <p:cNvCxnSpPr>
            <a:stCxn id="2724" idx="3"/>
            <a:endCxn id="2727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39" name=""/>
          <p:cNvCxnSpPr>
            <a:stCxn id="2724" idx="4"/>
            <a:endCxn id="2730" idx="0"/>
          </p:cNvCxnSpPr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740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3" name=""/>
          <p:cNvCxnSpPr>
            <a:stCxn id="2729" idx="6"/>
            <a:endCxn id="2740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44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45" name=""/>
          <p:cNvCxnSpPr>
            <a:stCxn id="2728" idx="1"/>
            <a:endCxn id="2742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6" name=""/>
          <p:cNvCxnSpPr>
            <a:stCxn id="2740" idx="1"/>
            <a:endCxn id="2731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47" name=""/>
          <p:cNvCxnSpPr>
            <a:stCxn id="2730" idx="4"/>
            <a:endCxn id="2740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48" name=""/>
          <p:cNvCxnSpPr>
            <a:stCxn id="2742" idx="7"/>
            <a:endCxn id="2723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749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4" name=""/>
          <p:cNvCxnSpPr>
            <a:stCxn id="2728" idx="4"/>
            <a:endCxn id="2741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7" name=""/>
          <p:cNvCxnSpPr>
            <a:stCxn id="2775" idx="6"/>
            <a:endCxn id="2776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778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4" name=""/>
          <p:cNvCxnSpPr>
            <a:stCxn id="2775" idx="3"/>
            <a:endCxn id="2780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85" name=""/>
          <p:cNvCxnSpPr>
            <a:stCxn id="2780" idx="5"/>
            <a:endCxn id="2781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786" name=""/>
          <p:cNvCxnSpPr>
            <a:stCxn id="2781" idx="7"/>
            <a:endCxn id="2783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7" name=""/>
          <p:cNvCxnSpPr>
            <a:stCxn id="2782" idx="3"/>
            <a:endCxn id="2783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8" name=""/>
          <p:cNvCxnSpPr>
            <a:stCxn id="2779" idx="4"/>
            <a:endCxn id="2783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9" name=""/>
          <p:cNvCxnSpPr>
            <a:stCxn id="2775" idx="4"/>
            <a:endCxn id="2781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790" name=""/>
          <p:cNvCxnSpPr>
            <a:stCxn id="2776" idx="3"/>
            <a:endCxn id="2779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1" name=""/>
          <p:cNvCxnSpPr>
            <a:stCxn id="2776" idx="4"/>
            <a:endCxn id="2782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92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6" name=""/>
          <p:cNvCxnSpPr>
            <a:stCxn id="2781" idx="6"/>
            <a:endCxn id="2793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7" name=""/>
          <p:cNvCxnSpPr>
            <a:stCxn id="2781" idx="2"/>
            <a:endCxn id="2794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8" name=""/>
          <p:cNvCxnSpPr>
            <a:stCxn id="2780" idx="1"/>
            <a:endCxn id="2795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799" name=""/>
          <p:cNvCxnSpPr>
            <a:stCxn id="2793" idx="1"/>
            <a:endCxn id="2783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0" name=""/>
          <p:cNvCxnSpPr>
            <a:stCxn id="2782" idx="4"/>
            <a:endCxn id="2793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1" name=""/>
          <p:cNvCxnSpPr>
            <a:stCxn id="2795" idx="7"/>
            <a:endCxn id="2775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802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7" name=""/>
          <p:cNvCxnSpPr>
            <a:stCxn id="2780" idx="4"/>
            <a:endCxn id="2794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828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2" name=""/>
          <p:cNvCxnSpPr>
            <a:stCxn id="2830" idx="6"/>
            <a:endCxn id="2831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833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9" name=""/>
          <p:cNvCxnSpPr>
            <a:stCxn id="2830" idx="3"/>
            <a:endCxn id="2835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40" name=""/>
          <p:cNvCxnSpPr>
            <a:stCxn id="2835" idx="5"/>
            <a:endCxn id="2836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841" name=""/>
          <p:cNvCxnSpPr>
            <a:stCxn id="2836" idx="7"/>
            <a:endCxn id="2838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42" name=""/>
          <p:cNvCxnSpPr>
            <a:stCxn id="2837" idx="3"/>
            <a:endCxn id="2838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43" name=""/>
          <p:cNvCxnSpPr>
            <a:stCxn id="2834" idx="4"/>
            <a:endCxn id="2838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44" name=""/>
          <p:cNvCxnSpPr>
            <a:stCxn id="2830" idx="4"/>
            <a:endCxn id="2836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845" name=""/>
          <p:cNvCxnSpPr>
            <a:stCxn id="2831" idx="3"/>
            <a:endCxn id="2834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46" name=""/>
          <p:cNvCxnSpPr>
            <a:stCxn id="2831" idx="4"/>
            <a:endCxn id="2837" idx="0"/>
          </p:cNvCxnSpPr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847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0" name=""/>
          <p:cNvCxnSpPr>
            <a:stCxn id="2836" idx="6"/>
            <a:endCxn id="2847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51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52" name=""/>
          <p:cNvCxnSpPr>
            <a:stCxn id="2835" idx="1"/>
            <a:endCxn id="2849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7" idx="1"/>
            <a:endCxn id="2838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54" name=""/>
          <p:cNvCxnSpPr>
            <a:stCxn id="2837" idx="4"/>
            <a:endCxn id="2847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55" name=""/>
          <p:cNvCxnSpPr>
            <a:stCxn id="2849" idx="7"/>
            <a:endCxn id="2830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56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1" name=""/>
          <p:cNvCxnSpPr>
            <a:stCxn id="2835" idx="4"/>
            <a:endCxn id="2848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4" name=""/>
          <p:cNvCxnSpPr>
            <a:stCxn id="2882" idx="6"/>
            <a:endCxn id="288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88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1" name=""/>
          <p:cNvCxnSpPr>
            <a:stCxn id="2882" idx="3"/>
            <a:endCxn id="288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892" name=""/>
          <p:cNvCxnSpPr>
            <a:stCxn id="2887" idx="5"/>
            <a:endCxn id="288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893" name=""/>
          <p:cNvCxnSpPr>
            <a:stCxn id="2888" idx="7"/>
            <a:endCxn id="289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4" name=""/>
          <p:cNvCxnSpPr>
            <a:stCxn id="2889" idx="3"/>
            <a:endCxn id="289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5" name=""/>
          <p:cNvCxnSpPr>
            <a:stCxn id="2886" idx="4"/>
            <a:endCxn id="289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6" name=""/>
          <p:cNvCxnSpPr>
            <a:stCxn id="2882" idx="4"/>
            <a:endCxn id="288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897" name=""/>
          <p:cNvCxnSpPr>
            <a:stCxn id="2883" idx="3"/>
            <a:endCxn id="288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898" name=""/>
          <p:cNvCxnSpPr>
            <a:stCxn id="2883" idx="4"/>
            <a:endCxn id="288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899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3" name=""/>
          <p:cNvCxnSpPr>
            <a:stCxn id="2888" idx="6"/>
            <a:endCxn id="2900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4" name=""/>
          <p:cNvCxnSpPr>
            <a:stCxn id="2888" idx="2"/>
            <a:endCxn id="2901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5" name=""/>
          <p:cNvCxnSpPr>
            <a:stCxn id="2887" idx="1"/>
            <a:endCxn id="2902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06" name=""/>
          <p:cNvCxnSpPr>
            <a:stCxn id="2900" idx="1"/>
            <a:endCxn id="289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7" name=""/>
          <p:cNvCxnSpPr>
            <a:stCxn id="2889" idx="4"/>
            <a:endCxn id="2900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8" name=""/>
          <p:cNvCxnSpPr>
            <a:stCxn id="2902" idx="7"/>
            <a:endCxn id="288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909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4" name=""/>
          <p:cNvCxnSpPr>
            <a:stCxn id="2887" idx="4"/>
            <a:endCxn id="2901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935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9" name=""/>
          <p:cNvCxnSpPr>
            <a:stCxn id="2937" idx="6"/>
            <a:endCxn id="2938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0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6" name=""/>
          <p:cNvCxnSpPr>
            <a:stCxn id="2937" idx="3"/>
            <a:endCxn id="2942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47" name=""/>
          <p:cNvCxnSpPr>
            <a:stCxn id="2942" idx="5"/>
            <a:endCxn id="2943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948" name=""/>
          <p:cNvCxnSpPr>
            <a:stCxn id="2943" idx="7"/>
            <a:endCxn id="2945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49" name=""/>
          <p:cNvCxnSpPr>
            <a:stCxn id="2944" idx="3"/>
            <a:endCxn id="2945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50" name=""/>
          <p:cNvCxnSpPr>
            <a:stCxn id="2941" idx="4"/>
            <a:endCxn id="2945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51" name=""/>
          <p:cNvCxnSpPr>
            <a:stCxn id="2937" idx="4"/>
            <a:endCxn id="2943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952" name=""/>
          <p:cNvCxnSpPr>
            <a:stCxn id="2938" idx="3"/>
            <a:endCxn id="2941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2953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2954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7" name=""/>
          <p:cNvCxnSpPr>
            <a:stCxn id="2943" idx="6"/>
            <a:endCxn id="2954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58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59" name=""/>
          <p:cNvCxnSpPr>
            <a:stCxn id="2942" idx="1"/>
            <a:endCxn id="2956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0" name=""/>
          <p:cNvCxnSpPr>
            <a:stCxn id="2954" idx="1"/>
            <a:endCxn id="2945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61" name=""/>
          <p:cNvCxnSpPr>
            <a:stCxn id="2944" idx="4"/>
            <a:endCxn id="2954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62" name=""/>
          <p:cNvCxnSpPr>
            <a:stCxn id="2956" idx="7"/>
            <a:endCxn id="2937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63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8" name=""/>
          <p:cNvCxnSpPr>
            <a:stCxn id="2942" idx="4"/>
            <a:endCxn id="2955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1" name=""/>
          <p:cNvCxnSpPr>
            <a:stCxn id="2989" idx="6"/>
            <a:endCxn id="2990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2992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8" name=""/>
          <p:cNvCxnSpPr>
            <a:stCxn id="2989" idx="3"/>
            <a:endCxn id="2994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2999" name=""/>
          <p:cNvCxnSpPr>
            <a:stCxn id="2994" idx="5"/>
            <a:endCxn id="2995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00" name=""/>
          <p:cNvCxnSpPr>
            <a:stCxn id="2995" idx="7"/>
            <a:endCxn id="2997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1" name=""/>
          <p:cNvCxnSpPr>
            <a:stCxn id="2996" idx="3"/>
            <a:endCxn id="2997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02" name=""/>
          <p:cNvCxnSpPr>
            <a:stCxn id="2993" idx="4"/>
            <a:endCxn id="2997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3" name=""/>
          <p:cNvCxnSpPr>
            <a:stCxn id="2989" idx="4"/>
            <a:endCxn id="2995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04" name=""/>
          <p:cNvCxnSpPr>
            <a:stCxn id="2990" idx="3"/>
            <a:endCxn id="2993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05" name=""/>
          <p:cNvCxnSpPr>
            <a:stCxn id="2990" idx="4"/>
            <a:endCxn id="2996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006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0" name=""/>
          <p:cNvCxnSpPr>
            <a:stCxn id="2995" idx="6"/>
            <a:endCxn id="3007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1" name=""/>
          <p:cNvCxnSpPr>
            <a:stCxn id="2995" idx="2"/>
            <a:endCxn id="3008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2" name=""/>
          <p:cNvCxnSpPr>
            <a:stCxn id="2994" idx="1"/>
            <a:endCxn id="3009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13" name=""/>
          <p:cNvCxnSpPr>
            <a:stCxn id="3007" idx="1"/>
            <a:endCxn id="2997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4" name=""/>
          <p:cNvCxnSpPr>
            <a:stCxn id="2996" idx="4"/>
            <a:endCxn id="3007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15" name=""/>
          <p:cNvCxnSpPr>
            <a:stCxn id="3009" idx="7"/>
            <a:endCxn id="2989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016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1" name=""/>
          <p:cNvCxnSpPr>
            <a:stCxn id="2994" idx="4"/>
            <a:endCxn id="3008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042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6" name=""/>
          <p:cNvCxnSpPr>
            <a:stCxn id="3044" idx="6"/>
            <a:endCxn id="3045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7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3" name=""/>
          <p:cNvCxnSpPr>
            <a:stCxn id="3044" idx="3"/>
            <a:endCxn id="3049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54" name=""/>
          <p:cNvCxnSpPr>
            <a:stCxn id="3049" idx="5"/>
            <a:endCxn id="3050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55" name=""/>
          <p:cNvCxnSpPr>
            <a:stCxn id="3050" idx="7"/>
            <a:endCxn id="3052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56" name=""/>
          <p:cNvCxnSpPr>
            <a:stCxn id="3051" idx="3"/>
            <a:endCxn id="3052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57" name=""/>
          <p:cNvCxnSpPr>
            <a:stCxn id="3048" idx="4"/>
            <a:endCxn id="3052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58" name=""/>
          <p:cNvCxnSpPr>
            <a:stCxn id="3044" idx="4"/>
            <a:endCxn id="3050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59" name=""/>
          <p:cNvCxnSpPr>
            <a:stCxn id="3045" idx="3"/>
            <a:endCxn id="3048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60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1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4" name=""/>
          <p:cNvCxnSpPr>
            <a:stCxn id="3050" idx="6"/>
            <a:endCxn id="3061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65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66" name=""/>
          <p:cNvCxnSpPr>
            <a:stCxn id="3049" idx="1"/>
            <a:endCxn id="3063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7" name=""/>
          <p:cNvCxnSpPr>
            <a:stCxn id="3061" idx="1"/>
            <a:endCxn id="3052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068" name=""/>
          <p:cNvCxnSpPr>
            <a:stCxn id="3051" idx="4"/>
            <a:endCxn id="3061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069" name=""/>
          <p:cNvCxnSpPr>
            <a:stCxn id="3063" idx="7"/>
            <a:endCxn id="3044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70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5" name=""/>
          <p:cNvCxnSpPr>
            <a:stCxn id="3049" idx="4"/>
            <a:endCxn id="3062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8" name=""/>
          <p:cNvCxnSpPr>
            <a:stCxn id="3096" idx="6"/>
            <a:endCxn id="3097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099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5" name=""/>
          <p:cNvCxnSpPr>
            <a:stCxn id="3096" idx="3"/>
            <a:endCxn id="3101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06" name=""/>
          <p:cNvCxnSpPr>
            <a:stCxn id="3101" idx="5"/>
            <a:endCxn id="3102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07" name=""/>
          <p:cNvCxnSpPr>
            <a:stCxn id="3102" idx="7"/>
            <a:endCxn id="3104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8" name=""/>
          <p:cNvCxnSpPr>
            <a:stCxn id="3103" idx="3"/>
            <a:endCxn id="3104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09" name=""/>
          <p:cNvCxnSpPr>
            <a:stCxn id="3100" idx="4"/>
            <a:endCxn id="3104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10" name=""/>
          <p:cNvCxnSpPr>
            <a:stCxn id="3096" idx="4"/>
            <a:endCxn id="3102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11" name=""/>
          <p:cNvCxnSpPr>
            <a:stCxn id="3097" idx="3"/>
            <a:endCxn id="3100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12" name=""/>
          <p:cNvCxnSpPr>
            <a:stCxn id="3097" idx="4"/>
            <a:endCxn id="3103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113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7" name=""/>
          <p:cNvCxnSpPr>
            <a:stCxn id="3102" idx="6"/>
            <a:endCxn id="3114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8" name=""/>
          <p:cNvCxnSpPr>
            <a:stCxn id="3102" idx="2"/>
            <a:endCxn id="3115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9" name=""/>
          <p:cNvCxnSpPr>
            <a:stCxn id="3101" idx="1"/>
            <a:endCxn id="3116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20" name=""/>
          <p:cNvCxnSpPr>
            <a:stCxn id="3114" idx="1"/>
            <a:endCxn id="3104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1" name=""/>
          <p:cNvCxnSpPr>
            <a:stCxn id="3103" idx="4"/>
            <a:endCxn id="3114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22" name=""/>
          <p:cNvCxnSpPr>
            <a:stCxn id="3116" idx="7"/>
            <a:endCxn id="3096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123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8" name=""/>
          <p:cNvCxnSpPr>
            <a:stCxn id="3101" idx="4"/>
            <a:endCxn id="3115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149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3" name=""/>
          <p:cNvCxnSpPr>
            <a:stCxn id="3151" idx="6"/>
            <a:endCxn id="3152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4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0" name=""/>
          <p:cNvCxnSpPr>
            <a:stCxn id="3151" idx="3"/>
            <a:endCxn id="3156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61" name=""/>
          <p:cNvCxnSpPr>
            <a:stCxn id="3156" idx="5"/>
            <a:endCxn id="3157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62" name=""/>
          <p:cNvCxnSpPr>
            <a:stCxn id="3157" idx="7"/>
            <a:endCxn id="3159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63" name=""/>
          <p:cNvCxnSpPr>
            <a:stCxn id="3158" idx="3"/>
            <a:endCxn id="3159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64" name=""/>
          <p:cNvCxnSpPr>
            <a:stCxn id="3155" idx="4"/>
            <a:endCxn id="3159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65" name=""/>
          <p:cNvCxnSpPr>
            <a:stCxn id="3151" idx="4"/>
            <a:endCxn id="3157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66" name=""/>
          <p:cNvCxnSpPr>
            <a:stCxn id="3152" idx="3"/>
            <a:endCxn id="3155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7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8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1" name=""/>
          <p:cNvCxnSpPr>
            <a:stCxn id="3157" idx="6"/>
            <a:endCxn id="3168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72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73" name=""/>
          <p:cNvCxnSpPr>
            <a:stCxn id="3156" idx="1"/>
            <a:endCxn id="3170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4" name=""/>
          <p:cNvCxnSpPr>
            <a:stCxn id="3168" idx="1"/>
            <a:endCxn id="3159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175" name=""/>
          <p:cNvCxnSpPr>
            <a:stCxn id="3158" idx="4"/>
            <a:endCxn id="3168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176" name=""/>
          <p:cNvCxnSpPr>
            <a:stCxn id="3170" idx="7"/>
            <a:endCxn id="3151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77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2" name=""/>
          <p:cNvCxnSpPr>
            <a:stCxn id="3156" idx="4"/>
            <a:endCxn id="3169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5" name=""/>
          <p:cNvCxnSpPr>
            <a:stCxn id="3203" idx="6"/>
            <a:endCxn id="3204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206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2" name=""/>
          <p:cNvCxnSpPr>
            <a:stCxn id="3203" idx="3"/>
            <a:endCxn id="3208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13" name=""/>
          <p:cNvCxnSpPr>
            <a:stCxn id="3208" idx="5"/>
            <a:endCxn id="3209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14" name=""/>
          <p:cNvCxnSpPr>
            <a:stCxn id="3209" idx="7"/>
            <a:endCxn id="3211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15" name=""/>
          <p:cNvCxnSpPr>
            <a:stCxn id="3210" idx="3"/>
            <a:endCxn id="3211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16" name=""/>
          <p:cNvCxnSpPr>
            <a:stCxn id="3207" idx="4"/>
            <a:endCxn id="3211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17" name=""/>
          <p:cNvCxnSpPr>
            <a:stCxn id="3203" idx="4"/>
            <a:endCxn id="3209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18" name=""/>
          <p:cNvCxnSpPr>
            <a:stCxn id="3204" idx="3"/>
            <a:endCxn id="3207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19" name=""/>
          <p:cNvCxnSpPr>
            <a:stCxn id="3204" idx="4"/>
            <a:endCxn id="3210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220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4" name=""/>
          <p:cNvCxnSpPr>
            <a:stCxn id="3209" idx="6"/>
            <a:endCxn id="3221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5" name=""/>
          <p:cNvCxnSpPr>
            <a:stCxn id="3209" idx="2"/>
            <a:endCxn id="3222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6" name=""/>
          <p:cNvCxnSpPr>
            <a:stCxn id="3208" idx="1"/>
            <a:endCxn id="3223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27" name=""/>
          <p:cNvCxnSpPr>
            <a:stCxn id="3221" idx="1"/>
            <a:endCxn id="3211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28" name=""/>
          <p:cNvCxnSpPr>
            <a:stCxn id="3210" idx="4"/>
            <a:endCxn id="3221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29" name=""/>
          <p:cNvCxnSpPr>
            <a:stCxn id="3223" idx="7"/>
            <a:endCxn id="3203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230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5" name=""/>
          <p:cNvCxnSpPr>
            <a:stCxn id="3208" idx="4"/>
            <a:endCxn id="3222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256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0" name=""/>
          <p:cNvCxnSpPr>
            <a:stCxn id="3258" idx="6"/>
            <a:endCxn id="3259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61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7" name=""/>
          <p:cNvCxnSpPr>
            <a:stCxn id="3258" idx="3"/>
            <a:endCxn id="3263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68" name=""/>
          <p:cNvCxnSpPr>
            <a:stCxn id="3263" idx="5"/>
            <a:endCxn id="3264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69" name=""/>
          <p:cNvCxnSpPr>
            <a:stCxn id="3264" idx="7"/>
            <a:endCxn id="3266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70" name=""/>
          <p:cNvCxnSpPr>
            <a:stCxn id="3265" idx="3"/>
            <a:endCxn id="3266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71" name=""/>
          <p:cNvCxnSpPr>
            <a:stCxn id="3262" idx="4"/>
            <a:endCxn id="3266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2" name=""/>
          <p:cNvCxnSpPr>
            <a:stCxn id="3258" idx="4"/>
            <a:endCxn id="3264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73" name=""/>
          <p:cNvCxnSpPr>
            <a:stCxn id="3259" idx="3"/>
            <a:endCxn id="3262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4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75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8" name=""/>
          <p:cNvCxnSpPr>
            <a:stCxn id="3264" idx="6"/>
            <a:endCxn id="3275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79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280" name=""/>
          <p:cNvCxnSpPr>
            <a:stCxn id="3263" idx="1"/>
            <a:endCxn id="3277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1" name=""/>
          <p:cNvCxnSpPr>
            <a:stCxn id="3275" idx="1"/>
            <a:endCxn id="3266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82" name=""/>
          <p:cNvCxnSpPr>
            <a:stCxn id="3265" idx="4"/>
            <a:endCxn id="3275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283" name=""/>
          <p:cNvCxnSpPr>
            <a:stCxn id="3277" idx="7"/>
            <a:endCxn id="3258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84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9" name=""/>
          <p:cNvCxnSpPr>
            <a:stCxn id="3263" idx="4"/>
            <a:endCxn id="3276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2" name=""/>
          <p:cNvCxnSpPr>
            <a:stCxn id="3310" idx="6"/>
            <a:endCxn id="331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31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9" name=""/>
          <p:cNvCxnSpPr>
            <a:stCxn id="3310" idx="3"/>
            <a:endCxn id="331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20" name=""/>
          <p:cNvCxnSpPr>
            <a:stCxn id="3315" idx="5"/>
            <a:endCxn id="331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21" name=""/>
          <p:cNvCxnSpPr>
            <a:stCxn id="3316" idx="7"/>
            <a:endCxn id="331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22" name=""/>
          <p:cNvCxnSpPr>
            <a:stCxn id="3317" idx="3"/>
            <a:endCxn id="331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23" name=""/>
          <p:cNvCxnSpPr>
            <a:stCxn id="3314" idx="4"/>
            <a:endCxn id="331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24" name=""/>
          <p:cNvCxnSpPr>
            <a:stCxn id="3310" idx="4"/>
            <a:endCxn id="331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25" name=""/>
          <p:cNvCxnSpPr>
            <a:stCxn id="3311" idx="3"/>
            <a:endCxn id="331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26" name=""/>
          <p:cNvCxnSpPr>
            <a:stCxn id="3311" idx="4"/>
            <a:endCxn id="331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32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1" name=""/>
          <p:cNvCxnSpPr>
            <a:stCxn id="3316" idx="6"/>
            <a:endCxn id="332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32" name=""/>
          <p:cNvCxnSpPr>
            <a:stCxn id="3316" idx="2"/>
            <a:endCxn id="332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3" name=""/>
          <p:cNvCxnSpPr>
            <a:stCxn id="3315" idx="1"/>
            <a:endCxn id="333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34" name=""/>
          <p:cNvCxnSpPr>
            <a:stCxn id="3328" idx="1"/>
            <a:endCxn id="331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35" name=""/>
          <p:cNvCxnSpPr>
            <a:stCxn id="3317" idx="4"/>
            <a:endCxn id="332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36" name=""/>
          <p:cNvCxnSpPr>
            <a:stCxn id="3330" idx="7"/>
            <a:endCxn id="331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33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2" name=""/>
          <p:cNvCxnSpPr>
            <a:stCxn id="3315" idx="4"/>
            <a:endCxn id="332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36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7" name=""/>
          <p:cNvCxnSpPr>
            <a:stCxn id="3365" idx="6"/>
            <a:endCxn id="3366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8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4" name=""/>
          <p:cNvCxnSpPr>
            <a:stCxn id="3365" idx="3"/>
            <a:endCxn id="3370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75" name=""/>
          <p:cNvCxnSpPr>
            <a:stCxn id="3370" idx="5"/>
            <a:endCxn id="3371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76" name=""/>
          <p:cNvCxnSpPr>
            <a:stCxn id="3371" idx="7"/>
            <a:endCxn id="3373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77" name=""/>
          <p:cNvCxnSpPr>
            <a:stCxn id="3372" idx="3"/>
            <a:endCxn id="3373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78" name=""/>
          <p:cNvCxnSpPr>
            <a:stCxn id="3369" idx="4"/>
            <a:endCxn id="3373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9" name=""/>
          <p:cNvCxnSpPr>
            <a:stCxn id="3365" idx="4"/>
            <a:endCxn id="3371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80" name=""/>
          <p:cNvCxnSpPr>
            <a:stCxn id="3366" idx="3"/>
            <a:endCxn id="3369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1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82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5" name=""/>
          <p:cNvCxnSpPr>
            <a:stCxn id="3371" idx="6"/>
            <a:endCxn id="3382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386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87" name=""/>
          <p:cNvCxnSpPr>
            <a:stCxn id="3370" idx="1"/>
            <a:endCxn id="3384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8" name=""/>
          <p:cNvCxnSpPr>
            <a:stCxn id="3382" idx="1"/>
            <a:endCxn id="3373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9" name=""/>
          <p:cNvCxnSpPr>
            <a:stCxn id="3372" idx="4"/>
            <a:endCxn id="3382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390" name=""/>
          <p:cNvCxnSpPr>
            <a:stCxn id="3384" idx="7"/>
            <a:endCxn id="3365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91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6" name=""/>
          <p:cNvCxnSpPr>
            <a:stCxn id="3370" idx="4"/>
            <a:endCxn id="3383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91440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9" name=""/>
          <p:cNvCxnSpPr>
            <a:stCxn id="3417" idx="6"/>
            <a:endCxn id="3418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420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6" name=""/>
          <p:cNvCxnSpPr>
            <a:stCxn id="3417" idx="3"/>
            <a:endCxn id="3422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27" name=""/>
          <p:cNvCxnSpPr>
            <a:stCxn id="3422" idx="5"/>
            <a:endCxn id="3423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428" name=""/>
          <p:cNvCxnSpPr>
            <a:stCxn id="3423" idx="7"/>
            <a:endCxn id="3425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29" name=""/>
          <p:cNvCxnSpPr>
            <a:stCxn id="3424" idx="3"/>
            <a:endCxn id="3425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30" name=""/>
          <p:cNvCxnSpPr>
            <a:stCxn id="3421" idx="4"/>
            <a:endCxn id="3425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31" name=""/>
          <p:cNvCxnSpPr>
            <a:stCxn id="3417" idx="4"/>
            <a:endCxn id="3423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32" name=""/>
          <p:cNvCxnSpPr>
            <a:stCxn id="3418" idx="3"/>
            <a:endCxn id="3421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33" name=""/>
          <p:cNvCxnSpPr>
            <a:stCxn id="3418" idx="4"/>
            <a:endCxn id="3424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434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8" name=""/>
          <p:cNvCxnSpPr>
            <a:stCxn id="3423" idx="6"/>
            <a:endCxn id="3435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39" name=""/>
          <p:cNvCxnSpPr>
            <a:stCxn id="3423" idx="2"/>
            <a:endCxn id="3436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440" name=""/>
          <p:cNvCxnSpPr>
            <a:stCxn id="3422" idx="1"/>
            <a:endCxn id="3437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41" name=""/>
          <p:cNvCxnSpPr>
            <a:stCxn id="3435" idx="1"/>
            <a:endCxn id="3425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42" name=""/>
          <p:cNvCxnSpPr>
            <a:stCxn id="3424" idx="4"/>
            <a:endCxn id="3435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43" name=""/>
          <p:cNvCxnSpPr>
            <a:stCxn id="3437" idx="7"/>
            <a:endCxn id="3417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444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9" name=""/>
          <p:cNvCxnSpPr>
            <a:stCxn id="3422" idx="4"/>
            <a:endCxn id="3436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470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4" name=""/>
          <p:cNvCxnSpPr>
            <a:stCxn id="3472" idx="6"/>
            <a:endCxn id="3473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75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1" name=""/>
          <p:cNvCxnSpPr>
            <a:stCxn id="3472" idx="3"/>
            <a:endCxn id="3477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82" name=""/>
          <p:cNvCxnSpPr>
            <a:stCxn id="3477" idx="5"/>
            <a:endCxn id="3478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483" name=""/>
          <p:cNvCxnSpPr>
            <a:stCxn id="3478" idx="7"/>
            <a:endCxn id="3480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84" name=""/>
          <p:cNvCxnSpPr>
            <a:stCxn id="3479" idx="3"/>
            <a:endCxn id="3480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85" name=""/>
          <p:cNvCxnSpPr>
            <a:stCxn id="3476" idx="4"/>
            <a:endCxn id="3480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6" name=""/>
          <p:cNvCxnSpPr/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87" name=""/>
          <p:cNvCxnSpPr>
            <a:stCxn id="3473" idx="3"/>
            <a:endCxn id="3476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8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89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2" name=""/>
          <p:cNvCxnSpPr>
            <a:stCxn id="3478" idx="6"/>
            <a:endCxn id="3489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3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494" name=""/>
          <p:cNvCxnSpPr>
            <a:stCxn id="3477" idx="1"/>
            <a:endCxn id="3491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5" name=""/>
          <p:cNvCxnSpPr>
            <a:stCxn id="3489" idx="1"/>
            <a:endCxn id="3480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6" name=""/>
          <p:cNvCxnSpPr>
            <a:stCxn id="3479" idx="4"/>
            <a:endCxn id="3489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497" name=""/>
          <p:cNvCxnSpPr>
            <a:stCxn id="3491" idx="7"/>
            <a:endCxn id="3472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98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3" name=""/>
          <p:cNvCxnSpPr>
            <a:stCxn id="3477" idx="4"/>
            <a:endCxn id="3490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6" name=""/>
          <p:cNvCxnSpPr>
            <a:stCxn id="3524" idx="6"/>
            <a:endCxn id="3525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527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3" name=""/>
          <p:cNvCxnSpPr>
            <a:stCxn id="3524" idx="3"/>
            <a:endCxn id="3529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34" name=""/>
          <p:cNvCxnSpPr>
            <a:stCxn id="3529" idx="5"/>
            <a:endCxn id="3530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35" name=""/>
          <p:cNvCxnSpPr>
            <a:stCxn id="3530" idx="7"/>
            <a:endCxn id="3532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36" name=""/>
          <p:cNvCxnSpPr>
            <a:stCxn id="3531" idx="3"/>
            <a:endCxn id="3532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37" name=""/>
          <p:cNvCxnSpPr>
            <a:stCxn id="3528" idx="4"/>
            <a:endCxn id="3532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38" name=""/>
          <p:cNvCxnSpPr>
            <a:stCxn id="3524" idx="4"/>
            <a:endCxn id="3530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39" name=""/>
          <p:cNvCxnSpPr>
            <a:stCxn id="3525" idx="3"/>
            <a:endCxn id="3528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40" name=""/>
          <p:cNvCxnSpPr>
            <a:stCxn id="3525" idx="4"/>
            <a:endCxn id="3531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541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5" name=""/>
          <p:cNvCxnSpPr>
            <a:stCxn id="3530" idx="6"/>
            <a:endCxn id="3542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46" name=""/>
          <p:cNvCxnSpPr>
            <a:stCxn id="3530" idx="2"/>
            <a:endCxn id="3543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47" name=""/>
          <p:cNvCxnSpPr>
            <a:stCxn id="3529" idx="1"/>
            <a:endCxn id="3544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48" name=""/>
          <p:cNvCxnSpPr>
            <a:stCxn id="3542" idx="1"/>
            <a:endCxn id="3532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49" name=""/>
          <p:cNvCxnSpPr>
            <a:stCxn id="3531" idx="4"/>
            <a:endCxn id="3542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50" name=""/>
          <p:cNvCxnSpPr>
            <a:stCxn id="3544" idx="7"/>
            <a:endCxn id="3524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551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6" name=""/>
          <p:cNvCxnSpPr>
            <a:stCxn id="3529" idx="4"/>
            <a:endCxn id="3543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57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1" name=""/>
          <p:cNvCxnSpPr>
            <a:stCxn id="3579" idx="6"/>
            <a:endCxn id="3580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82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8" name=""/>
          <p:cNvCxnSpPr>
            <a:stCxn id="3579" idx="3"/>
            <a:endCxn id="3584" idx="7"/>
          </p:cNvCxnSpPr>
          <p:nvPr/>
        </p:nvCxnSpPr>
        <p:spPr>
          <a:xfrm flipH="1">
            <a:off x="6028920" y="267660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89" name=""/>
          <p:cNvCxnSpPr>
            <a:stCxn id="3584" idx="5"/>
            <a:endCxn id="3585" idx="1"/>
          </p:cNvCxnSpPr>
          <p:nvPr/>
        </p:nvCxnSpPr>
        <p:spPr>
          <a:xfrm>
            <a:off x="6029280" y="42001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90" name=""/>
          <p:cNvCxnSpPr>
            <a:stCxn id="3585" idx="7"/>
            <a:endCxn id="3587" idx="4"/>
          </p:cNvCxnSpPr>
          <p:nvPr/>
        </p:nvCxnSpPr>
        <p:spPr>
          <a:xfrm flipV="1">
            <a:off x="7172280" y="47239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91" name=""/>
          <p:cNvCxnSpPr>
            <a:stCxn id="3586" idx="3"/>
            <a:endCxn id="3587" idx="7"/>
          </p:cNvCxnSpPr>
          <p:nvPr/>
        </p:nvCxnSpPr>
        <p:spPr>
          <a:xfrm flipH="1">
            <a:off x="7781400" y="3666600"/>
            <a:ext cx="43920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92" name=""/>
          <p:cNvCxnSpPr>
            <a:stCxn id="3583" idx="4"/>
            <a:endCxn id="3587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3" name=""/>
          <p:cNvCxnSpPr>
            <a:stCxn id="3579" idx="4"/>
            <a:endCxn id="3585" idx="0"/>
          </p:cNvCxnSpPr>
          <p:nvPr/>
        </p:nvCxnSpPr>
        <p:spPr>
          <a:xfrm>
            <a:off x="6857640" y="274320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594" name=""/>
          <p:cNvCxnSpPr>
            <a:stCxn id="3580" idx="3"/>
            <a:endCxn id="3583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5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96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9" name=""/>
          <p:cNvCxnSpPr>
            <a:stCxn id="3585" idx="6"/>
            <a:endCxn id="3596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0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1" name=""/>
          <p:cNvCxnSpPr>
            <a:stCxn id="3584" idx="1"/>
            <a:endCxn id="3598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2" name=""/>
          <p:cNvCxnSpPr>
            <a:stCxn id="3596" idx="1"/>
            <a:endCxn id="3587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3" name=""/>
          <p:cNvCxnSpPr>
            <a:stCxn id="3586" idx="4"/>
            <a:endCxn id="3596" idx="0"/>
          </p:cNvCxnSpPr>
          <p:nvPr/>
        </p:nvCxnSpPr>
        <p:spPr>
          <a:xfrm>
            <a:off x="8381520" y="37335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604" name=""/>
          <p:cNvCxnSpPr>
            <a:stCxn id="3598" idx="7"/>
            <a:endCxn id="3579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05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7925760" y="3886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8382960" y="4267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7392600" y="5105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5639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>
            <a:off x="63255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6325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6934680" y="41148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0" name=""/>
          <p:cNvCxnSpPr>
            <a:stCxn id="3584" idx="4"/>
            <a:endCxn id="3597" idx="0"/>
          </p:cNvCxnSpPr>
          <p:nvPr/>
        </p:nvCxnSpPr>
        <p:spPr>
          <a:xfrm>
            <a:off x="5867280" y="4266720"/>
            <a:ext cx="15336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66294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8229600" y="2286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4" name=""/>
          <p:cNvCxnSpPr>
            <a:stCxn id="3632" idx="6"/>
            <a:endCxn id="3633" idx="2"/>
          </p:cNvCxnSpPr>
          <p:nvPr/>
        </p:nvCxnSpPr>
        <p:spPr>
          <a:xfrm>
            <a:off x="7086240" y="25142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35" name=""/>
          <p:cNvSpPr/>
          <p:nvPr/>
        </p:nvSpPr>
        <p:spPr>
          <a:xfrm>
            <a:off x="7544880" y="228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7391520" y="3200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5638680" y="38098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781680" y="5943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8153280" y="3276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739152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1" name=""/>
          <p:cNvCxnSpPr>
            <a:stCxn id="3636" idx="4"/>
            <a:endCxn id="3640" idx="0"/>
          </p:cNvCxnSpPr>
          <p:nvPr/>
        </p:nvCxnSpPr>
        <p:spPr>
          <a:xfrm>
            <a:off x="7619760" y="3657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2" name=""/>
          <p:cNvCxnSpPr>
            <a:stCxn id="3633" idx="3"/>
            <a:endCxn id="3636" idx="7"/>
          </p:cNvCxnSpPr>
          <p:nvPr/>
        </p:nvCxnSpPr>
        <p:spPr>
          <a:xfrm flipH="1">
            <a:off x="7781040" y="2676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3" name=""/>
          <p:cNvCxnSpPr/>
          <p:nvPr/>
        </p:nvCxnSpPr>
        <p:spPr>
          <a:xfrm flipH="1">
            <a:off x="8381880" y="27432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44" name=""/>
          <p:cNvSpPr/>
          <p:nvPr/>
        </p:nvSpPr>
        <p:spPr>
          <a:xfrm>
            <a:off x="815328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5791320" y="5486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50292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7" name=""/>
          <p:cNvCxnSpPr>
            <a:stCxn id="3638" idx="6"/>
            <a:endCxn id="3644" idx="3"/>
          </p:cNvCxnSpPr>
          <p:nvPr/>
        </p:nvCxnSpPr>
        <p:spPr>
          <a:xfrm flipV="1">
            <a:off x="7238880" y="5648040"/>
            <a:ext cx="982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8" name=""/>
          <p:cNvCxnSpPr/>
          <p:nvPr/>
        </p:nvCxnSpPr>
        <p:spPr>
          <a:xfrm flipH="1" flipV="1">
            <a:off x="6171480" y="586656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49" name=""/>
          <p:cNvCxnSpPr>
            <a:stCxn id="3637" idx="1"/>
            <a:endCxn id="3646" idx="5"/>
          </p:cNvCxnSpPr>
          <p:nvPr/>
        </p:nvCxnSpPr>
        <p:spPr>
          <a:xfrm flipH="1" flipV="1">
            <a:off x="5419440" y="3514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0" name=""/>
          <p:cNvCxnSpPr>
            <a:stCxn id="3644" idx="1"/>
            <a:endCxn id="3640" idx="5"/>
          </p:cNvCxnSpPr>
          <p:nvPr/>
        </p:nvCxnSpPr>
        <p:spPr>
          <a:xfrm flipH="1" flipV="1">
            <a:off x="7781400" y="4657320"/>
            <a:ext cx="43920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1" name=""/>
          <p:cNvCxnSpPr>
            <a:stCxn id="3646" idx="7"/>
            <a:endCxn id="3632" idx="2"/>
          </p:cNvCxnSpPr>
          <p:nvPr/>
        </p:nvCxnSpPr>
        <p:spPr>
          <a:xfrm flipV="1">
            <a:off x="5419800" y="25138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2" name=""/>
          <p:cNvSpPr/>
          <p:nvPr/>
        </p:nvSpPr>
        <p:spPr>
          <a:xfrm>
            <a:off x="5487480" y="3429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7316280" y="3809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84980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8459280" y="281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7925760" y="4724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7773480" y="5867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6325560" y="5943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7924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5107320" y="3200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67075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8307720" y="23623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71680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7468920" y="3276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8231040" y="3352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469280" y="4343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5869080" y="5562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8231040" y="53341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6859440" y="60199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304920" y="45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5257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4" name=""/>
          <p:cNvCxnSpPr>
            <a:stCxn id="3672" idx="6"/>
            <a:endCxn id="367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1" name=""/>
          <p:cNvCxnSpPr>
            <a:stCxn id="3672" idx="3"/>
            <a:endCxn id="367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2" name=""/>
          <p:cNvCxnSpPr>
            <a:stCxn id="3677" idx="5"/>
            <a:endCxn id="367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3" name=""/>
          <p:cNvCxnSpPr>
            <a:stCxn id="3678" idx="7"/>
            <a:endCxn id="368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4" name=""/>
          <p:cNvCxnSpPr>
            <a:stCxn id="3679" idx="3"/>
            <a:endCxn id="368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5" name=""/>
          <p:cNvCxnSpPr>
            <a:stCxn id="3676" idx="4"/>
            <a:endCxn id="368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6" name=""/>
          <p:cNvCxnSpPr>
            <a:stCxn id="3672" idx="4"/>
            <a:endCxn id="367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7" name=""/>
          <p:cNvCxnSpPr>
            <a:stCxn id="3673" idx="3"/>
            <a:endCxn id="367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8" name=""/>
          <p:cNvCxnSpPr>
            <a:stCxn id="3673" idx="4"/>
            <a:endCxn id="367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89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2" name=""/>
          <p:cNvCxnSpPr>
            <a:stCxn id="3678" idx="6"/>
            <a:endCxn id="3689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3" name=""/>
          <p:cNvCxnSpPr>
            <a:stCxn id="3678" idx="2"/>
            <a:endCxn id="3690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4" name=""/>
          <p:cNvCxnSpPr>
            <a:stCxn id="3677" idx="1"/>
            <a:endCxn id="3691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5" name=""/>
          <p:cNvCxnSpPr>
            <a:stCxn id="3689" idx="1"/>
            <a:endCxn id="368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6" name=""/>
          <p:cNvCxnSpPr>
            <a:stCxn id="3679" idx="4"/>
            <a:endCxn id="3689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7" name=""/>
          <p:cNvCxnSpPr>
            <a:stCxn id="3691" idx="7"/>
            <a:endCxn id="367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98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3" name=""/>
          <p:cNvCxnSpPr>
            <a:stCxn id="3677" idx="4"/>
            <a:endCxn id="3690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"/>
          <p:cNvSpPr/>
          <p:nvPr/>
        </p:nvSpPr>
        <p:spPr>
          <a:xfrm>
            <a:off x="762120" y="228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Analysis of Prim's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762120" y="1219320"/>
            <a:ext cx="74674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=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(m + n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 = edges, n = no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Kruskal’s, it doesn’t need to see all of the graph at once.  It can deal with it one piece at a ti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so doesn’t need to worry if adding an edge will create a cycle since this algorithm deals primarily with the nodes, and not the e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6" name=""/>
          <p:cNvSpPr/>
          <p:nvPr/>
        </p:nvSpPr>
        <p:spPr>
          <a:xfrm>
            <a:off x="838080" y="2286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oruvka's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762120" y="1219320"/>
            <a:ext cx="75438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lgorithm is similar to Prim’s, but nodes are added to the new graph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around the grap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reates a list of trees, each containing one node from the original graph and proceeds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m along the smallest-weight connecting edges until there’s only one tree, which is, of course, the M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"/>
          <p:cNvSpPr/>
          <p:nvPr/>
        </p:nvSpPr>
        <p:spPr>
          <a:xfrm>
            <a:off x="762120" y="1219320"/>
            <a:ext cx="7391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a lis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s, each containing a single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le list has more than one tre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tree in the list, find the node not connected to the tree with the smallest connecting edge to that tr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all the edges found to the new graph, thus creating a new set of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ep will have joined groups of trees, until only one tree rema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83808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oruvka's Algorithm: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2" name=""/>
          <p:cNvCxnSpPr>
            <a:stCxn id="3730" idx="6"/>
            <a:endCxn id="373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3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9" name=""/>
          <p:cNvCxnSpPr>
            <a:stCxn id="3730" idx="3"/>
            <a:endCxn id="373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0" name=""/>
          <p:cNvCxnSpPr>
            <a:stCxn id="3735" idx="5"/>
            <a:endCxn id="373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1" name=""/>
          <p:cNvCxnSpPr>
            <a:stCxn id="3736" idx="7"/>
            <a:endCxn id="373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2" name=""/>
          <p:cNvCxnSpPr>
            <a:stCxn id="3737" idx="3"/>
            <a:endCxn id="373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3" name=""/>
          <p:cNvCxnSpPr>
            <a:stCxn id="3734" idx="4"/>
            <a:endCxn id="373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4" name=""/>
          <p:cNvCxnSpPr>
            <a:stCxn id="3730" idx="4"/>
            <a:endCxn id="373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5" name=""/>
          <p:cNvCxnSpPr>
            <a:stCxn id="3731" idx="3"/>
            <a:endCxn id="373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6" name=""/>
          <p:cNvCxnSpPr>
            <a:stCxn id="3731" idx="4"/>
            <a:endCxn id="373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4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1" name=""/>
          <p:cNvCxnSpPr>
            <a:stCxn id="3736" idx="6"/>
            <a:endCxn id="374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2" name=""/>
          <p:cNvCxnSpPr>
            <a:stCxn id="3736" idx="2"/>
            <a:endCxn id="374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3" name=""/>
          <p:cNvCxnSpPr>
            <a:stCxn id="3735" idx="1"/>
            <a:endCxn id="375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4" name=""/>
          <p:cNvCxnSpPr>
            <a:stCxn id="3748" idx="1"/>
            <a:endCxn id="373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5" name=""/>
          <p:cNvCxnSpPr>
            <a:stCxn id="3737" idx="4"/>
            <a:endCxn id="374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6" name=""/>
          <p:cNvCxnSpPr>
            <a:stCxn id="3750" idx="7"/>
            <a:endCxn id="373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5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2" name=""/>
          <p:cNvCxnSpPr>
            <a:stCxn id="3735" idx="4"/>
            <a:endCxn id="374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8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/>
          </p:nvPr>
        </p:nvSpPr>
        <p:spPr>
          <a:xfrm>
            <a:off x="5052960" y="1600200"/>
            <a:ext cx="185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7152840" y="1600200"/>
            <a:ext cx="145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8" name=""/>
          <p:cNvCxnSpPr>
            <a:stCxn id="3786" idx="6"/>
            <a:endCxn id="3787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789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5" name=""/>
          <p:cNvCxnSpPr>
            <a:stCxn id="3786" idx="3"/>
            <a:endCxn id="3791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796" name=""/>
          <p:cNvCxnSpPr>
            <a:stCxn id="3791" idx="5"/>
            <a:endCxn id="3792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797" name=""/>
          <p:cNvCxnSpPr>
            <a:stCxn id="3792" idx="7"/>
            <a:endCxn id="3794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798" name=""/>
          <p:cNvCxnSpPr>
            <a:stCxn id="3793" idx="3"/>
            <a:endCxn id="3794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799" name=""/>
          <p:cNvCxnSpPr>
            <a:stCxn id="3790" idx="4"/>
            <a:endCxn id="3794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00" name=""/>
          <p:cNvCxnSpPr>
            <a:stCxn id="3786" idx="4"/>
            <a:endCxn id="3792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01" name=""/>
          <p:cNvCxnSpPr>
            <a:stCxn id="3787" idx="3"/>
            <a:endCxn id="3790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02" name=""/>
          <p:cNvCxnSpPr>
            <a:stCxn id="3787" idx="4"/>
            <a:endCxn id="3793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803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7" name=""/>
          <p:cNvCxnSpPr>
            <a:stCxn id="3792" idx="6"/>
            <a:endCxn id="3804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08" name=""/>
          <p:cNvCxnSpPr>
            <a:stCxn id="3792" idx="2"/>
            <a:endCxn id="3805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09" name=""/>
          <p:cNvCxnSpPr>
            <a:stCxn id="3791" idx="1"/>
            <a:endCxn id="3806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10" name=""/>
          <p:cNvCxnSpPr>
            <a:stCxn id="3804" idx="1"/>
            <a:endCxn id="3794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11" name=""/>
          <p:cNvCxnSpPr>
            <a:stCxn id="3793" idx="4"/>
            <a:endCxn id="3804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12" name=""/>
          <p:cNvCxnSpPr>
            <a:stCxn id="3806" idx="7"/>
            <a:endCxn id="3786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813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38" name=""/>
          <p:cNvCxnSpPr>
            <a:stCxn id="3791" idx="4"/>
            <a:endCxn id="3805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839" name=""/>
          <p:cNvSpPr/>
          <p:nvPr/>
        </p:nvSpPr>
        <p:spPr>
          <a:xfrm>
            <a:off x="0" y="457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of the Graph at Beginning of 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3" name=""/>
          <p:cNvCxnSpPr>
            <a:stCxn id="3841" idx="6"/>
            <a:endCxn id="3842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844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0" name=""/>
          <p:cNvCxnSpPr>
            <a:stCxn id="3841" idx="3"/>
            <a:endCxn id="3846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1" name=""/>
          <p:cNvCxnSpPr>
            <a:stCxn id="3846" idx="5"/>
            <a:endCxn id="3847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2" name=""/>
          <p:cNvCxnSpPr>
            <a:stCxn id="3847" idx="7"/>
            <a:endCxn id="3849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3" name=""/>
          <p:cNvCxnSpPr>
            <a:stCxn id="3848" idx="3"/>
            <a:endCxn id="3849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4" name=""/>
          <p:cNvCxnSpPr>
            <a:stCxn id="3845" idx="4"/>
            <a:endCxn id="3849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5" name=""/>
          <p:cNvCxnSpPr>
            <a:stCxn id="3841" idx="4"/>
            <a:endCxn id="3847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6" name=""/>
          <p:cNvCxnSpPr>
            <a:stCxn id="3842" idx="3"/>
            <a:endCxn id="3845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57" name=""/>
          <p:cNvCxnSpPr>
            <a:stCxn id="3842" idx="4"/>
            <a:endCxn id="3848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858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2" name=""/>
          <p:cNvCxnSpPr>
            <a:stCxn id="3847" idx="6"/>
            <a:endCxn id="3859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63" name=""/>
          <p:cNvCxnSpPr>
            <a:stCxn id="3847" idx="2"/>
            <a:endCxn id="3860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64" name=""/>
          <p:cNvCxnSpPr>
            <a:stCxn id="3846" idx="1"/>
            <a:endCxn id="3861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865" name=""/>
          <p:cNvCxnSpPr>
            <a:stCxn id="3859" idx="1"/>
            <a:endCxn id="3849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66" name=""/>
          <p:cNvCxnSpPr>
            <a:stCxn id="3848" idx="4"/>
            <a:endCxn id="3859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867" name=""/>
          <p:cNvCxnSpPr>
            <a:stCxn id="3861" idx="7"/>
            <a:endCxn id="3841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868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3" name=""/>
          <p:cNvCxnSpPr>
            <a:stCxn id="3846" idx="4"/>
            <a:endCxn id="3860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894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8" name=""/>
          <p:cNvCxnSpPr>
            <a:stCxn id="3896" idx="1"/>
            <a:endCxn id="3897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899" name=""/>
          <p:cNvCxnSpPr>
            <a:stCxn id="3897" idx="7"/>
            <a:endCxn id="3895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900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8" name=""/>
          <p:cNvCxnSpPr>
            <a:stCxn id="3906" idx="6"/>
            <a:endCxn id="3907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909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15" name=""/>
          <p:cNvCxnSpPr>
            <a:stCxn id="3906" idx="3"/>
            <a:endCxn id="3911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16" name=""/>
          <p:cNvCxnSpPr>
            <a:stCxn id="3911" idx="5"/>
            <a:endCxn id="3912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17" name=""/>
          <p:cNvCxnSpPr>
            <a:stCxn id="3912" idx="7"/>
            <a:endCxn id="3914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18" name=""/>
          <p:cNvCxnSpPr>
            <a:stCxn id="3913" idx="3"/>
            <a:endCxn id="3914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19" name=""/>
          <p:cNvCxnSpPr>
            <a:stCxn id="3910" idx="4"/>
            <a:endCxn id="3914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20" name=""/>
          <p:cNvCxnSpPr>
            <a:stCxn id="3906" idx="4"/>
            <a:endCxn id="3912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21" name=""/>
          <p:cNvCxnSpPr>
            <a:stCxn id="3907" idx="3"/>
            <a:endCxn id="3910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22" name=""/>
          <p:cNvCxnSpPr>
            <a:stCxn id="3907" idx="4"/>
            <a:endCxn id="3913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923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7" name=""/>
          <p:cNvCxnSpPr>
            <a:stCxn id="3912" idx="6"/>
            <a:endCxn id="3924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28" name=""/>
          <p:cNvCxnSpPr>
            <a:stCxn id="3912" idx="2"/>
            <a:endCxn id="3925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29" name=""/>
          <p:cNvCxnSpPr>
            <a:stCxn id="3911" idx="1"/>
            <a:endCxn id="3926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0" name=""/>
          <p:cNvCxnSpPr>
            <a:stCxn id="3924" idx="1"/>
            <a:endCxn id="3914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31" name=""/>
          <p:cNvCxnSpPr>
            <a:stCxn id="3913" idx="4"/>
            <a:endCxn id="3924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32" name=""/>
          <p:cNvCxnSpPr>
            <a:stCxn id="3926" idx="7"/>
            <a:endCxn id="3906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933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8" name=""/>
          <p:cNvCxnSpPr>
            <a:stCxn id="3911" idx="4"/>
            <a:endCxn id="3925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959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3" name=""/>
          <p:cNvCxnSpPr>
            <a:stCxn id="3961" idx="1"/>
            <a:endCxn id="3962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4" name=""/>
          <p:cNvCxnSpPr>
            <a:stCxn id="3962" idx="7"/>
            <a:endCxn id="3960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965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A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52280" y="1143000"/>
          <a:ext cx="899172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991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3" name=""/>
          <p:cNvCxnSpPr>
            <a:stCxn id="3971" idx="6"/>
            <a:endCxn id="3972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974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0" name=""/>
          <p:cNvCxnSpPr>
            <a:stCxn id="3971" idx="3"/>
            <a:endCxn id="3976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981" name=""/>
          <p:cNvCxnSpPr>
            <a:stCxn id="3976" idx="5"/>
            <a:endCxn id="3977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82" name=""/>
          <p:cNvCxnSpPr>
            <a:stCxn id="3977" idx="7"/>
            <a:endCxn id="3979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83" name=""/>
          <p:cNvCxnSpPr>
            <a:stCxn id="3978" idx="3"/>
            <a:endCxn id="3979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84" name=""/>
          <p:cNvCxnSpPr>
            <a:stCxn id="3975" idx="4"/>
            <a:endCxn id="3979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85" name=""/>
          <p:cNvCxnSpPr>
            <a:stCxn id="3971" idx="4"/>
            <a:endCxn id="3977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3986" name=""/>
          <p:cNvCxnSpPr>
            <a:stCxn id="3972" idx="3"/>
            <a:endCxn id="3975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87" name=""/>
          <p:cNvCxnSpPr>
            <a:stCxn id="3972" idx="4"/>
            <a:endCxn id="3978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3988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2" name=""/>
          <p:cNvCxnSpPr>
            <a:stCxn id="3977" idx="6"/>
            <a:endCxn id="3989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93" name=""/>
          <p:cNvCxnSpPr>
            <a:stCxn id="3977" idx="2"/>
            <a:endCxn id="3990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94" name=""/>
          <p:cNvCxnSpPr>
            <a:stCxn id="3976" idx="1"/>
            <a:endCxn id="3991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95" name=""/>
          <p:cNvCxnSpPr>
            <a:stCxn id="3989" idx="1"/>
            <a:endCxn id="3979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96" name=""/>
          <p:cNvCxnSpPr>
            <a:stCxn id="3978" idx="4"/>
            <a:endCxn id="3989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3997" name=""/>
          <p:cNvCxnSpPr>
            <a:stCxn id="3991" idx="7"/>
            <a:endCxn id="3971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3998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3" name=""/>
          <p:cNvCxnSpPr>
            <a:stCxn id="3976" idx="4"/>
            <a:endCxn id="3990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024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6" name=""/>
          <p:cNvCxnSpPr>
            <a:stCxn id="4024" idx="6"/>
            <a:endCxn id="4025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027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0" name=""/>
          <p:cNvCxnSpPr>
            <a:stCxn id="4024" idx="3"/>
            <a:endCxn id="4028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031" name=""/>
          <p:cNvCxnSpPr>
            <a:stCxn id="4024" idx="4"/>
            <a:endCxn id="4029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032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3" name=""/>
          <p:cNvCxnSpPr>
            <a:stCxn id="4032" idx="7"/>
            <a:endCxn id="4024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034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6" name=""/>
          <p:cNvCxnSpPr>
            <a:stCxn id="4044" idx="6"/>
            <a:endCxn id="4045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047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3" name=""/>
          <p:cNvCxnSpPr>
            <a:stCxn id="4044" idx="3"/>
            <a:endCxn id="4049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54" name=""/>
          <p:cNvCxnSpPr>
            <a:stCxn id="4049" idx="5"/>
            <a:endCxn id="4050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55" name=""/>
          <p:cNvCxnSpPr>
            <a:stCxn id="4050" idx="7"/>
            <a:endCxn id="4052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56" name=""/>
          <p:cNvCxnSpPr>
            <a:stCxn id="4051" idx="3"/>
            <a:endCxn id="4052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57" name=""/>
          <p:cNvCxnSpPr>
            <a:stCxn id="4048" idx="4"/>
            <a:endCxn id="4052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58" name=""/>
          <p:cNvCxnSpPr>
            <a:stCxn id="4044" idx="4"/>
            <a:endCxn id="4050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59" name=""/>
          <p:cNvCxnSpPr>
            <a:stCxn id="4045" idx="3"/>
            <a:endCxn id="4048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60" name=""/>
          <p:cNvCxnSpPr>
            <a:stCxn id="4045" idx="4"/>
            <a:endCxn id="4051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061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5" name=""/>
          <p:cNvCxnSpPr>
            <a:stCxn id="4050" idx="6"/>
            <a:endCxn id="4062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66" name=""/>
          <p:cNvCxnSpPr>
            <a:stCxn id="4050" idx="2"/>
            <a:endCxn id="4063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67" name=""/>
          <p:cNvCxnSpPr>
            <a:stCxn id="4049" idx="1"/>
            <a:endCxn id="4064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68" name=""/>
          <p:cNvCxnSpPr>
            <a:stCxn id="4062" idx="1"/>
            <a:endCxn id="4052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69" name=""/>
          <p:cNvCxnSpPr>
            <a:stCxn id="4051" idx="4"/>
            <a:endCxn id="4062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070" name=""/>
          <p:cNvCxnSpPr>
            <a:stCxn id="4064" idx="7"/>
            <a:endCxn id="4044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71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6" name=""/>
          <p:cNvCxnSpPr>
            <a:stCxn id="4049" idx="4"/>
            <a:endCxn id="4063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097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9" name=""/>
          <p:cNvCxnSpPr>
            <a:stCxn id="4097" idx="6"/>
            <a:endCxn id="4098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100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3" name=""/>
          <p:cNvCxnSpPr>
            <a:stCxn id="4097" idx="3"/>
            <a:endCxn id="4101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04" name=""/>
          <p:cNvCxnSpPr>
            <a:stCxn id="4097" idx="4"/>
            <a:endCxn id="4102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105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6" name=""/>
          <p:cNvCxnSpPr>
            <a:stCxn id="4105" idx="7"/>
            <a:endCxn id="4097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7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B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9" name=""/>
          <p:cNvCxnSpPr>
            <a:stCxn id="4117" idx="6"/>
            <a:endCxn id="4118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120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26" name=""/>
          <p:cNvCxnSpPr>
            <a:stCxn id="4117" idx="3"/>
            <a:endCxn id="4122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27" name=""/>
          <p:cNvCxnSpPr>
            <a:stCxn id="4122" idx="5"/>
            <a:endCxn id="4123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28" name=""/>
          <p:cNvCxnSpPr>
            <a:stCxn id="4123" idx="7"/>
            <a:endCxn id="4125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29" name=""/>
          <p:cNvCxnSpPr>
            <a:stCxn id="4124" idx="3"/>
            <a:endCxn id="4125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30" name=""/>
          <p:cNvCxnSpPr>
            <a:stCxn id="4121" idx="4"/>
            <a:endCxn id="4125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31" name=""/>
          <p:cNvCxnSpPr>
            <a:stCxn id="4117" idx="4"/>
            <a:endCxn id="4123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32" name=""/>
          <p:cNvCxnSpPr>
            <a:stCxn id="4118" idx="3"/>
            <a:endCxn id="4121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133" name=""/>
          <p:cNvCxnSpPr>
            <a:stCxn id="4118" idx="4"/>
            <a:endCxn id="4124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134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8" name=""/>
          <p:cNvCxnSpPr>
            <a:stCxn id="4123" idx="6"/>
            <a:endCxn id="4135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39" name=""/>
          <p:cNvCxnSpPr>
            <a:stCxn id="4123" idx="2"/>
            <a:endCxn id="4136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40" name=""/>
          <p:cNvCxnSpPr>
            <a:stCxn id="4122" idx="1"/>
            <a:endCxn id="4137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41" name=""/>
          <p:cNvCxnSpPr>
            <a:stCxn id="4135" idx="1"/>
            <a:endCxn id="4125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42" name=""/>
          <p:cNvCxnSpPr>
            <a:stCxn id="4124" idx="4"/>
            <a:endCxn id="4135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43" name=""/>
          <p:cNvCxnSpPr>
            <a:stCxn id="4137" idx="7"/>
            <a:endCxn id="4117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144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69" name=""/>
          <p:cNvCxnSpPr>
            <a:stCxn id="4122" idx="4"/>
            <a:endCxn id="4136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170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3" name=""/>
          <p:cNvCxnSpPr>
            <a:stCxn id="4171" idx="6"/>
            <a:endCxn id="4172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174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7" name=""/>
          <p:cNvCxnSpPr>
            <a:stCxn id="4172" idx="3"/>
            <a:endCxn id="4175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178" name=""/>
          <p:cNvCxnSpPr>
            <a:stCxn id="4172" idx="4"/>
            <a:endCxn id="4176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179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8" name=""/>
          <p:cNvCxnSpPr>
            <a:stCxn id="4186" idx="6"/>
            <a:endCxn id="4187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189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5" name=""/>
          <p:cNvCxnSpPr>
            <a:stCxn id="4186" idx="3"/>
            <a:endCxn id="4191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96" name=""/>
          <p:cNvCxnSpPr>
            <a:stCxn id="4191" idx="5"/>
            <a:endCxn id="4192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97" name=""/>
          <p:cNvCxnSpPr>
            <a:stCxn id="4192" idx="7"/>
            <a:endCxn id="4194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98" name=""/>
          <p:cNvCxnSpPr>
            <a:stCxn id="4193" idx="3"/>
            <a:endCxn id="4194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199" name=""/>
          <p:cNvCxnSpPr>
            <a:stCxn id="4190" idx="4"/>
            <a:endCxn id="4194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00" name=""/>
          <p:cNvCxnSpPr>
            <a:stCxn id="4186" idx="4"/>
            <a:endCxn id="4192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01" name=""/>
          <p:cNvCxnSpPr>
            <a:stCxn id="4187" idx="3"/>
            <a:endCxn id="4190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02" name=""/>
          <p:cNvCxnSpPr>
            <a:stCxn id="4187" idx="4"/>
            <a:endCxn id="4193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03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7" name=""/>
          <p:cNvCxnSpPr>
            <a:stCxn id="4192" idx="6"/>
            <a:endCxn id="4204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08" name=""/>
          <p:cNvCxnSpPr>
            <a:stCxn id="4192" idx="2"/>
            <a:endCxn id="4205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09" name=""/>
          <p:cNvCxnSpPr>
            <a:stCxn id="4191" idx="1"/>
            <a:endCxn id="4206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10" name=""/>
          <p:cNvCxnSpPr>
            <a:stCxn id="4204" idx="1"/>
            <a:endCxn id="4194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11" name=""/>
          <p:cNvCxnSpPr>
            <a:stCxn id="4193" idx="4"/>
            <a:endCxn id="4204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12" name=""/>
          <p:cNvCxnSpPr>
            <a:stCxn id="4206" idx="7"/>
            <a:endCxn id="4186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213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8" name=""/>
          <p:cNvCxnSpPr>
            <a:stCxn id="4191" idx="4"/>
            <a:endCxn id="4205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239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2" name=""/>
          <p:cNvCxnSpPr>
            <a:stCxn id="4240" idx="6"/>
            <a:endCxn id="4241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243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6" name=""/>
          <p:cNvCxnSpPr>
            <a:stCxn id="4241" idx="3"/>
            <a:endCxn id="4244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47" name=""/>
          <p:cNvCxnSpPr>
            <a:stCxn id="4241" idx="4"/>
            <a:endCxn id="4245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8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C-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7" name=""/>
          <p:cNvCxnSpPr>
            <a:stCxn id="4255" idx="6"/>
            <a:endCxn id="4256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258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4" name=""/>
          <p:cNvCxnSpPr>
            <a:stCxn id="4255" idx="3"/>
            <a:endCxn id="4260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265" name=""/>
          <p:cNvCxnSpPr>
            <a:stCxn id="4260" idx="5"/>
            <a:endCxn id="4261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266" name=""/>
          <p:cNvCxnSpPr>
            <a:stCxn id="4261" idx="7"/>
            <a:endCxn id="4263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67" name=""/>
          <p:cNvCxnSpPr>
            <a:stCxn id="4262" idx="3"/>
            <a:endCxn id="4263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68" name=""/>
          <p:cNvCxnSpPr>
            <a:stCxn id="4259" idx="4"/>
            <a:endCxn id="4263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69" name=""/>
          <p:cNvCxnSpPr>
            <a:stCxn id="4255" idx="4"/>
            <a:endCxn id="4261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70" name=""/>
          <p:cNvCxnSpPr>
            <a:stCxn id="4256" idx="3"/>
            <a:endCxn id="4259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71" name=""/>
          <p:cNvCxnSpPr>
            <a:stCxn id="4256" idx="4"/>
            <a:endCxn id="4262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272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6" name=""/>
          <p:cNvCxnSpPr>
            <a:stCxn id="4261" idx="6"/>
            <a:endCxn id="4273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77" name=""/>
          <p:cNvCxnSpPr>
            <a:stCxn id="4261" idx="2"/>
            <a:endCxn id="4274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78" name=""/>
          <p:cNvCxnSpPr>
            <a:stCxn id="4260" idx="1"/>
            <a:endCxn id="4275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279" name=""/>
          <p:cNvCxnSpPr>
            <a:stCxn id="4273" idx="1"/>
            <a:endCxn id="4263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80" name=""/>
          <p:cNvCxnSpPr>
            <a:stCxn id="4262" idx="4"/>
            <a:endCxn id="4273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281" name=""/>
          <p:cNvCxnSpPr>
            <a:stCxn id="4275" idx="7"/>
            <a:endCxn id="4255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282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7" name=""/>
          <p:cNvCxnSpPr>
            <a:stCxn id="4260" idx="4"/>
            <a:endCxn id="4274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308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2" name=""/>
          <p:cNvCxnSpPr>
            <a:stCxn id="4309" idx="3"/>
            <a:endCxn id="4310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313" name=""/>
          <p:cNvCxnSpPr>
            <a:stCxn id="4310" idx="5"/>
            <a:endCxn id="4311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314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6" name=""/>
          <p:cNvCxnSpPr>
            <a:stCxn id="4310" idx="1"/>
            <a:endCxn id="4315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317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6" name=""/>
          <p:cNvCxnSpPr>
            <a:stCxn id="4310" idx="4"/>
            <a:endCxn id="4314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327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0" name=""/>
          <p:cNvCxnSpPr>
            <a:stCxn id="4328" idx="6"/>
            <a:endCxn id="4329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331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7" name=""/>
          <p:cNvCxnSpPr>
            <a:stCxn id="4328" idx="3"/>
            <a:endCxn id="4333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38" name=""/>
          <p:cNvCxnSpPr>
            <a:stCxn id="4333" idx="5"/>
            <a:endCxn id="4334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39" name=""/>
          <p:cNvCxnSpPr>
            <a:stCxn id="4334" idx="7"/>
            <a:endCxn id="4336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40" name=""/>
          <p:cNvCxnSpPr>
            <a:stCxn id="4335" idx="3"/>
            <a:endCxn id="4336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41" name=""/>
          <p:cNvCxnSpPr>
            <a:stCxn id="4332" idx="4"/>
            <a:endCxn id="4336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42" name=""/>
          <p:cNvCxnSpPr>
            <a:stCxn id="4328" idx="4"/>
            <a:endCxn id="4334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43" name=""/>
          <p:cNvCxnSpPr>
            <a:stCxn id="4329" idx="3"/>
            <a:endCxn id="4332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44" name=""/>
          <p:cNvCxnSpPr>
            <a:stCxn id="4329" idx="4"/>
            <a:endCxn id="4335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345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9" name=""/>
          <p:cNvCxnSpPr>
            <a:stCxn id="4334" idx="6"/>
            <a:endCxn id="4346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50" name=""/>
          <p:cNvCxnSpPr>
            <a:stCxn id="4334" idx="2"/>
            <a:endCxn id="4347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51" name=""/>
          <p:cNvCxnSpPr>
            <a:stCxn id="4333" idx="1"/>
            <a:endCxn id="4348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52" name=""/>
          <p:cNvCxnSpPr>
            <a:stCxn id="4346" idx="1"/>
            <a:endCxn id="4336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53" name=""/>
          <p:cNvCxnSpPr>
            <a:stCxn id="4335" idx="4"/>
            <a:endCxn id="4346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54" name=""/>
          <p:cNvCxnSpPr>
            <a:stCxn id="4348" idx="7"/>
            <a:endCxn id="4328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355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0" name=""/>
          <p:cNvCxnSpPr>
            <a:stCxn id="4333" idx="4"/>
            <a:endCxn id="4347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381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5" name=""/>
          <p:cNvCxnSpPr>
            <a:stCxn id="4382" idx="3"/>
            <a:endCxn id="4383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386" name=""/>
          <p:cNvCxnSpPr>
            <a:stCxn id="4383" idx="5"/>
            <a:endCxn id="4384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387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9" name=""/>
          <p:cNvCxnSpPr>
            <a:stCxn id="4383" idx="1"/>
            <a:endCxn id="4388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0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9" name=""/>
          <p:cNvCxnSpPr>
            <a:stCxn id="4383" idx="4"/>
            <a:endCxn id="4387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00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D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3" name=""/>
          <p:cNvCxnSpPr>
            <a:stCxn id="4401" idx="6"/>
            <a:endCxn id="4402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04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0" name=""/>
          <p:cNvCxnSpPr>
            <a:stCxn id="4401" idx="3"/>
            <a:endCxn id="4406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11" name=""/>
          <p:cNvCxnSpPr>
            <a:stCxn id="4406" idx="5"/>
            <a:endCxn id="4407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12" name=""/>
          <p:cNvCxnSpPr>
            <a:stCxn id="4407" idx="7"/>
            <a:endCxn id="4409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13" name=""/>
          <p:cNvCxnSpPr>
            <a:stCxn id="4408" idx="3"/>
            <a:endCxn id="4409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14" name=""/>
          <p:cNvCxnSpPr>
            <a:stCxn id="4405" idx="4"/>
            <a:endCxn id="4409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415" name=""/>
          <p:cNvCxnSpPr>
            <a:stCxn id="4401" idx="4"/>
            <a:endCxn id="4407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16" name=""/>
          <p:cNvCxnSpPr>
            <a:stCxn id="4402" idx="3"/>
            <a:endCxn id="4405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417" name=""/>
          <p:cNvCxnSpPr>
            <a:stCxn id="4402" idx="4"/>
            <a:endCxn id="4408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18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2" name=""/>
          <p:cNvCxnSpPr>
            <a:stCxn id="4407" idx="6"/>
            <a:endCxn id="4419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23" name=""/>
          <p:cNvCxnSpPr>
            <a:stCxn id="4407" idx="2"/>
            <a:endCxn id="4420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24" name=""/>
          <p:cNvCxnSpPr>
            <a:stCxn id="4406" idx="1"/>
            <a:endCxn id="4421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25" name=""/>
          <p:cNvCxnSpPr>
            <a:stCxn id="4419" idx="1"/>
            <a:endCxn id="4409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26" name=""/>
          <p:cNvCxnSpPr>
            <a:stCxn id="4408" idx="4"/>
            <a:endCxn id="4419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27" name=""/>
          <p:cNvCxnSpPr>
            <a:stCxn id="4421" idx="7"/>
            <a:endCxn id="4401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28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3" name=""/>
          <p:cNvCxnSpPr>
            <a:stCxn id="4406" idx="4"/>
            <a:endCxn id="4420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54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8" name=""/>
          <p:cNvCxnSpPr>
            <a:stCxn id="4456" idx="4"/>
            <a:endCxn id="4457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459" name=""/>
          <p:cNvCxnSpPr>
            <a:stCxn id="4455" idx="3"/>
            <a:endCxn id="4456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460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8" name=""/>
          <p:cNvCxnSpPr>
            <a:stCxn id="4466" idx="6"/>
            <a:endCxn id="4467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69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5" name=""/>
          <p:cNvCxnSpPr>
            <a:stCxn id="4466" idx="3"/>
            <a:endCxn id="4471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76" name=""/>
          <p:cNvCxnSpPr>
            <a:stCxn id="4471" idx="5"/>
            <a:endCxn id="4472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77" name=""/>
          <p:cNvCxnSpPr>
            <a:stCxn id="4472" idx="7"/>
            <a:endCxn id="4474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78" name=""/>
          <p:cNvCxnSpPr>
            <a:stCxn id="4473" idx="3"/>
            <a:endCxn id="4474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79" name=""/>
          <p:cNvCxnSpPr>
            <a:stCxn id="4470" idx="4"/>
            <a:endCxn id="4474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80" name=""/>
          <p:cNvCxnSpPr>
            <a:stCxn id="4466" idx="4"/>
            <a:endCxn id="4472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81" name=""/>
          <p:cNvCxnSpPr>
            <a:stCxn id="4467" idx="3"/>
            <a:endCxn id="4470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2" name=""/>
          <p:cNvCxnSpPr>
            <a:stCxn id="4467" idx="4"/>
            <a:endCxn id="4473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83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7" name=""/>
          <p:cNvCxnSpPr>
            <a:stCxn id="4472" idx="6"/>
            <a:endCxn id="4484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88" name=""/>
          <p:cNvCxnSpPr>
            <a:stCxn id="4472" idx="2"/>
            <a:endCxn id="4485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89" name=""/>
          <p:cNvCxnSpPr>
            <a:stCxn id="4471" idx="1"/>
            <a:endCxn id="4486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90" name=""/>
          <p:cNvCxnSpPr>
            <a:stCxn id="4484" idx="1"/>
            <a:endCxn id="4474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91" name=""/>
          <p:cNvCxnSpPr>
            <a:stCxn id="4473" idx="4"/>
            <a:endCxn id="4484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492" name=""/>
          <p:cNvCxnSpPr>
            <a:stCxn id="4486" idx="7"/>
            <a:endCxn id="4466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493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8" name=""/>
          <p:cNvCxnSpPr>
            <a:stCxn id="4471" idx="4"/>
            <a:endCxn id="4485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519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3" name=""/>
          <p:cNvCxnSpPr>
            <a:stCxn id="4521" idx="4"/>
            <a:endCxn id="4522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24" name=""/>
          <p:cNvCxnSpPr>
            <a:stCxn id="4520" idx="3"/>
            <a:endCxn id="4521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25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3" name=""/>
          <p:cNvCxnSpPr>
            <a:stCxn id="4531" idx="6"/>
            <a:endCxn id="4532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534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0" name=""/>
          <p:cNvCxnSpPr>
            <a:stCxn id="4531" idx="3"/>
            <a:endCxn id="4536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41" name=""/>
          <p:cNvCxnSpPr>
            <a:stCxn id="4536" idx="5"/>
            <a:endCxn id="4537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42" name=""/>
          <p:cNvCxnSpPr>
            <a:stCxn id="4537" idx="7"/>
            <a:endCxn id="4539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43" name=""/>
          <p:cNvCxnSpPr>
            <a:stCxn id="4538" idx="3"/>
            <a:endCxn id="4539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544" name=""/>
          <p:cNvCxnSpPr>
            <a:stCxn id="4535" idx="4"/>
            <a:endCxn id="4539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45" name=""/>
          <p:cNvCxnSpPr>
            <a:stCxn id="4531" idx="4"/>
            <a:endCxn id="4537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46" name=""/>
          <p:cNvCxnSpPr>
            <a:stCxn id="4532" idx="3"/>
            <a:endCxn id="4535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47" name=""/>
          <p:cNvCxnSpPr>
            <a:stCxn id="4532" idx="4"/>
            <a:endCxn id="4538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548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52" name=""/>
          <p:cNvCxnSpPr>
            <a:stCxn id="4537" idx="6"/>
            <a:endCxn id="4549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53" name=""/>
          <p:cNvCxnSpPr>
            <a:stCxn id="4537" idx="2"/>
            <a:endCxn id="4550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54" name=""/>
          <p:cNvCxnSpPr>
            <a:stCxn id="4536" idx="1"/>
            <a:endCxn id="4551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55" name=""/>
          <p:cNvCxnSpPr>
            <a:stCxn id="4549" idx="1"/>
            <a:endCxn id="4539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556" name=""/>
          <p:cNvCxnSpPr>
            <a:stCxn id="4538" idx="4"/>
            <a:endCxn id="4549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557" name=""/>
          <p:cNvCxnSpPr>
            <a:stCxn id="4551" idx="7"/>
            <a:endCxn id="4531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558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3" name=""/>
          <p:cNvCxnSpPr>
            <a:stCxn id="4536" idx="4"/>
            <a:endCxn id="4550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584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8" name=""/>
          <p:cNvCxnSpPr>
            <a:stCxn id="4586" idx="3"/>
            <a:endCxn id="4587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589" name=""/>
          <p:cNvCxnSpPr>
            <a:stCxn id="4585" idx="4"/>
            <a:endCxn id="4586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590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1" name=""/>
          <p:cNvCxnSpPr>
            <a:stCxn id="4586" idx="4"/>
            <a:endCxn id="4590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592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2" name=""/>
          <p:cNvCxnSpPr>
            <a:stCxn id="4600" idx="6"/>
            <a:endCxn id="460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0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9" name=""/>
          <p:cNvCxnSpPr>
            <a:stCxn id="4600" idx="3"/>
            <a:endCxn id="460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0" name=""/>
          <p:cNvCxnSpPr>
            <a:stCxn id="4605" idx="5"/>
            <a:endCxn id="460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1" name=""/>
          <p:cNvCxnSpPr>
            <a:stCxn id="4606" idx="7"/>
            <a:endCxn id="460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2" name=""/>
          <p:cNvCxnSpPr>
            <a:stCxn id="4607" idx="3"/>
            <a:endCxn id="460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3" name=""/>
          <p:cNvCxnSpPr>
            <a:stCxn id="4604" idx="4"/>
            <a:endCxn id="460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4" name=""/>
          <p:cNvCxnSpPr>
            <a:stCxn id="4600" idx="4"/>
            <a:endCxn id="460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5" name=""/>
          <p:cNvCxnSpPr>
            <a:stCxn id="4601" idx="3"/>
            <a:endCxn id="460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16" name=""/>
          <p:cNvCxnSpPr>
            <a:stCxn id="4601" idx="4"/>
            <a:endCxn id="460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1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1" name=""/>
          <p:cNvCxnSpPr>
            <a:stCxn id="4606" idx="6"/>
            <a:endCxn id="461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22" name=""/>
          <p:cNvCxnSpPr>
            <a:stCxn id="4606" idx="2"/>
            <a:endCxn id="461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23" name=""/>
          <p:cNvCxnSpPr>
            <a:stCxn id="4605" idx="1"/>
            <a:endCxn id="462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24" name=""/>
          <p:cNvCxnSpPr>
            <a:stCxn id="4618" idx="1"/>
            <a:endCxn id="460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25" name=""/>
          <p:cNvCxnSpPr>
            <a:stCxn id="4607" idx="4"/>
            <a:endCxn id="461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26" name=""/>
          <p:cNvCxnSpPr>
            <a:stCxn id="4620" idx="7"/>
            <a:endCxn id="460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2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2" name=""/>
          <p:cNvCxnSpPr>
            <a:stCxn id="4605" idx="4"/>
            <a:endCxn id="461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5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7" name=""/>
          <p:cNvCxnSpPr>
            <a:stCxn id="4655" idx="3"/>
            <a:endCxn id="4656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58" name=""/>
          <p:cNvCxnSpPr>
            <a:stCxn id="4654" idx="4"/>
            <a:endCxn id="4655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59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0" name=""/>
          <p:cNvCxnSpPr>
            <a:stCxn id="4655" idx="4"/>
            <a:endCxn id="4659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61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F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04920" y="533520"/>
          <a:ext cx="853416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853416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1" name=""/>
          <p:cNvCxnSpPr>
            <a:stCxn id="4669" idx="6"/>
            <a:endCxn id="4670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72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8" name=""/>
          <p:cNvCxnSpPr>
            <a:stCxn id="4669" idx="3"/>
            <a:endCxn id="4674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79" name=""/>
          <p:cNvCxnSpPr>
            <a:stCxn id="4674" idx="5"/>
            <a:endCxn id="4675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80" name=""/>
          <p:cNvCxnSpPr>
            <a:stCxn id="4675" idx="7"/>
            <a:endCxn id="4677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681" name=""/>
          <p:cNvCxnSpPr>
            <a:stCxn id="4676" idx="3"/>
            <a:endCxn id="4677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682" name=""/>
          <p:cNvCxnSpPr>
            <a:stCxn id="4673" idx="4"/>
            <a:endCxn id="4677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683" name=""/>
          <p:cNvCxnSpPr>
            <a:stCxn id="4669" idx="4"/>
            <a:endCxn id="4675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84" name=""/>
          <p:cNvCxnSpPr>
            <a:stCxn id="4670" idx="3"/>
            <a:endCxn id="4673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85" name=""/>
          <p:cNvCxnSpPr>
            <a:stCxn id="4670" idx="4"/>
            <a:endCxn id="4676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86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0" name=""/>
          <p:cNvCxnSpPr>
            <a:stCxn id="4675" idx="6"/>
            <a:endCxn id="4687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91" name=""/>
          <p:cNvCxnSpPr>
            <a:stCxn id="4675" idx="2"/>
            <a:endCxn id="4688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92" name=""/>
          <p:cNvCxnSpPr>
            <a:stCxn id="4674" idx="1"/>
            <a:endCxn id="4689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93" name=""/>
          <p:cNvCxnSpPr>
            <a:stCxn id="4687" idx="1"/>
            <a:endCxn id="4677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694" name=""/>
          <p:cNvCxnSpPr>
            <a:stCxn id="4676" idx="4"/>
            <a:endCxn id="4687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695" name=""/>
          <p:cNvCxnSpPr>
            <a:stCxn id="4689" idx="7"/>
            <a:endCxn id="4669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696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1" name=""/>
          <p:cNvCxnSpPr>
            <a:stCxn id="4674" idx="4"/>
            <a:endCxn id="4688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722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7" name=""/>
          <p:cNvCxnSpPr>
            <a:stCxn id="4724" idx="7"/>
            <a:endCxn id="4726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728" name=""/>
          <p:cNvCxnSpPr>
            <a:stCxn id="4725" idx="3"/>
            <a:endCxn id="4726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729" name=""/>
          <p:cNvCxnSpPr>
            <a:stCxn id="4723" idx="4"/>
            <a:endCxn id="4726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730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1" name=""/>
          <p:cNvCxnSpPr>
            <a:stCxn id="4730" idx="1"/>
            <a:endCxn id="4726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732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0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3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4" name=""/>
          <p:cNvCxnSpPr>
            <a:stCxn id="4742" idx="6"/>
            <a:endCxn id="4743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745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6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8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9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1" name=""/>
          <p:cNvCxnSpPr>
            <a:stCxn id="4742" idx="3"/>
            <a:endCxn id="4747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52" name=""/>
          <p:cNvCxnSpPr>
            <a:stCxn id="4747" idx="5"/>
            <a:endCxn id="4748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53" name=""/>
          <p:cNvCxnSpPr>
            <a:stCxn id="4748" idx="7"/>
            <a:endCxn id="4750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54" name=""/>
          <p:cNvCxnSpPr>
            <a:stCxn id="4749" idx="3"/>
            <a:endCxn id="4750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55" name=""/>
          <p:cNvCxnSpPr>
            <a:stCxn id="4746" idx="4"/>
            <a:endCxn id="4750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6" name=""/>
          <p:cNvCxnSpPr>
            <a:stCxn id="4742" idx="4"/>
            <a:endCxn id="4748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57" name=""/>
          <p:cNvCxnSpPr>
            <a:stCxn id="4743" idx="3"/>
            <a:endCxn id="4746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58" name=""/>
          <p:cNvCxnSpPr>
            <a:stCxn id="4743" idx="4"/>
            <a:endCxn id="4749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759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3" name=""/>
          <p:cNvCxnSpPr>
            <a:stCxn id="4748" idx="6"/>
            <a:endCxn id="4760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64" name=""/>
          <p:cNvCxnSpPr>
            <a:stCxn id="4748" idx="2"/>
            <a:endCxn id="4761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65" name=""/>
          <p:cNvCxnSpPr>
            <a:stCxn id="4747" idx="1"/>
            <a:endCxn id="4762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66" name=""/>
          <p:cNvCxnSpPr>
            <a:stCxn id="4760" idx="1"/>
            <a:endCxn id="4750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67" name=""/>
          <p:cNvCxnSpPr>
            <a:stCxn id="4749" idx="4"/>
            <a:endCxn id="4760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768" name=""/>
          <p:cNvCxnSpPr>
            <a:stCxn id="4762" idx="7"/>
            <a:endCxn id="4742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769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4" name=""/>
          <p:cNvCxnSpPr>
            <a:stCxn id="4747" idx="4"/>
            <a:endCxn id="4761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795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7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8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0" name=""/>
          <p:cNvCxnSpPr>
            <a:stCxn id="4797" idx="7"/>
            <a:endCxn id="4799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01" name=""/>
          <p:cNvCxnSpPr>
            <a:stCxn id="4798" idx="3"/>
            <a:endCxn id="4799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02" name=""/>
          <p:cNvCxnSpPr>
            <a:stCxn id="4796" idx="4"/>
            <a:endCxn id="4799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3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04" name=""/>
          <p:cNvCxnSpPr>
            <a:stCxn id="4803" idx="1"/>
            <a:endCxn id="4799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805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6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7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8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G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7" name=""/>
          <p:cNvCxnSpPr>
            <a:stCxn id="4815" idx="6"/>
            <a:endCxn id="4816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818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4" name=""/>
          <p:cNvCxnSpPr>
            <a:stCxn id="4815" idx="3"/>
            <a:endCxn id="4820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25" name=""/>
          <p:cNvCxnSpPr>
            <a:stCxn id="4820" idx="5"/>
            <a:endCxn id="4821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26" name=""/>
          <p:cNvCxnSpPr>
            <a:stCxn id="4821" idx="7"/>
            <a:endCxn id="4823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27" name=""/>
          <p:cNvCxnSpPr>
            <a:stCxn id="4822" idx="3"/>
            <a:endCxn id="4823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28" name=""/>
          <p:cNvCxnSpPr>
            <a:stCxn id="4819" idx="4"/>
            <a:endCxn id="4823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29" name=""/>
          <p:cNvCxnSpPr>
            <a:stCxn id="4815" idx="4"/>
            <a:endCxn id="4821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30" name=""/>
          <p:cNvCxnSpPr>
            <a:stCxn id="4816" idx="3"/>
            <a:endCxn id="4819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31" name=""/>
          <p:cNvCxnSpPr>
            <a:stCxn id="4816" idx="4"/>
            <a:endCxn id="4822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832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6" name=""/>
          <p:cNvCxnSpPr>
            <a:stCxn id="4821" idx="6"/>
            <a:endCxn id="4833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37" name=""/>
          <p:cNvCxnSpPr>
            <a:stCxn id="4821" idx="2"/>
            <a:endCxn id="4834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838" name=""/>
          <p:cNvCxnSpPr>
            <a:stCxn id="4820" idx="1"/>
            <a:endCxn id="4835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39" name=""/>
          <p:cNvCxnSpPr>
            <a:stCxn id="4833" idx="1"/>
            <a:endCxn id="4823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40" name=""/>
          <p:cNvCxnSpPr>
            <a:stCxn id="4822" idx="4"/>
            <a:endCxn id="4833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41" name=""/>
          <p:cNvCxnSpPr>
            <a:stCxn id="4835" idx="7"/>
            <a:endCxn id="4815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842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6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7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8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9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2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3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4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7" name=""/>
          <p:cNvCxnSpPr>
            <a:stCxn id="4820" idx="4"/>
            <a:endCxn id="4834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868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2" name=""/>
          <p:cNvCxnSpPr>
            <a:stCxn id="4870" idx="2"/>
            <a:endCxn id="4871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873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8" name=""/>
          <p:cNvCxnSpPr>
            <a:stCxn id="4869" idx="4"/>
            <a:endCxn id="4871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4879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2" name=""/>
          <p:cNvCxnSpPr>
            <a:stCxn id="4880" idx="6"/>
            <a:endCxn id="488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88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9" name=""/>
          <p:cNvCxnSpPr>
            <a:stCxn id="4880" idx="3"/>
            <a:endCxn id="488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0" name=""/>
          <p:cNvCxnSpPr>
            <a:stCxn id="4885" idx="5"/>
            <a:endCxn id="488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1" name=""/>
          <p:cNvCxnSpPr>
            <a:stCxn id="4886" idx="7"/>
            <a:endCxn id="488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2" name=""/>
          <p:cNvCxnSpPr>
            <a:stCxn id="4887" idx="3"/>
            <a:endCxn id="488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3" name=""/>
          <p:cNvCxnSpPr>
            <a:stCxn id="4884" idx="4"/>
            <a:endCxn id="488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4" name=""/>
          <p:cNvCxnSpPr>
            <a:stCxn id="4880" idx="4"/>
            <a:endCxn id="488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5" name=""/>
          <p:cNvCxnSpPr>
            <a:stCxn id="4881" idx="3"/>
            <a:endCxn id="488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896" name=""/>
          <p:cNvCxnSpPr>
            <a:stCxn id="4881" idx="4"/>
            <a:endCxn id="488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89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1" name=""/>
          <p:cNvCxnSpPr>
            <a:stCxn id="4886" idx="6"/>
            <a:endCxn id="489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02" name=""/>
          <p:cNvCxnSpPr>
            <a:stCxn id="4886" idx="2"/>
            <a:endCxn id="489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03" name=""/>
          <p:cNvCxnSpPr>
            <a:stCxn id="4885" idx="1"/>
            <a:endCxn id="490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04" name=""/>
          <p:cNvCxnSpPr>
            <a:stCxn id="4898" idx="1"/>
            <a:endCxn id="488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05" name=""/>
          <p:cNvCxnSpPr>
            <a:stCxn id="4887" idx="4"/>
            <a:endCxn id="489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06" name=""/>
          <p:cNvCxnSpPr>
            <a:stCxn id="4900" idx="7"/>
            <a:endCxn id="488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0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2" name=""/>
          <p:cNvCxnSpPr>
            <a:stCxn id="4885" idx="4"/>
            <a:endCxn id="489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3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7" name=""/>
          <p:cNvCxnSpPr>
            <a:stCxn id="4935" idx="2"/>
            <a:endCxn id="4936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38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3" name=""/>
          <p:cNvCxnSpPr>
            <a:stCxn id="4934" idx="4"/>
            <a:endCxn id="4936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44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H-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7" name=""/>
          <p:cNvCxnSpPr>
            <a:stCxn id="4945" idx="6"/>
            <a:endCxn id="4946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48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4" name=""/>
          <p:cNvCxnSpPr>
            <a:stCxn id="4945" idx="3"/>
            <a:endCxn id="4950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55" name=""/>
          <p:cNvCxnSpPr>
            <a:stCxn id="4950" idx="5"/>
            <a:endCxn id="4951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56" name=""/>
          <p:cNvCxnSpPr>
            <a:stCxn id="4951" idx="7"/>
            <a:endCxn id="4953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57" name=""/>
          <p:cNvCxnSpPr>
            <a:stCxn id="4952" idx="3"/>
            <a:endCxn id="4953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58" name=""/>
          <p:cNvCxnSpPr>
            <a:stCxn id="4949" idx="4"/>
            <a:endCxn id="4953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59" name=""/>
          <p:cNvCxnSpPr>
            <a:stCxn id="4945" idx="4"/>
            <a:endCxn id="4951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60" name=""/>
          <p:cNvCxnSpPr>
            <a:stCxn id="4946" idx="3"/>
            <a:endCxn id="4949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61" name=""/>
          <p:cNvCxnSpPr>
            <a:stCxn id="4946" idx="4"/>
            <a:endCxn id="4952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62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6" name=""/>
          <p:cNvCxnSpPr>
            <a:stCxn id="4951" idx="6"/>
            <a:endCxn id="4963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967" name=""/>
          <p:cNvCxnSpPr>
            <a:stCxn id="4951" idx="2"/>
            <a:endCxn id="4964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68" name=""/>
          <p:cNvCxnSpPr>
            <a:stCxn id="4950" idx="1"/>
            <a:endCxn id="4965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4969" name=""/>
          <p:cNvCxnSpPr>
            <a:stCxn id="4963" idx="1"/>
            <a:endCxn id="4953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970" name=""/>
          <p:cNvCxnSpPr>
            <a:stCxn id="4952" idx="4"/>
            <a:endCxn id="4963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4971" name=""/>
          <p:cNvCxnSpPr>
            <a:stCxn id="4965" idx="7"/>
            <a:endCxn id="4945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72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4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5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1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2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3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4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5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6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7" name=""/>
          <p:cNvCxnSpPr>
            <a:stCxn id="4950" idx="4"/>
            <a:endCxn id="4964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4998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3" name=""/>
          <p:cNvCxnSpPr>
            <a:stCxn id="4999" idx="6"/>
            <a:endCxn id="5002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004" name=""/>
          <p:cNvCxnSpPr>
            <a:stCxn id="5002" idx="1"/>
            <a:endCxn id="5001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005" name=""/>
          <p:cNvCxnSpPr>
            <a:stCxn id="5000" idx="4"/>
            <a:endCxn id="5002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006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6" name=""/>
          <p:cNvCxnSpPr>
            <a:stCxn id="5014" idx="6"/>
            <a:endCxn id="5015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17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3" name=""/>
          <p:cNvCxnSpPr>
            <a:stCxn id="5014" idx="3"/>
            <a:endCxn id="5019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4" name=""/>
          <p:cNvCxnSpPr>
            <a:stCxn id="5019" idx="5"/>
            <a:endCxn id="5020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5" name=""/>
          <p:cNvCxnSpPr>
            <a:stCxn id="5020" idx="7"/>
            <a:endCxn id="5022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6" name=""/>
          <p:cNvCxnSpPr>
            <a:stCxn id="5021" idx="3"/>
            <a:endCxn id="5022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7" name=""/>
          <p:cNvCxnSpPr>
            <a:stCxn id="5018" idx="4"/>
            <a:endCxn id="5022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8" name=""/>
          <p:cNvCxnSpPr>
            <a:stCxn id="5014" idx="4"/>
            <a:endCxn id="5020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29" name=""/>
          <p:cNvCxnSpPr>
            <a:stCxn id="5015" idx="3"/>
            <a:endCxn id="5018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30" name=""/>
          <p:cNvCxnSpPr>
            <a:stCxn id="5015" idx="4"/>
            <a:endCxn id="5021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31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4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5" name=""/>
          <p:cNvCxnSpPr>
            <a:stCxn id="5020" idx="6"/>
            <a:endCxn id="5032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36" name=""/>
          <p:cNvCxnSpPr>
            <a:stCxn id="5020" idx="2"/>
            <a:endCxn id="5033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37" name=""/>
          <p:cNvCxnSpPr>
            <a:stCxn id="5019" idx="1"/>
            <a:endCxn id="5034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38" name=""/>
          <p:cNvCxnSpPr>
            <a:stCxn id="5032" idx="1"/>
            <a:endCxn id="5022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9" name=""/>
          <p:cNvCxnSpPr>
            <a:stCxn id="5021" idx="4"/>
            <a:endCxn id="5032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40" name=""/>
          <p:cNvCxnSpPr>
            <a:stCxn id="5034" idx="7"/>
            <a:endCxn id="5014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41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6" name=""/>
          <p:cNvCxnSpPr>
            <a:stCxn id="5019" idx="4"/>
            <a:endCxn id="5033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67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2" name=""/>
          <p:cNvCxnSpPr>
            <a:stCxn id="5068" idx="6"/>
            <a:endCxn id="5071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73" name=""/>
          <p:cNvCxnSpPr>
            <a:stCxn id="5071" idx="1"/>
            <a:endCxn id="5070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4" name=""/>
          <p:cNvCxnSpPr>
            <a:stCxn id="5069" idx="4"/>
            <a:endCxn id="5071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75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I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5" name=""/>
          <p:cNvCxnSpPr>
            <a:stCxn id="5083" idx="6"/>
            <a:endCxn id="5084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086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2" name=""/>
          <p:cNvCxnSpPr>
            <a:stCxn id="5083" idx="3"/>
            <a:endCxn id="5088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93" name=""/>
          <p:cNvCxnSpPr>
            <a:stCxn id="5088" idx="5"/>
            <a:endCxn id="5089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094" name=""/>
          <p:cNvCxnSpPr>
            <a:stCxn id="5089" idx="7"/>
            <a:endCxn id="5091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095" name=""/>
          <p:cNvCxnSpPr>
            <a:stCxn id="5090" idx="3"/>
            <a:endCxn id="5091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96" name=""/>
          <p:cNvCxnSpPr>
            <a:stCxn id="5087" idx="4"/>
            <a:endCxn id="5091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97" name=""/>
          <p:cNvCxnSpPr>
            <a:stCxn id="5083" idx="4"/>
            <a:endCxn id="5089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098" name=""/>
          <p:cNvCxnSpPr>
            <a:stCxn id="5084" idx="3"/>
            <a:endCxn id="5087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099" name=""/>
          <p:cNvCxnSpPr>
            <a:stCxn id="5084" idx="4"/>
            <a:endCxn id="5090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100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4" name=""/>
          <p:cNvCxnSpPr>
            <a:stCxn id="5089" idx="6"/>
            <a:endCxn id="5101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105" name=""/>
          <p:cNvCxnSpPr>
            <a:stCxn id="5089" idx="2"/>
            <a:endCxn id="5102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106" name=""/>
          <p:cNvCxnSpPr>
            <a:stCxn id="5088" idx="1"/>
            <a:endCxn id="5103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07" name=""/>
          <p:cNvCxnSpPr>
            <a:stCxn id="5101" idx="1"/>
            <a:endCxn id="5091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08" name=""/>
          <p:cNvCxnSpPr>
            <a:stCxn id="5090" idx="4"/>
            <a:endCxn id="5101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09" name=""/>
          <p:cNvCxnSpPr>
            <a:stCxn id="5103" idx="7"/>
            <a:endCxn id="5083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110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5" name=""/>
          <p:cNvCxnSpPr>
            <a:stCxn id="5088" idx="4"/>
            <a:endCxn id="5102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136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1" name=""/>
          <p:cNvCxnSpPr>
            <a:stCxn id="5138" idx="5"/>
            <a:endCxn id="5139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142" name=""/>
          <p:cNvCxnSpPr>
            <a:stCxn id="5139" idx="7"/>
            <a:endCxn id="5140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143" name=""/>
          <p:cNvCxnSpPr>
            <a:stCxn id="5137" idx="4"/>
            <a:endCxn id="5139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144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6" name=""/>
          <p:cNvCxnSpPr>
            <a:stCxn id="5139" idx="6"/>
            <a:endCxn id="5144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147" name=""/>
          <p:cNvCxnSpPr>
            <a:stCxn id="5139" idx="2"/>
            <a:endCxn id="5145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148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7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9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2" name=""/>
          <p:cNvCxnSpPr>
            <a:stCxn id="5160" idx="6"/>
            <a:endCxn id="516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16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9" name=""/>
          <p:cNvCxnSpPr>
            <a:stCxn id="5160" idx="3"/>
            <a:endCxn id="516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0" name=""/>
          <p:cNvCxnSpPr>
            <a:stCxn id="5165" idx="5"/>
            <a:endCxn id="516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1" name=""/>
          <p:cNvCxnSpPr>
            <a:stCxn id="5166" idx="7"/>
            <a:endCxn id="516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2" name=""/>
          <p:cNvCxnSpPr>
            <a:stCxn id="5167" idx="3"/>
            <a:endCxn id="516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3" name=""/>
          <p:cNvCxnSpPr>
            <a:stCxn id="5164" idx="4"/>
            <a:endCxn id="516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4" name=""/>
          <p:cNvCxnSpPr>
            <a:stCxn id="5160" idx="4"/>
            <a:endCxn id="516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5" name=""/>
          <p:cNvCxnSpPr>
            <a:stCxn id="5161" idx="3"/>
            <a:endCxn id="516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76" name=""/>
          <p:cNvCxnSpPr>
            <a:stCxn id="5161" idx="4"/>
            <a:endCxn id="516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17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81" name=""/>
          <p:cNvCxnSpPr>
            <a:stCxn id="5166" idx="6"/>
            <a:endCxn id="517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82" name=""/>
          <p:cNvCxnSpPr>
            <a:stCxn id="5166" idx="2"/>
            <a:endCxn id="517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3" name=""/>
          <p:cNvCxnSpPr>
            <a:stCxn id="5165" idx="1"/>
            <a:endCxn id="518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84" name=""/>
          <p:cNvCxnSpPr>
            <a:stCxn id="5178" idx="1"/>
            <a:endCxn id="516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85" name=""/>
          <p:cNvCxnSpPr>
            <a:stCxn id="5167" idx="4"/>
            <a:endCxn id="517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186" name=""/>
          <p:cNvCxnSpPr>
            <a:stCxn id="5180" idx="7"/>
            <a:endCxn id="516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18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2" name=""/>
          <p:cNvCxnSpPr>
            <a:stCxn id="5165" idx="4"/>
            <a:endCxn id="517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21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8" name=""/>
          <p:cNvCxnSpPr>
            <a:stCxn id="5215" idx="5"/>
            <a:endCxn id="5216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19" name=""/>
          <p:cNvCxnSpPr>
            <a:stCxn id="5216" idx="7"/>
            <a:endCxn id="5217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20" name=""/>
          <p:cNvCxnSpPr>
            <a:stCxn id="5214" idx="4"/>
            <a:endCxn id="5216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221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3" name=""/>
          <p:cNvCxnSpPr>
            <a:stCxn id="5216" idx="6"/>
            <a:endCxn id="5221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24" name=""/>
          <p:cNvCxnSpPr>
            <a:stCxn id="5216" idx="2"/>
            <a:endCxn id="5222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5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J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7" name="PlaceHolder 1"/>
          <p:cNvSpPr>
            <a:spLocks noGrp="1"/>
          </p:cNvSpPr>
          <p:nvPr>
            <p:ph/>
          </p:nvPr>
        </p:nvSpPr>
        <p:spPr>
          <a:xfrm>
            <a:off x="5055840" y="1600200"/>
            <a:ext cx="169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-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-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PlaceHolder 2"/>
          <p:cNvSpPr>
            <a:spLocks noGrp="1"/>
          </p:cNvSpPr>
          <p:nvPr>
            <p:ph/>
          </p:nvPr>
        </p:nvSpPr>
        <p:spPr>
          <a:xfrm>
            <a:off x="7010280" y="1981080"/>
            <a:ext cx="19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-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1" name=""/>
          <p:cNvCxnSpPr>
            <a:stCxn id="5239" idx="6"/>
            <a:endCxn id="5240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242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8" name=""/>
          <p:cNvCxnSpPr>
            <a:stCxn id="5239" idx="3"/>
            <a:endCxn id="5244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49" name=""/>
          <p:cNvCxnSpPr>
            <a:stCxn id="5244" idx="5"/>
            <a:endCxn id="5245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50" name=""/>
          <p:cNvCxnSpPr>
            <a:stCxn id="5245" idx="7"/>
            <a:endCxn id="5247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51" name=""/>
          <p:cNvCxnSpPr>
            <a:stCxn id="5246" idx="3"/>
            <a:endCxn id="5247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52" name=""/>
          <p:cNvCxnSpPr>
            <a:stCxn id="5243" idx="4"/>
            <a:endCxn id="5247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53" name=""/>
          <p:cNvCxnSpPr>
            <a:stCxn id="5239" idx="4"/>
            <a:endCxn id="5245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54" name=""/>
          <p:cNvCxnSpPr>
            <a:stCxn id="5240" idx="3"/>
            <a:endCxn id="5243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55" name=""/>
          <p:cNvCxnSpPr>
            <a:stCxn id="5240" idx="4"/>
            <a:endCxn id="5246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56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0" name=""/>
          <p:cNvCxnSpPr>
            <a:stCxn id="5245" idx="6"/>
            <a:endCxn id="5257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61" name=""/>
          <p:cNvCxnSpPr>
            <a:stCxn id="5245" idx="2"/>
            <a:endCxn id="5258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2" name=""/>
          <p:cNvCxnSpPr>
            <a:stCxn id="5244" idx="1"/>
            <a:endCxn id="5259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3" name=""/>
          <p:cNvCxnSpPr>
            <a:stCxn id="5257" idx="1"/>
            <a:endCxn id="5247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4" name=""/>
          <p:cNvCxnSpPr>
            <a:stCxn id="5246" idx="4"/>
            <a:endCxn id="5257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265" name=""/>
          <p:cNvCxnSpPr>
            <a:stCxn id="5259" idx="7"/>
            <a:endCxn id="5239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66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1" name=""/>
          <p:cNvCxnSpPr>
            <a:stCxn id="5244" idx="4"/>
            <a:endCxn id="5258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292" name=""/>
          <p:cNvSpPr/>
          <p:nvPr/>
        </p:nvSpPr>
        <p:spPr>
          <a:xfrm>
            <a:off x="838080" y="4572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1 Ends - Add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5486400" y="457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Edges t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/>
          </p:nvPr>
        </p:nvSpPr>
        <p:spPr>
          <a:xfrm>
            <a:off x="502740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-A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-C-E-G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-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7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8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9" name=""/>
          <p:cNvCxnSpPr>
            <a:stCxn id="5297" idx="6"/>
            <a:endCxn id="5298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300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6" name=""/>
          <p:cNvCxnSpPr>
            <a:stCxn id="5297" idx="3"/>
            <a:endCxn id="5302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07" name=""/>
          <p:cNvCxnSpPr>
            <a:stCxn id="5302" idx="5"/>
            <a:endCxn id="5303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08" name=""/>
          <p:cNvCxnSpPr>
            <a:stCxn id="5303" idx="7"/>
            <a:endCxn id="5305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09" name=""/>
          <p:cNvCxnSpPr>
            <a:stCxn id="5304" idx="3"/>
            <a:endCxn id="5305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10" name=""/>
          <p:cNvCxnSpPr>
            <a:stCxn id="5301" idx="4"/>
            <a:endCxn id="5305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1" name=""/>
          <p:cNvCxnSpPr>
            <a:stCxn id="5297" idx="4"/>
            <a:endCxn id="5303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12" name=""/>
          <p:cNvCxnSpPr>
            <a:stCxn id="5298" idx="3"/>
            <a:endCxn id="5301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3" name=""/>
          <p:cNvCxnSpPr>
            <a:stCxn id="5298" idx="4"/>
            <a:endCxn id="5304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14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7" name=""/>
          <p:cNvCxnSpPr>
            <a:stCxn id="5303" idx="6"/>
            <a:endCxn id="5314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18" name=""/>
          <p:cNvCxnSpPr>
            <a:stCxn id="5303" idx="2"/>
            <a:endCxn id="5315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9" name=""/>
          <p:cNvCxnSpPr>
            <a:stCxn id="5302" idx="1"/>
            <a:endCxn id="5316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0" name=""/>
          <p:cNvCxnSpPr>
            <a:stCxn id="5314" idx="1"/>
            <a:endCxn id="5305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1" name=""/>
          <p:cNvCxnSpPr>
            <a:stCxn id="5304" idx="4"/>
            <a:endCxn id="5314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22" name=""/>
          <p:cNvCxnSpPr>
            <a:stCxn id="5316" idx="7"/>
            <a:endCxn id="5297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23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8" name=""/>
          <p:cNvCxnSpPr>
            <a:stCxn id="5302" idx="4"/>
            <a:endCxn id="5315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349" name=""/>
          <p:cNvSpPr/>
          <p:nvPr/>
        </p:nvSpPr>
        <p:spPr>
          <a:xfrm>
            <a:off x="0" y="457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s of the Graph at Beginning of 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304920"/>
          <a:ext cx="8534160" cy="62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2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2" name=""/>
          <p:cNvCxnSpPr>
            <a:stCxn id="5350" idx="6"/>
            <a:endCxn id="535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35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9" name=""/>
          <p:cNvCxnSpPr>
            <a:stCxn id="5350" idx="3"/>
            <a:endCxn id="535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60" name=""/>
          <p:cNvCxnSpPr>
            <a:stCxn id="5355" idx="5"/>
            <a:endCxn id="535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361" name=""/>
          <p:cNvCxnSpPr>
            <a:stCxn id="5356" idx="7"/>
            <a:endCxn id="535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62" name=""/>
          <p:cNvCxnSpPr>
            <a:stCxn id="5357" idx="3"/>
            <a:endCxn id="535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63" name=""/>
          <p:cNvCxnSpPr>
            <a:stCxn id="5354" idx="4"/>
            <a:endCxn id="535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4" name=""/>
          <p:cNvCxnSpPr>
            <a:stCxn id="5350" idx="4"/>
            <a:endCxn id="535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365" name=""/>
          <p:cNvCxnSpPr>
            <a:stCxn id="5351" idx="3"/>
            <a:endCxn id="535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6" name=""/>
          <p:cNvCxnSpPr>
            <a:stCxn id="5351" idx="4"/>
            <a:endCxn id="535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1" name=""/>
          <p:cNvCxnSpPr>
            <a:stCxn id="5356" idx="6"/>
            <a:endCxn id="536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72" name=""/>
          <p:cNvCxnSpPr>
            <a:stCxn id="5356" idx="2"/>
            <a:endCxn id="536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3" name=""/>
          <p:cNvCxnSpPr>
            <a:stCxn id="5355" idx="1"/>
            <a:endCxn id="537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4" name=""/>
          <p:cNvCxnSpPr>
            <a:stCxn id="5368" idx="1"/>
            <a:endCxn id="535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5" name=""/>
          <p:cNvCxnSpPr>
            <a:stCxn id="5357" idx="4"/>
            <a:endCxn id="536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376" name=""/>
          <p:cNvCxnSpPr>
            <a:stCxn id="5370" idx="7"/>
            <a:endCxn id="535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7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2" name=""/>
          <p:cNvCxnSpPr>
            <a:stCxn id="5355" idx="4"/>
            <a:endCxn id="536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40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6" name=""/>
          <p:cNvCxnSpPr>
            <a:stCxn id="5404" idx="6"/>
            <a:endCxn id="5405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407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3" name=""/>
          <p:cNvCxnSpPr>
            <a:stCxn id="5404" idx="3"/>
            <a:endCxn id="5409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14" name=""/>
          <p:cNvCxnSpPr>
            <a:stCxn id="5409" idx="5"/>
            <a:endCxn id="5410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415" name=""/>
          <p:cNvCxnSpPr>
            <a:stCxn id="5408" idx="4"/>
            <a:endCxn id="5412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6" name=""/>
          <p:cNvCxnSpPr>
            <a:stCxn id="5404" idx="4"/>
            <a:endCxn id="5410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417" name=""/>
          <p:cNvCxnSpPr>
            <a:stCxn id="5405" idx="3"/>
            <a:endCxn id="5408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8" name=""/>
          <p:cNvCxnSpPr>
            <a:stCxn id="5405" idx="4"/>
            <a:endCxn id="5411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19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2" name=""/>
          <p:cNvCxnSpPr>
            <a:stCxn id="5410" idx="2"/>
            <a:endCxn id="5420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3" name=""/>
          <p:cNvCxnSpPr>
            <a:stCxn id="5409" idx="1"/>
            <a:endCxn id="5421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4" name=""/>
          <p:cNvCxnSpPr>
            <a:stCxn id="5419" idx="1"/>
            <a:endCxn id="5412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5" name=""/>
          <p:cNvCxnSpPr>
            <a:stCxn id="5421" idx="7"/>
            <a:endCxn id="5404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26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7" name=""/>
          <p:cNvCxnSpPr>
            <a:stCxn id="5409" idx="4"/>
            <a:endCxn id="5420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448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D-A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1" name=""/>
          <p:cNvCxnSpPr>
            <a:stCxn id="5449" idx="6"/>
            <a:endCxn id="5450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2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8" name=""/>
          <p:cNvCxnSpPr>
            <a:stCxn id="5449" idx="3"/>
            <a:endCxn id="5454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59" name=""/>
          <p:cNvCxnSpPr>
            <a:stCxn id="5454" idx="5"/>
            <a:endCxn id="5455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60" name=""/>
          <p:cNvCxnSpPr>
            <a:stCxn id="5455" idx="7"/>
            <a:endCxn id="5457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61" name=""/>
          <p:cNvCxnSpPr>
            <a:stCxn id="5456" idx="3"/>
            <a:endCxn id="5457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62" name=""/>
          <p:cNvCxnSpPr>
            <a:stCxn id="5453" idx="4"/>
            <a:endCxn id="5457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3" name=""/>
          <p:cNvCxnSpPr>
            <a:stCxn id="5449" idx="4"/>
            <a:endCxn id="5455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64" name=""/>
          <p:cNvCxnSpPr>
            <a:stCxn id="5450" idx="3"/>
            <a:endCxn id="5453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5" name=""/>
          <p:cNvCxnSpPr>
            <a:stCxn id="5450" idx="4"/>
            <a:endCxn id="5456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66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0" name=""/>
          <p:cNvCxnSpPr>
            <a:stCxn id="5455" idx="6"/>
            <a:endCxn id="5467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71" name=""/>
          <p:cNvCxnSpPr>
            <a:stCxn id="5455" idx="2"/>
            <a:endCxn id="5468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2" name=""/>
          <p:cNvCxnSpPr>
            <a:stCxn id="5454" idx="1"/>
            <a:endCxn id="5469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3" name=""/>
          <p:cNvCxnSpPr>
            <a:stCxn id="5467" idx="1"/>
            <a:endCxn id="5457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4" name=""/>
          <p:cNvCxnSpPr>
            <a:stCxn id="5456" idx="4"/>
            <a:endCxn id="5467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475" name=""/>
          <p:cNvCxnSpPr>
            <a:stCxn id="5469" idx="7"/>
            <a:endCxn id="5449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76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1" name=""/>
          <p:cNvCxnSpPr>
            <a:stCxn id="5454" idx="4"/>
            <a:endCxn id="5468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502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5" name=""/>
          <p:cNvCxnSpPr>
            <a:stCxn id="5503" idx="6"/>
            <a:endCxn id="5504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06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2" name=""/>
          <p:cNvCxnSpPr>
            <a:stCxn id="5503" idx="3"/>
            <a:endCxn id="5508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13" name=""/>
          <p:cNvCxnSpPr>
            <a:stCxn id="5508" idx="5"/>
            <a:endCxn id="5509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14" name=""/>
          <p:cNvCxnSpPr>
            <a:stCxn id="5507" idx="4"/>
            <a:endCxn id="5511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5" name=""/>
          <p:cNvCxnSpPr>
            <a:stCxn id="5503" idx="4"/>
            <a:endCxn id="5509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16" name=""/>
          <p:cNvCxnSpPr>
            <a:stCxn id="5504" idx="3"/>
            <a:endCxn id="5507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7" name=""/>
          <p:cNvCxnSpPr>
            <a:stCxn id="5504" idx="4"/>
            <a:endCxn id="5510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18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1" name=""/>
          <p:cNvCxnSpPr>
            <a:stCxn id="5509" idx="2"/>
            <a:endCxn id="5519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2" name=""/>
          <p:cNvCxnSpPr>
            <a:stCxn id="5508" idx="1"/>
            <a:endCxn id="5520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3" name=""/>
          <p:cNvCxnSpPr>
            <a:stCxn id="5518" idx="1"/>
            <a:endCxn id="5511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4" name=""/>
          <p:cNvCxnSpPr>
            <a:stCxn id="5520" idx="7"/>
            <a:endCxn id="5503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5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6" name=""/>
          <p:cNvCxnSpPr>
            <a:stCxn id="5508" idx="4"/>
            <a:endCxn id="5519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547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B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0" name=""/>
          <p:cNvCxnSpPr>
            <a:stCxn id="5548" idx="6"/>
            <a:endCxn id="5549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551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7" name=""/>
          <p:cNvCxnSpPr>
            <a:stCxn id="5548" idx="3"/>
            <a:endCxn id="5553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58" name=""/>
          <p:cNvCxnSpPr>
            <a:stCxn id="5553" idx="5"/>
            <a:endCxn id="5554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59" name=""/>
          <p:cNvCxnSpPr>
            <a:stCxn id="5554" idx="7"/>
            <a:endCxn id="5556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560" name=""/>
          <p:cNvCxnSpPr>
            <a:stCxn id="5555" idx="3"/>
            <a:endCxn id="5556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61" name=""/>
          <p:cNvCxnSpPr>
            <a:stCxn id="5552" idx="4"/>
            <a:endCxn id="5556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2" name=""/>
          <p:cNvCxnSpPr>
            <a:stCxn id="5548" idx="4"/>
            <a:endCxn id="5554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63" name=""/>
          <p:cNvCxnSpPr>
            <a:stCxn id="5549" idx="3"/>
            <a:endCxn id="5552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4" name=""/>
          <p:cNvCxnSpPr>
            <a:stCxn id="5549" idx="4"/>
            <a:endCxn id="5555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65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9" name=""/>
          <p:cNvCxnSpPr>
            <a:stCxn id="5554" idx="6"/>
            <a:endCxn id="5566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570" name=""/>
          <p:cNvCxnSpPr>
            <a:stCxn id="5554" idx="2"/>
            <a:endCxn id="5567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1" name=""/>
          <p:cNvCxnSpPr>
            <a:stCxn id="5553" idx="1"/>
            <a:endCxn id="5568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2" name=""/>
          <p:cNvCxnSpPr>
            <a:stCxn id="5566" idx="1"/>
            <a:endCxn id="5556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3" name=""/>
          <p:cNvCxnSpPr>
            <a:stCxn id="5555" idx="4"/>
            <a:endCxn id="5566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574" name=""/>
          <p:cNvCxnSpPr>
            <a:stCxn id="5568" idx="7"/>
            <a:endCxn id="5548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75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0" name=""/>
          <p:cNvCxnSpPr>
            <a:stCxn id="5553" idx="4"/>
            <a:endCxn id="5567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601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F-C-E-G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5" name=""/>
          <p:cNvCxnSpPr>
            <a:stCxn id="5603" idx="6"/>
            <a:endCxn id="5604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606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2" name=""/>
          <p:cNvCxnSpPr>
            <a:stCxn id="5609" idx="7"/>
            <a:endCxn id="5611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613" name=""/>
          <p:cNvCxnSpPr>
            <a:stCxn id="5610" idx="3"/>
            <a:endCxn id="5611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14" name=""/>
          <p:cNvCxnSpPr>
            <a:stCxn id="5607" idx="4"/>
            <a:endCxn id="5611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5" name=""/>
          <p:cNvCxnSpPr>
            <a:stCxn id="5604" idx="3"/>
            <a:endCxn id="5607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6" name=""/>
          <p:cNvCxnSpPr>
            <a:stCxn id="5604" idx="4"/>
            <a:endCxn id="5610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17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0" name=""/>
          <p:cNvCxnSpPr>
            <a:stCxn id="5609" idx="6"/>
            <a:endCxn id="5617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621" name=""/>
          <p:cNvCxnSpPr>
            <a:stCxn id="5609" idx="2"/>
            <a:endCxn id="5618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2" name=""/>
          <p:cNvCxnSpPr>
            <a:stCxn id="5608" idx="1"/>
            <a:endCxn id="5619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3" name=""/>
          <p:cNvCxnSpPr>
            <a:stCxn id="5617" idx="1"/>
            <a:endCxn id="5611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4" name=""/>
          <p:cNvCxnSpPr>
            <a:stCxn id="5610" idx="4"/>
            <a:endCxn id="5617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25" name=""/>
          <p:cNvCxnSpPr>
            <a:stCxn id="5619" idx="7"/>
            <a:endCxn id="5603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6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7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9" name=""/>
          <p:cNvCxnSpPr>
            <a:stCxn id="5647" idx="6"/>
            <a:endCxn id="5648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650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6" name=""/>
          <p:cNvCxnSpPr>
            <a:stCxn id="5647" idx="3"/>
            <a:endCxn id="5652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57" name=""/>
          <p:cNvCxnSpPr>
            <a:stCxn id="5652" idx="5"/>
            <a:endCxn id="5653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58" name=""/>
          <p:cNvCxnSpPr>
            <a:stCxn id="5653" idx="7"/>
            <a:endCxn id="5655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59" name=""/>
          <p:cNvCxnSpPr>
            <a:stCxn id="5654" idx="3"/>
            <a:endCxn id="5655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60" name=""/>
          <p:cNvCxnSpPr>
            <a:stCxn id="5651" idx="4"/>
            <a:endCxn id="5655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1" name=""/>
          <p:cNvCxnSpPr>
            <a:stCxn id="5647" idx="4"/>
            <a:endCxn id="5653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62" name=""/>
          <p:cNvCxnSpPr>
            <a:stCxn id="5648" idx="3"/>
            <a:endCxn id="5651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3" name=""/>
          <p:cNvCxnSpPr>
            <a:stCxn id="5648" idx="4"/>
            <a:endCxn id="5654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64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8" name=""/>
          <p:cNvCxnSpPr>
            <a:stCxn id="5653" idx="6"/>
            <a:endCxn id="5665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9" name=""/>
          <p:cNvCxnSpPr>
            <a:stCxn id="5653" idx="2"/>
            <a:endCxn id="5666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0" name=""/>
          <p:cNvCxnSpPr>
            <a:stCxn id="5652" idx="1"/>
            <a:endCxn id="5667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1" name=""/>
          <p:cNvCxnSpPr>
            <a:stCxn id="5665" idx="1"/>
            <a:endCxn id="5655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2" name=""/>
          <p:cNvCxnSpPr>
            <a:stCxn id="5654" idx="4"/>
            <a:endCxn id="5665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673" name=""/>
          <p:cNvCxnSpPr>
            <a:stCxn id="5667" idx="7"/>
            <a:endCxn id="5647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74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9" name=""/>
          <p:cNvCxnSpPr>
            <a:stCxn id="5652" idx="4"/>
            <a:endCxn id="5666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700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I-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4" name=""/>
          <p:cNvCxnSpPr>
            <a:stCxn id="5702" idx="6"/>
            <a:endCxn id="5703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705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1" name=""/>
          <p:cNvCxnSpPr>
            <a:stCxn id="5708" idx="7"/>
            <a:endCxn id="5710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712" name=""/>
          <p:cNvCxnSpPr>
            <a:stCxn id="5709" idx="3"/>
            <a:endCxn id="5710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713" name=""/>
          <p:cNvCxnSpPr>
            <a:stCxn id="5706" idx="4"/>
            <a:endCxn id="5710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4" name=""/>
          <p:cNvCxnSpPr>
            <a:stCxn id="5703" idx="3"/>
            <a:endCxn id="5706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5" name=""/>
          <p:cNvCxnSpPr>
            <a:stCxn id="5703" idx="4"/>
            <a:endCxn id="5709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6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9" name=""/>
          <p:cNvCxnSpPr>
            <a:stCxn id="5708" idx="6"/>
            <a:endCxn id="5716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0" name=""/>
          <p:cNvCxnSpPr>
            <a:stCxn id="5708" idx="2"/>
            <a:endCxn id="5717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1" name=""/>
          <p:cNvCxnSpPr>
            <a:stCxn id="5707" idx="1"/>
            <a:endCxn id="5718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2" name=""/>
          <p:cNvCxnSpPr>
            <a:stCxn id="5716" idx="1"/>
            <a:endCxn id="5710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3" name=""/>
          <p:cNvCxnSpPr>
            <a:stCxn id="5709" idx="4"/>
            <a:endCxn id="5716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724" name=""/>
          <p:cNvCxnSpPr>
            <a:stCxn id="5718" idx="7"/>
            <a:endCxn id="5702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25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6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3" name=""/>
          <p:cNvCxnSpPr>
            <a:stCxn id="5749" idx="5"/>
            <a:endCxn id="5750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754" name=""/>
          <p:cNvCxnSpPr>
            <a:stCxn id="5750" idx="7"/>
            <a:endCxn id="5752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755" name=""/>
          <p:cNvCxnSpPr>
            <a:stCxn id="5748" idx="4"/>
            <a:endCxn id="5752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6" name=""/>
          <p:cNvCxnSpPr>
            <a:stCxn id="5746" idx="4"/>
            <a:endCxn id="5750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757" name=""/>
          <p:cNvCxnSpPr>
            <a:stCxn id="5747" idx="3"/>
            <a:endCxn id="5748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8" name=""/>
          <p:cNvCxnSpPr>
            <a:stCxn id="5747" idx="4"/>
            <a:endCxn id="5751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59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2" name=""/>
          <p:cNvCxnSpPr>
            <a:stCxn id="5750" idx="6"/>
            <a:endCxn id="5759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763" name=""/>
          <p:cNvCxnSpPr>
            <a:stCxn id="5750" idx="2"/>
            <a:endCxn id="5760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4" name=""/>
          <p:cNvCxnSpPr>
            <a:stCxn id="5749" idx="1"/>
            <a:endCxn id="5761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5" name=""/>
          <p:cNvCxnSpPr>
            <a:stCxn id="5759" idx="1"/>
            <a:endCxn id="5752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6" name=""/>
          <p:cNvCxnSpPr>
            <a:stCxn id="5761" idx="7"/>
            <a:endCxn id="5746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67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9" name=""/>
          <p:cNvCxnSpPr>
            <a:stCxn id="5749" idx="4"/>
            <a:endCxn id="5760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79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2" name=""/>
          <p:cNvCxnSpPr>
            <a:stCxn id="5790" idx="6"/>
            <a:endCxn id="579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79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9" name=""/>
          <p:cNvCxnSpPr>
            <a:stCxn id="5790" idx="3"/>
            <a:endCxn id="5795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00" name=""/>
          <p:cNvCxnSpPr>
            <a:stCxn id="5795" idx="5"/>
            <a:endCxn id="5796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801" name=""/>
          <p:cNvCxnSpPr>
            <a:stCxn id="5796" idx="7"/>
            <a:endCxn id="5798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802" name=""/>
          <p:cNvCxnSpPr>
            <a:stCxn id="5797" idx="3"/>
            <a:endCxn id="5798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03" name=""/>
          <p:cNvCxnSpPr>
            <a:stCxn id="5794" idx="4"/>
            <a:endCxn id="579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4" name=""/>
          <p:cNvCxnSpPr>
            <a:stCxn id="5790" idx="4"/>
            <a:endCxn id="5796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805" name=""/>
          <p:cNvCxnSpPr>
            <a:stCxn id="5791" idx="3"/>
            <a:endCxn id="579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6" name=""/>
          <p:cNvCxnSpPr>
            <a:stCxn id="5791" idx="4"/>
            <a:endCxn id="579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0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1" name=""/>
          <p:cNvCxnSpPr>
            <a:stCxn id="5796" idx="6"/>
            <a:endCxn id="5808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5812" name=""/>
          <p:cNvCxnSpPr>
            <a:stCxn id="5796" idx="2"/>
            <a:endCxn id="5809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3" name=""/>
          <p:cNvCxnSpPr>
            <a:stCxn id="5795" idx="1"/>
            <a:endCxn id="5810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4" name=""/>
          <p:cNvCxnSpPr>
            <a:stCxn id="5808" idx="1"/>
            <a:endCxn id="579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5" name=""/>
          <p:cNvCxnSpPr>
            <a:stCxn id="5797" idx="4"/>
            <a:endCxn id="5808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16" name=""/>
          <p:cNvCxnSpPr>
            <a:stCxn id="5810" idx="7"/>
            <a:endCxn id="579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17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2" name=""/>
          <p:cNvCxnSpPr>
            <a:stCxn id="5795" idx="4"/>
            <a:endCxn id="5809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5843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H-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5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2" name=""/>
          <p:cNvCxnSpPr>
            <a:stCxn id="5848" idx="5"/>
            <a:endCxn id="5849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53" name=""/>
          <p:cNvCxnSpPr>
            <a:stCxn id="5849" idx="7"/>
            <a:endCxn id="5851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54" name=""/>
          <p:cNvCxnSpPr>
            <a:stCxn id="5847" idx="4"/>
            <a:endCxn id="5851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5" name=""/>
          <p:cNvCxnSpPr>
            <a:stCxn id="5845" idx="4"/>
            <a:endCxn id="5849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56" name=""/>
          <p:cNvCxnSpPr>
            <a:stCxn id="5846" idx="3"/>
            <a:endCxn id="5847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7" name=""/>
          <p:cNvCxnSpPr>
            <a:stCxn id="5846" idx="4"/>
            <a:endCxn id="5850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58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1" name=""/>
          <p:cNvCxnSpPr>
            <a:stCxn id="5849" idx="6"/>
            <a:endCxn id="5858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2" name=""/>
          <p:cNvCxnSpPr>
            <a:stCxn id="5849" idx="2"/>
            <a:endCxn id="5859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3" name=""/>
          <p:cNvCxnSpPr>
            <a:stCxn id="5848" idx="1"/>
            <a:endCxn id="5860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4" name=""/>
          <p:cNvCxnSpPr>
            <a:stCxn id="5858" idx="1"/>
            <a:endCxn id="5851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5" name=""/>
          <p:cNvCxnSpPr>
            <a:stCxn id="5860" idx="7"/>
            <a:endCxn id="5845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66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8" name=""/>
          <p:cNvCxnSpPr>
            <a:stCxn id="5848" idx="4"/>
            <a:endCxn id="5859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889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1" name=""/>
          <p:cNvCxnSpPr>
            <a:stCxn id="5889" idx="6"/>
            <a:endCxn id="5890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892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6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7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8" name=""/>
          <p:cNvCxnSpPr>
            <a:stCxn id="5889" idx="3"/>
            <a:endCxn id="5894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899" name=""/>
          <p:cNvCxnSpPr>
            <a:stCxn id="5894" idx="5"/>
            <a:endCxn id="5895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00" name=""/>
          <p:cNvCxnSpPr>
            <a:stCxn id="5895" idx="7"/>
            <a:endCxn id="5897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01" name=""/>
          <p:cNvCxnSpPr>
            <a:stCxn id="5896" idx="3"/>
            <a:endCxn id="5897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02" name=""/>
          <p:cNvCxnSpPr>
            <a:stCxn id="5893" idx="4"/>
            <a:endCxn id="5897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3" name=""/>
          <p:cNvCxnSpPr>
            <a:stCxn id="5889" idx="4"/>
            <a:endCxn id="5895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04" name=""/>
          <p:cNvCxnSpPr>
            <a:stCxn id="5890" idx="3"/>
            <a:endCxn id="5893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5" name=""/>
          <p:cNvCxnSpPr>
            <a:stCxn id="5890" idx="4"/>
            <a:endCxn id="5896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06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0" name=""/>
          <p:cNvCxnSpPr>
            <a:stCxn id="5895" idx="6"/>
            <a:endCxn id="5907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1" name=""/>
          <p:cNvCxnSpPr>
            <a:stCxn id="5895" idx="2"/>
            <a:endCxn id="5908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2" name=""/>
          <p:cNvCxnSpPr>
            <a:stCxn id="5894" idx="1"/>
            <a:endCxn id="5909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3" name=""/>
          <p:cNvCxnSpPr>
            <a:stCxn id="5907" idx="1"/>
            <a:endCxn id="5897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4" name=""/>
          <p:cNvCxnSpPr>
            <a:stCxn id="5896" idx="4"/>
            <a:endCxn id="5907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15" name=""/>
          <p:cNvCxnSpPr>
            <a:stCxn id="5909" idx="7"/>
            <a:endCxn id="5889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16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1" name=""/>
          <p:cNvCxnSpPr>
            <a:stCxn id="5894" idx="4"/>
            <a:endCxn id="5908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942" name=""/>
          <p:cNvSpPr/>
          <p:nvPr/>
        </p:nvSpPr>
        <p:spPr>
          <a:xfrm>
            <a:off x="838080" y="457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 J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/>
          </p:nvPr>
        </p:nvSpPr>
        <p:spPr>
          <a:xfrm>
            <a:off x="5052600" y="1600200"/>
            <a:ext cx="258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-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5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7" name=""/>
          <p:cNvCxnSpPr>
            <a:stCxn id="5945" idx="6"/>
            <a:endCxn id="5946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48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4" name=""/>
          <p:cNvCxnSpPr>
            <a:stCxn id="5945" idx="3"/>
            <a:endCxn id="5950" idx="7"/>
          </p:cNvCxnSpPr>
          <p:nvPr/>
        </p:nvCxnSpPr>
        <p:spPr>
          <a:xfrm flipH="1">
            <a:off x="1151640" y="2448000"/>
            <a:ext cx="667800" cy="120096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55" name=""/>
          <p:cNvCxnSpPr>
            <a:stCxn id="5950" idx="5"/>
            <a:endCxn id="5951" idx="1"/>
          </p:cNvCxnSpPr>
          <p:nvPr/>
        </p:nvCxnSpPr>
        <p:spPr>
          <a:xfrm>
            <a:off x="1152360" y="3971520"/>
            <a:ext cx="820080" cy="18104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56" name=""/>
          <p:cNvCxnSpPr>
            <a:stCxn id="5951" idx="7"/>
            <a:endCxn id="5953" idx="4"/>
          </p:cNvCxnSpPr>
          <p:nvPr/>
        </p:nvCxnSpPr>
        <p:spPr>
          <a:xfrm flipV="1">
            <a:off x="2295360" y="4495320"/>
            <a:ext cx="4485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57" name=""/>
          <p:cNvCxnSpPr>
            <a:stCxn id="5952" idx="3"/>
            <a:endCxn id="5953" idx="7"/>
          </p:cNvCxnSpPr>
          <p:nvPr/>
        </p:nvCxnSpPr>
        <p:spPr>
          <a:xfrm flipH="1">
            <a:off x="2904480" y="3438000"/>
            <a:ext cx="438840" cy="6678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58" name=""/>
          <p:cNvCxnSpPr>
            <a:stCxn id="5949" idx="4"/>
            <a:endCxn id="5953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59" name=""/>
          <p:cNvCxnSpPr>
            <a:stCxn id="5945" idx="4"/>
            <a:endCxn id="5951" idx="0"/>
          </p:cNvCxnSpPr>
          <p:nvPr/>
        </p:nvCxnSpPr>
        <p:spPr>
          <a:xfrm>
            <a:off x="1981080" y="2514600"/>
            <a:ext cx="153360" cy="320112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60" name=""/>
          <p:cNvCxnSpPr>
            <a:stCxn id="5946" idx="3"/>
            <a:endCxn id="5949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1" name=""/>
          <p:cNvCxnSpPr>
            <a:stCxn id="5946" idx="4"/>
            <a:endCxn id="5952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62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5" name=""/>
          <p:cNvCxnSpPr>
            <a:stCxn id="5951" idx="6"/>
            <a:endCxn id="5962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6" name=""/>
          <p:cNvCxnSpPr>
            <a:stCxn id="5951" idx="2"/>
            <a:endCxn id="5963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7" name=""/>
          <p:cNvCxnSpPr>
            <a:stCxn id="5950" idx="1"/>
            <a:endCxn id="5964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8" name=""/>
          <p:cNvCxnSpPr>
            <a:stCxn id="5962" idx="1"/>
            <a:endCxn id="5953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69" name=""/>
          <p:cNvCxnSpPr>
            <a:stCxn id="5952" idx="4"/>
            <a:endCxn id="5962" idx="0"/>
          </p:cNvCxnSpPr>
          <p:nvPr/>
        </p:nvCxnSpPr>
        <p:spPr>
          <a:xfrm>
            <a:off x="3504960" y="3504960"/>
            <a:ext cx="1080" cy="152460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cxnSp>
        <p:nvCxnSpPr>
          <p:cNvPr id="5970" name=""/>
          <p:cNvCxnSpPr>
            <a:stCxn id="5964" idx="7"/>
            <a:endCxn id="5945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71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30492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3506400" y="4038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2515680" y="4876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763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14490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1449000" y="2971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2057760" y="3886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6" name=""/>
          <p:cNvCxnSpPr>
            <a:stCxn id="5950" idx="4"/>
            <a:endCxn id="5963" idx="0"/>
          </p:cNvCxnSpPr>
          <p:nvPr/>
        </p:nvCxnSpPr>
        <p:spPr>
          <a:xfrm>
            <a:off x="990360" y="4038120"/>
            <a:ext cx="153000" cy="1220040"/>
          </a:xfrm>
          <a:prstGeom prst="straightConnector1">
            <a:avLst/>
          </a:prstGeom>
          <a:ln w="9360">
            <a:solidFill>
              <a:srgbClr val="ffff00"/>
            </a:solidFill>
            <a:miter/>
          </a:ln>
        </p:spPr>
      </p:cxnSp>
      <p:sp>
        <p:nvSpPr>
          <p:cNvPr id="5997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5486400" y="457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Edges to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838080" y="4572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nd 2 Ends - Add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"/>
          <p:cNvSpPr/>
          <p:nvPr/>
        </p:nvSpPr>
        <p:spPr>
          <a:xfrm>
            <a:off x="17524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3352680" y="20574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2" name=""/>
          <p:cNvCxnSpPr>
            <a:stCxn id="6000" idx="6"/>
            <a:endCxn id="6001" idx="2"/>
          </p:cNvCxnSpPr>
          <p:nvPr/>
        </p:nvCxnSpPr>
        <p:spPr>
          <a:xfrm>
            <a:off x="2209320" y="228564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03" name=""/>
          <p:cNvSpPr/>
          <p:nvPr/>
        </p:nvSpPr>
        <p:spPr>
          <a:xfrm>
            <a:off x="26679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251460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1905120" y="5715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327672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>
            <a:off x="2514600" y="4038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9" name=""/>
          <p:cNvCxnSpPr>
            <a:stCxn id="6004" idx="4"/>
            <a:endCxn id="6008" idx="0"/>
          </p:cNvCxnSpPr>
          <p:nvPr/>
        </p:nvCxnSpPr>
        <p:spPr>
          <a:xfrm>
            <a:off x="2742840" y="34286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0" name=""/>
          <p:cNvCxnSpPr>
            <a:stCxn id="6001" idx="3"/>
            <a:endCxn id="6004" idx="7"/>
          </p:cNvCxnSpPr>
          <p:nvPr/>
        </p:nvCxnSpPr>
        <p:spPr>
          <a:xfrm flipH="1">
            <a:off x="2904480" y="24480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1" name=""/>
          <p:cNvCxnSpPr>
            <a:stCxn id="6001" idx="4"/>
            <a:endCxn id="6007" idx="0"/>
          </p:cNvCxnSpPr>
          <p:nvPr/>
        </p:nvCxnSpPr>
        <p:spPr>
          <a:xfrm flipH="1">
            <a:off x="3504600" y="251460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12" name=""/>
          <p:cNvSpPr/>
          <p:nvPr/>
        </p:nvSpPr>
        <p:spPr>
          <a:xfrm>
            <a:off x="4191120" y="0"/>
            <a:ext cx="759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3276720" y="5029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914400" y="5257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52280" y="2895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6" name=""/>
          <p:cNvCxnSpPr>
            <a:stCxn id="6006" idx="6"/>
            <a:endCxn id="6013" idx="3"/>
          </p:cNvCxnSpPr>
          <p:nvPr/>
        </p:nvCxnSpPr>
        <p:spPr>
          <a:xfrm flipV="1">
            <a:off x="2361960" y="5419440"/>
            <a:ext cx="9817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7" name=""/>
          <p:cNvCxnSpPr>
            <a:stCxn id="6006" idx="2"/>
            <a:endCxn id="6014" idx="5"/>
          </p:cNvCxnSpPr>
          <p:nvPr/>
        </p:nvCxnSpPr>
        <p:spPr>
          <a:xfrm flipH="1" flipV="1">
            <a:off x="1304280" y="5648400"/>
            <a:ext cx="60084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8" name=""/>
          <p:cNvCxnSpPr>
            <a:stCxn id="6005" idx="1"/>
            <a:endCxn id="6015" idx="5"/>
          </p:cNvCxnSpPr>
          <p:nvPr/>
        </p:nvCxnSpPr>
        <p:spPr>
          <a:xfrm flipH="1" flipV="1">
            <a:off x="542520" y="32860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9" name=""/>
          <p:cNvCxnSpPr>
            <a:stCxn id="6013" idx="1"/>
            <a:endCxn id="6008" idx="5"/>
          </p:cNvCxnSpPr>
          <p:nvPr/>
        </p:nvCxnSpPr>
        <p:spPr>
          <a:xfrm flipH="1" flipV="1">
            <a:off x="2904480" y="442872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0" name=""/>
          <p:cNvCxnSpPr>
            <a:stCxn id="6015" idx="7"/>
            <a:endCxn id="6000" idx="2"/>
          </p:cNvCxnSpPr>
          <p:nvPr/>
        </p:nvCxnSpPr>
        <p:spPr>
          <a:xfrm flipV="1">
            <a:off x="542880" y="2285280"/>
            <a:ext cx="12103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21" name=""/>
          <p:cNvSpPr/>
          <p:nvPr/>
        </p:nvSpPr>
        <p:spPr>
          <a:xfrm>
            <a:off x="61056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24393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2972880" y="2514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35823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>
            <a:off x="3049200" y="4495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6" name=""/>
          <p:cNvSpPr/>
          <p:nvPr/>
        </p:nvSpPr>
        <p:spPr>
          <a:xfrm>
            <a:off x="289656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7" name=""/>
          <p:cNvSpPr/>
          <p:nvPr/>
        </p:nvSpPr>
        <p:spPr>
          <a:xfrm>
            <a:off x="14490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91548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>
            <a:off x="230400" y="2971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>
            <a:off x="18306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>
            <a:off x="3430800" y="2133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2" name=""/>
          <p:cNvSpPr/>
          <p:nvPr/>
        </p:nvSpPr>
        <p:spPr>
          <a:xfrm>
            <a:off x="8398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3" name=""/>
          <p:cNvSpPr/>
          <p:nvPr/>
        </p:nvSpPr>
        <p:spPr>
          <a:xfrm>
            <a:off x="2592360" y="3048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4" name=""/>
          <p:cNvSpPr/>
          <p:nvPr/>
        </p:nvSpPr>
        <p:spPr>
          <a:xfrm>
            <a:off x="3354120" y="3124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5" name=""/>
          <p:cNvSpPr/>
          <p:nvPr/>
        </p:nvSpPr>
        <p:spPr>
          <a:xfrm>
            <a:off x="259272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6" name=""/>
          <p:cNvSpPr/>
          <p:nvPr/>
        </p:nvSpPr>
        <p:spPr>
          <a:xfrm>
            <a:off x="992520" y="5334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7" name=""/>
          <p:cNvSpPr/>
          <p:nvPr/>
        </p:nvSpPr>
        <p:spPr>
          <a:xfrm>
            <a:off x="3354120" y="51055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8" name=""/>
          <p:cNvSpPr/>
          <p:nvPr/>
        </p:nvSpPr>
        <p:spPr>
          <a:xfrm>
            <a:off x="1982520" y="57913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64771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>
            <a:off x="8077320" y="2133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1" name=""/>
          <p:cNvCxnSpPr>
            <a:stCxn id="6039" idx="6"/>
            <a:endCxn id="6040" idx="2"/>
          </p:cNvCxnSpPr>
          <p:nvPr/>
        </p:nvCxnSpPr>
        <p:spPr>
          <a:xfrm>
            <a:off x="6933960" y="236196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42" name=""/>
          <p:cNvSpPr/>
          <p:nvPr/>
        </p:nvSpPr>
        <p:spPr>
          <a:xfrm>
            <a:off x="739260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7238880" y="3048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5486400" y="3657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6629400" y="5791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8001000" y="3124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238880" y="4114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8" name=""/>
          <p:cNvCxnSpPr>
            <a:stCxn id="6039" idx="3"/>
            <a:endCxn id="6044" idx="7"/>
          </p:cNvCxnSpPr>
          <p:nvPr/>
        </p:nvCxnSpPr>
        <p:spPr>
          <a:xfrm flipH="1">
            <a:off x="5876640" y="2523960"/>
            <a:ext cx="66744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9" name=""/>
          <p:cNvCxnSpPr>
            <a:stCxn id="6044" idx="5"/>
            <a:endCxn id="6045" idx="1"/>
          </p:cNvCxnSpPr>
          <p:nvPr/>
        </p:nvCxnSpPr>
        <p:spPr>
          <a:xfrm>
            <a:off x="5876640" y="4047840"/>
            <a:ext cx="819720" cy="18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0" name=""/>
          <p:cNvCxnSpPr>
            <a:stCxn id="6045" idx="7"/>
            <a:endCxn id="6047" idx="4"/>
          </p:cNvCxnSpPr>
          <p:nvPr/>
        </p:nvCxnSpPr>
        <p:spPr>
          <a:xfrm flipV="1">
            <a:off x="7019640" y="4571640"/>
            <a:ext cx="44820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1" name=""/>
          <p:cNvCxnSpPr>
            <a:stCxn id="6046" idx="3"/>
            <a:endCxn id="6047" idx="7"/>
          </p:cNvCxnSpPr>
          <p:nvPr/>
        </p:nvCxnSpPr>
        <p:spPr>
          <a:xfrm flipH="1">
            <a:off x="7628760" y="351468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2" name=""/>
          <p:cNvCxnSpPr>
            <a:stCxn id="6043" idx="4"/>
            <a:endCxn id="6047" idx="0"/>
          </p:cNvCxnSpPr>
          <p:nvPr/>
        </p:nvCxnSpPr>
        <p:spPr>
          <a:xfrm>
            <a:off x="7467120" y="35049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3" name=""/>
          <p:cNvCxnSpPr>
            <a:stCxn id="6039" idx="4"/>
            <a:endCxn id="6045" idx="0"/>
          </p:cNvCxnSpPr>
          <p:nvPr/>
        </p:nvCxnSpPr>
        <p:spPr>
          <a:xfrm>
            <a:off x="6705360" y="2590920"/>
            <a:ext cx="15300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4" name=""/>
          <p:cNvCxnSpPr>
            <a:stCxn id="6040" idx="3"/>
            <a:endCxn id="6043" idx="7"/>
          </p:cNvCxnSpPr>
          <p:nvPr/>
        </p:nvCxnSpPr>
        <p:spPr>
          <a:xfrm flipH="1">
            <a:off x="7628760" y="2523600"/>
            <a:ext cx="515160" cy="59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5" name=""/>
          <p:cNvCxnSpPr>
            <a:stCxn id="6040" idx="4"/>
            <a:endCxn id="6046" idx="0"/>
          </p:cNvCxnSpPr>
          <p:nvPr/>
        </p:nvCxnSpPr>
        <p:spPr>
          <a:xfrm flipH="1">
            <a:off x="8229600" y="2590560"/>
            <a:ext cx="76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6" name=""/>
          <p:cNvSpPr/>
          <p:nvPr/>
        </p:nvSpPr>
        <p:spPr>
          <a:xfrm>
            <a:off x="8001000" y="5105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>
            <a:off x="5638680" y="53341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48769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9" name=""/>
          <p:cNvCxnSpPr>
            <a:stCxn id="6045" idx="6"/>
            <a:endCxn id="6056" idx="3"/>
          </p:cNvCxnSpPr>
          <p:nvPr/>
        </p:nvCxnSpPr>
        <p:spPr>
          <a:xfrm flipV="1">
            <a:off x="7086240" y="5495400"/>
            <a:ext cx="981720" cy="524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0" name=""/>
          <p:cNvCxnSpPr>
            <a:stCxn id="6045" idx="2"/>
            <a:endCxn id="6057" idx="5"/>
          </p:cNvCxnSpPr>
          <p:nvPr/>
        </p:nvCxnSpPr>
        <p:spPr>
          <a:xfrm flipH="1" flipV="1">
            <a:off x="6028560" y="5723640"/>
            <a:ext cx="60084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1" name=""/>
          <p:cNvCxnSpPr>
            <a:stCxn id="6044" idx="1"/>
            <a:endCxn id="6058" idx="5"/>
          </p:cNvCxnSpPr>
          <p:nvPr/>
        </p:nvCxnSpPr>
        <p:spPr>
          <a:xfrm flipH="1" flipV="1">
            <a:off x="5266800" y="3361680"/>
            <a:ext cx="2865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2" name=""/>
          <p:cNvCxnSpPr>
            <a:stCxn id="6056" idx="1"/>
            <a:endCxn id="6047" idx="5"/>
          </p:cNvCxnSpPr>
          <p:nvPr/>
        </p:nvCxnSpPr>
        <p:spPr>
          <a:xfrm flipH="1" flipV="1">
            <a:off x="7628760" y="4505040"/>
            <a:ext cx="438840" cy="66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3" name=""/>
          <p:cNvCxnSpPr>
            <a:stCxn id="6046" idx="4"/>
            <a:endCxn id="6056" idx="0"/>
          </p:cNvCxnSpPr>
          <p:nvPr/>
        </p:nvCxnSpPr>
        <p:spPr>
          <a:xfrm>
            <a:off x="8229240" y="35812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4" name=""/>
          <p:cNvCxnSpPr>
            <a:stCxn id="6058" idx="7"/>
            <a:endCxn id="6039" idx="2"/>
          </p:cNvCxnSpPr>
          <p:nvPr/>
        </p:nvCxnSpPr>
        <p:spPr>
          <a:xfrm flipV="1">
            <a:off x="5266800" y="2361960"/>
            <a:ext cx="1210680" cy="67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65" name=""/>
          <p:cNvSpPr/>
          <p:nvPr/>
        </p:nvSpPr>
        <p:spPr>
          <a:xfrm>
            <a:off x="5335200" y="32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7164000" y="3657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>
            <a:off x="77734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769716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8307000" y="2666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7773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823068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7621200" y="5715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7239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>
            <a:off x="6173280" y="5791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54874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617328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>
            <a:off x="56397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>
            <a:off x="617328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6782400" y="39625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4954680" y="3048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65548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815508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556452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7316640" y="31240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>
            <a:off x="8078760" y="3200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73170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5716800" y="541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8078400" y="51814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6707160" y="586728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0" name=""/>
          <p:cNvCxnSpPr>
            <a:stCxn id="6044" idx="4"/>
            <a:endCxn id="6057" idx="0"/>
          </p:cNvCxnSpPr>
          <p:nvPr/>
        </p:nvCxnSpPr>
        <p:spPr>
          <a:xfrm>
            <a:off x="5714640" y="4114440"/>
            <a:ext cx="153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91" name=""/>
          <p:cNvSpPr/>
          <p:nvPr/>
        </p:nvSpPr>
        <p:spPr>
          <a:xfrm>
            <a:off x="304920" y="457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Spann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48640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762120" y="304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alysis of Boruvka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1219320" y="129528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=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(m log 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 = edges, n = no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Prim’s, it does not need to worry about detecting cyc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, however, need to see the whole graph, but it only examines pieces of it at a time, not all of it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6" name="PlaceHolder 2"/>
          <p:cNvSpPr>
            <a:spLocks noGrp="1"/>
          </p:cNvSpPr>
          <p:nvPr>
            <p:ph/>
          </p:nvPr>
        </p:nvSpPr>
        <p:spPr>
          <a:xfrm>
            <a:off x="977760" y="1447920"/>
            <a:ext cx="71056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ctr">
              <a:lnSpc>
                <a:spcPct val="90000"/>
              </a:lnSpc>
              <a:spcBef>
                <a:spcPts val="171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000000"/>
                </a:solidFill>
                <a:latin typeface="Arial Narrow"/>
              </a:rPr>
              <a:t>TSP</a:t>
            </a:r>
            <a:endParaRPr b="1" lang="en-US" sz="2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289080"/>
          <a:ext cx="8915400" cy="61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080"/>
                    <a:ext cx="891540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00:39:03Z</dcterms:created>
  <dc:creator/>
  <dc:description/>
  <dc:language>en-US</dc:language>
  <cp:lastModifiedBy>ramallah</cp:lastModifiedBy>
  <dcterms:modified xsi:type="dcterms:W3CDTF">2007-12-03T05:54:31Z</dcterms:modified>
  <cp:revision>326</cp:revision>
  <dc:subject/>
  <dc:title>Course 2559A: Introduction to Visual Basic .NET Programming with Microsoft 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3.1.1005</vt:lpwstr>
  </property>
</Properties>
</file>