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5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5E34A5-D112-4351-9038-869F2198B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A65934-4200-4DFB-9EC1-C5985044E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34B49B7-27FE-48FA-987C-7EC404F24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C32036-6D30-4352-89FA-9B2F5B31F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EAE228-F77F-408F-A198-BBCD5F50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F47955-ABD8-45B6-997F-7D08354D9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0E752C-1AB3-4C11-962E-F09BEEB0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4FE2F37-DF34-4C8E-A426-9A293C8D7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10C163D-ECE7-4AB8-8286-00748BE7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4D2B7C-B7AC-4023-B4E8-D7CC3511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FD42F3-008A-47DD-9B4E-A6E42A250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4FAED85-265E-4CFB-9F9A-552551EDF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5275AF-3D1E-42D6-BF91-D3354CCD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112A1F-CB69-4C60-9EDF-246AD911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32F2712-8131-4E4D-B7BD-6DD8C367C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513FDF7-5191-4151-AA44-D608CB045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A9BFA2-B98E-4D07-BEBA-149F6405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4E56D5-BF73-4EC6-A6EF-CF8BF755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E17E69-C650-49DF-ACC7-10891F20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44E332-9842-43B7-BA2E-B6D4D35E1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C47-7BDC-4FDA-A1CD-888CBA53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41F-AC06-4574-B2A1-E5D7920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728-A158-41D5-9038-5B2B8C0B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37A-8FBF-46BA-9E57-95B55D9A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2EB-363B-4973-8801-8B0A9703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3C6-777E-410C-9F47-146404E9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6EA-C82B-4450-B8EF-84C7A667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6CA-C5F7-4574-8ACA-A70F221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24D-8938-444C-A7A7-16E12FC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850-9242-42E9-91DC-02A401F6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277-CF65-48DD-B4C4-5AE38C57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F1E-C007-42EF-8B75-0E32ACFD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96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448-C381-4528-B4B7-E57B38DB41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7760" y="1218960"/>
            <a:ext cx="7105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hapter 9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5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 Narrow"/>
              </a:rPr>
              <a:t>Sorting II</a:t>
            </a:r>
            <a:endParaRPr b="1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gorithms and Analys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semes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007/200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By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moun Nawahd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53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523880" y="1143000"/>
          <a:ext cx="64548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1760"/>
                <a:gridCol w="784440"/>
                <a:gridCol w="826920"/>
                <a:gridCol w="827280"/>
                <a:gridCol w="826920"/>
                <a:gridCol w="8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133720" y="609480"/>
            <a:ext cx="5105160" cy="33984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447920" y="3352680"/>
          <a:ext cx="6629040" cy="685440"/>
        </p:xfrm>
        <a:graphic>
          <a:graphicData uri="http://schemas.openxmlformats.org/drawingml/2006/table">
            <a:tbl>
              <a:tblPr/>
              <a:tblGrid>
                <a:gridCol w="808560"/>
                <a:gridCol w="834840"/>
                <a:gridCol w="782280"/>
                <a:gridCol w="805680"/>
                <a:gridCol w="849240"/>
                <a:gridCol w="849600"/>
                <a:gridCol w="849240"/>
                <a:gridCol w="8496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cfeb9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04920" y="30492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8196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7696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1036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5172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276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516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8928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2616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0856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7372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552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8280" y="5664240"/>
            <a:ext cx="31572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3960" y="5664240"/>
            <a:ext cx="3160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2640" y="1700280"/>
            <a:ext cx="2295360" cy="7268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160" y="37296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Merge Sort Algorith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N =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59040" y="2703600"/>
            <a:ext cx="1122120" cy="622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2703600"/>
            <a:ext cx="1122480" cy="6220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14480" y="4049640"/>
            <a:ext cx="6094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9760" y="4049640"/>
            <a:ext cx="60984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5400" y="4049640"/>
            <a:ext cx="60948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80160" y="4049640"/>
            <a:ext cx="60984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9040" y="4867200"/>
            <a:ext cx="46836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4867200"/>
            <a:ext cx="46800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27360" y="4867200"/>
            <a:ext cx="46836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87880" y="4867200"/>
            <a:ext cx="46836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45440" y="4867200"/>
            <a:ext cx="46836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96400" y="4867200"/>
            <a:ext cx="46800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4680" y="4867200"/>
            <a:ext cx="46836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13320" y="4867200"/>
            <a:ext cx="468000" cy="465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582640" y="2075040"/>
            <a:ext cx="803160" cy="591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92680" y="2011320"/>
            <a:ext cx="889200" cy="67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69120" y="3112920"/>
            <a:ext cx="689040" cy="93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9720" y="3094200"/>
            <a:ext cx="68904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457600" y="3121200"/>
            <a:ext cx="68868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168200" y="3083040"/>
            <a:ext cx="688680" cy="93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3920" y="1866960"/>
            <a:ext cx="857556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                                          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                    4                        4                 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   2             2        2                2       2                2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1    1   1      1   1    1    1        1    1    1    1        1   1   1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04960" y="452916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79720" y="453708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216400" y="452448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432560" y="453240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63000" y="456084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2160" y="4548240"/>
            <a:ext cx="23148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3760" y="453564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44480" y="452268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38160" y="533556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22560" y="534348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79800" y="533088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1480" y="534348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88120" y="5330880"/>
            <a:ext cx="23148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83440" y="533880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12200" y="5326200"/>
            <a:ext cx="23148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1880" y="533412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95080" y="5330880"/>
            <a:ext cx="23148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490760" y="533880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633760" y="532620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29080" y="533412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022720" y="534204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877000" y="534996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08720" y="5357880"/>
            <a:ext cx="231840" cy="33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059680" y="5324400"/>
            <a:ext cx="231840" cy="3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y by the Ru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A0A-6FF9-4494-86BD-05F20D568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0600" y="310680"/>
            <a:ext cx="874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 Sort of N element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compari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8040" y="1801800"/>
            <a:ext cx="765864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tire array can be subdivided into hal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ti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ime it is subdivided, function Merge i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-combine the halves. Function Merge use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rary array to store the merged elemen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ging is O(N) because it compares each 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ubarra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ing elements back from the temporary arr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values array is also O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ERGE SORT IS O(N*log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y by the Ru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D9A-0934-49DD-BE5A-6C6B0FB97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61760" y="204480"/>
            <a:ext cx="7924680" cy="65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// Recursive merge sor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late &lt;class  ItemType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MergeSort  ( ItemType  values[ ] 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first 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  last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//  Pre:   first &lt;= 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//  Post: Array values[ first . . last ] sorted into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first &lt; last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 general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iddle = ( first  +  last ) / 2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Sort ( values, first, middle )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Sort( values,  middle + 1, last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now  merge two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values  [ first . . . middle ]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values [ middle + 1,  . . . last 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ge( values,  first, middle, middle + 1, last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y by the Ru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94A-3BB3-4F09-9267-160C7695C3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Quick Sort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245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most efficient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(N log N)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lgorithm availab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rks by first randomly choosing a </a:t>
            </a:r>
            <a:r>
              <a:rPr b="1" lang="en-US" sz="3600" spc="-1" strike="noStrike">
                <a:solidFill>
                  <a:srgbClr val="0099ff"/>
                </a:solidFill>
                <a:latin typeface="Arial Narrow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oint which is hopefully a median element in the array. All elements less than the pivot are transferred to a new array, and all elements greater are transferred to a second arra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Quick Sort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se new arrays are </a:t>
            </a:r>
            <a:r>
              <a:rPr b="1" lang="en-US" sz="3200" spc="-1" strike="noStrike">
                <a:solidFill>
                  <a:srgbClr val="0099ff"/>
                </a:solidFill>
                <a:latin typeface="Arial Narrow"/>
              </a:rPr>
              <a:t>recursivel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quick sorted until they have been split down to a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lement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orted elements smaller than the pivot are placed in a new array, then the pivot is placed after, and finally the elements greater than the pivot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se elements are now sorted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Quick Sort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e are given array of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integers to sort: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93432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Pick Pivot Elemen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re are a number of ways to pick the pivot elemen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this example, we will use the </a:t>
            </a:r>
            <a:r>
              <a:rPr b="1" lang="en-US" sz="3600" spc="-1" strike="noStrike">
                <a:solidFill>
                  <a:srgbClr val="0099ff"/>
                </a:solidFill>
                <a:latin typeface="Arial Narrow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lement in the array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69343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Partitioning Array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iven a pivot, partition the elements of the array such that the resulting array consists of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. One sub-array that contains elements &gt;=  pivo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. Another sub-array that contains elements &lt;  pivo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ub-arrays are stored in the original data array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itioning loops through, swapping elements below/above pivo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Partition Resul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7010280" cy="2676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172200" cy="966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0" y="-2789280"/>
            <a:ext cx="4572000" cy="124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tioning Arr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tion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Elementary Sorting Algorithms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lection Sort, Insertion Sort, and Bubble Sort all have a worst-case time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n2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making them impractical for large array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t they are easy to program, easy to debug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ertion Sort also has good performance when the array is nearly sorted to begin with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t more sophisticated sorting algorithms are needed when good performance is needed in all cases for large array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096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2388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9718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9680" y="5562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388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9718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14480" y="930240"/>
            <a:ext cx="57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2388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5053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4480" y="930240"/>
            <a:ext cx="57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530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2388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14480" y="930240"/>
            <a:ext cx="57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5530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2388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13400" y="930240"/>
            <a:ext cx="587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13400" y="930240"/>
            <a:ext cx="587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640" y="930240"/>
            <a:ext cx="853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3733920"/>
            <a:ext cx="2527200" cy="457200"/>
          </a:xfrm>
          <a:custGeom>
            <a:avLst/>
            <a:gdLst/>
            <a:ahLst/>
            <a:rect l="l" t="t" r="r" b="b"/>
            <a:pathLst>
              <a:path w="1592" h="560">
                <a:moveTo>
                  <a:pt x="0" y="560"/>
                </a:moveTo>
                <a:cubicBezTo>
                  <a:pt x="76" y="360"/>
                  <a:pt x="152" y="160"/>
                  <a:pt x="384" y="80"/>
                </a:cubicBezTo>
                <a:cubicBezTo>
                  <a:pt x="616" y="0"/>
                  <a:pt x="1192" y="0"/>
                  <a:pt x="1392" y="80"/>
                </a:cubicBezTo>
                <a:cubicBezTo>
                  <a:pt x="1592" y="160"/>
                  <a:pt x="1588" y="360"/>
                  <a:pt x="1584" y="56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7640" y="930240"/>
            <a:ext cx="853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733920"/>
            <a:ext cx="2527200" cy="457200"/>
          </a:xfrm>
          <a:custGeom>
            <a:avLst/>
            <a:gdLst/>
            <a:ahLst/>
            <a:rect l="l" t="t" r="r" b="b"/>
            <a:pathLst>
              <a:path w="1592" h="560">
                <a:moveTo>
                  <a:pt x="0" y="560"/>
                </a:moveTo>
                <a:cubicBezTo>
                  <a:pt x="76" y="360"/>
                  <a:pt x="152" y="160"/>
                  <a:pt x="384" y="80"/>
                </a:cubicBezTo>
                <a:cubicBezTo>
                  <a:pt x="616" y="0"/>
                  <a:pt x="1192" y="0"/>
                  <a:pt x="1392" y="80"/>
                </a:cubicBezTo>
                <a:cubicBezTo>
                  <a:pt x="1592" y="160"/>
                  <a:pt x="1588" y="360"/>
                  <a:pt x="1584" y="56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9112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11430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O(N log N) Sorts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as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ffici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plicated, not easy to understan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st make extensive use of recursion and complex data structur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ge Sort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ick S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8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 S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1430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5530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733920"/>
            <a:ext cx="1219320" cy="457200"/>
          </a:xfrm>
          <a:custGeom>
            <a:avLst/>
            <a:gdLst/>
            <a:ahLst/>
            <a:rect l="l" t="t" r="r" b="b"/>
            <a:pathLst>
              <a:path w="1592" h="560">
                <a:moveTo>
                  <a:pt x="0" y="560"/>
                </a:moveTo>
                <a:cubicBezTo>
                  <a:pt x="76" y="360"/>
                  <a:pt x="152" y="160"/>
                  <a:pt x="384" y="80"/>
                </a:cubicBezTo>
                <a:cubicBezTo>
                  <a:pt x="616" y="0"/>
                  <a:pt x="1192" y="0"/>
                  <a:pt x="1392" y="80"/>
                </a:cubicBezTo>
                <a:cubicBezTo>
                  <a:pt x="1592" y="160"/>
                  <a:pt x="1588" y="360"/>
                  <a:pt x="1584" y="56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3733920"/>
            <a:ext cx="1219320" cy="457200"/>
          </a:xfrm>
          <a:custGeom>
            <a:avLst/>
            <a:gdLst/>
            <a:ahLst/>
            <a:rect l="l" t="t" r="r" b="b"/>
            <a:pathLst>
              <a:path w="1592" h="560">
                <a:moveTo>
                  <a:pt x="0" y="560"/>
                </a:moveTo>
                <a:cubicBezTo>
                  <a:pt x="76" y="360"/>
                  <a:pt x="152" y="160"/>
                  <a:pt x="384" y="80"/>
                </a:cubicBezTo>
                <a:cubicBezTo>
                  <a:pt x="616" y="0"/>
                  <a:pt x="1192" y="0"/>
                  <a:pt x="1392" y="80"/>
                </a:cubicBezTo>
                <a:cubicBezTo>
                  <a:pt x="1592" y="160"/>
                  <a:pt x="1588" y="360"/>
                  <a:pt x="1584" y="56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472428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11430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114300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62485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638680" y="5257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Merge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ometimes called “</a:t>
            </a:r>
            <a:r>
              <a:rPr b="1" lang="en-US" sz="3600" spc="-1" strike="noStrike">
                <a:solidFill>
                  <a:srgbClr val="dc0081"/>
                </a:solidFill>
                <a:latin typeface="Arial Narrow"/>
              </a:rPr>
              <a:t>divide and conquer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” sor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orks by recursively splitting an array into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equal halves, sorting the items, then re-merging them back into a new array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5028840" y="5257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5028840" y="5257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57640" y="930240"/>
            <a:ext cx="853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5028840" y="5257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335268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557640" y="930240"/>
            <a:ext cx="853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small_index] and data[pivot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2800" y="428148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028840" y="5257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37339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57640" y="930240"/>
            <a:ext cx="853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big_index] 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too_big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ata[too_small_index] 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_big_index &lt; too_small_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big_index] and data[too_small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oo_small_index &gt; too_big_index, go 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 data[too_small_index] and data[pivot_inde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86600" y="4191120"/>
            <a:ext cx="60948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840" y="4343400"/>
            <a:ext cx="163476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vot_index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51440" y="48006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96252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big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67280" y="55767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_small_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5028840" y="5257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5257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3733920"/>
            <a:ext cx="457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artition Resul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1" name=""/>
          <p:cNvSpPr/>
          <p:nvPr/>
        </p:nvSpPr>
        <p:spPr>
          <a:xfrm>
            <a:off x="1828800" y="2590920"/>
            <a:ext cx="60948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2590920"/>
            <a:ext cx="60984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2590920"/>
            <a:ext cx="60948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57600" y="2590920"/>
            <a:ext cx="60948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2590920"/>
            <a:ext cx="609840" cy="60948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2590920"/>
            <a:ext cx="60948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86400" y="2590920"/>
            <a:ext cx="60948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95880" y="2590920"/>
            <a:ext cx="60984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05720" y="2590920"/>
            <a:ext cx="609480" cy="609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0560" y="32004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0]    [1]   [2]    [3]   [4]   [5]    [6]   [7]   [8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259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76920" y="259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2209680" y="411480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528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3840" y="41911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51440" y="41911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data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Quicksort Analysis</a:t>
            </a:r>
            <a:endParaRPr b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ume that keys are random, uniformly distributed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is best case running time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5920" indent="-28152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curs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76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 Partition splits array in two sub-arrays of size n/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76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Quicksort each sub-arr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5920" indent="-2815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pth of recursion tree? </a:t>
            </a:r>
            <a:r>
              <a:rPr b="1" lang="en-US" sz="2800" spc="-1" strike="noStrike">
                <a:solidFill>
                  <a:srgbClr val="0099ff"/>
                </a:solidFill>
                <a:latin typeface="Arial Narrow"/>
              </a:rPr>
              <a:t>O(log</a:t>
            </a:r>
            <a:r>
              <a:rPr b="1" lang="en-US" sz="2800" spc="-1" strike="noStrike" baseline="-25000">
                <a:solidFill>
                  <a:srgbClr val="0099ff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99ff"/>
                </a:solidFill>
                <a:latin typeface="Arial Narrow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55920" indent="-28152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umber of accesses in partition? </a:t>
            </a:r>
            <a:r>
              <a:rPr b="1" lang="en-US" sz="3200" spc="-1" strike="noStrike">
                <a:solidFill>
                  <a:srgbClr val="0099ff"/>
                </a:solidFill>
                <a:latin typeface="Arial Narrow"/>
              </a:rPr>
              <a:t>O(n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st case running time: </a:t>
            </a:r>
            <a:r>
              <a:rPr b="1" lang="en-US" sz="2800" spc="-1" strike="noStrike">
                <a:solidFill>
                  <a:srgbClr val="0099ff"/>
                </a:solidFill>
                <a:latin typeface="Arial Narrow"/>
              </a:rPr>
              <a:t>O(n log2n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 Narrow"/>
              </a:rPr>
              <a:t>Worst case running time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Quicksort: Worst Case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77760" y="1219320"/>
            <a:ext cx="710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ssume first element is chosen as pivot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4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ssume we get array that is already in order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858000" cy="129204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66680" y="4010040"/>
            <a:ext cx="6705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Quicksort Analysis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391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Best case running time: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(n log2n)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orst case running time: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(n2)!!!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8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What can we do to avoid worst case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80000"/>
              </a:lnSpc>
              <a:spcBef>
                <a:spcPts val="2401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ifferent versions of quick sort address this problem in different way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80000"/>
              </a:lnSpc>
              <a:spcBef>
                <a:spcPts val="2401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r example, one way is to randomly choose 3 elements, then use the median element as the pivo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 Narrow"/>
              </a:rPr>
              <a:t>Heap Sort Approach</a:t>
            </a:r>
            <a:endParaRPr b="1" lang="en-US" sz="5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rst, make the unsorted array into a heap by satisfying the order property.  Then repeat the steps below until there are no more unsorted element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Take the root (maximum) element off the hea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by swapping it into its correct place in the array at the end of the unsorted elements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Reheap the remaining unsorted elements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(This puts the next-largest element into the root position)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523880" y="1143000"/>
          <a:ext cx="64548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1760"/>
                <a:gridCol w="784440"/>
                <a:gridCol w="826920"/>
                <a:gridCol w="827280"/>
                <a:gridCol w="826920"/>
                <a:gridCol w="8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18148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680"/>
                <a:gridCol w="81252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99072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580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81952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95288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01028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>
            <a:off x="2590920" y="1981080"/>
            <a:ext cx="76176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37200" y="1981080"/>
            <a:ext cx="747720" cy="747720"/>
          </a:xfrm>
          <a:custGeom>
            <a:avLst/>
            <a:gdLst/>
            <a:ahLst/>
            <a:rect l="l" t="t" r="r" b="b"/>
            <a:pathLst>
              <a:path w="471" h="471">
                <a:moveTo>
                  <a:pt x="0" y="0"/>
                </a:moveTo>
                <a:lnTo>
                  <a:pt x="471" y="47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447920" y="3733920"/>
            <a:ext cx="76176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714640" y="3733920"/>
            <a:ext cx="76212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747720" cy="747720"/>
          </a:xfrm>
          <a:custGeom>
            <a:avLst/>
            <a:gdLst/>
            <a:ahLst/>
            <a:rect l="l" t="t" r="r" b="b"/>
            <a:pathLst>
              <a:path w="471" h="471">
                <a:moveTo>
                  <a:pt x="0" y="0"/>
                </a:moveTo>
                <a:lnTo>
                  <a:pt x="471" y="47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733920"/>
            <a:ext cx="747720" cy="747720"/>
          </a:xfrm>
          <a:custGeom>
            <a:avLst/>
            <a:gdLst/>
            <a:ahLst/>
            <a:rect l="l" t="t" r="r" b="b"/>
            <a:pathLst>
              <a:path w="471" h="471">
                <a:moveTo>
                  <a:pt x="0" y="0"/>
                </a:moveTo>
                <a:lnTo>
                  <a:pt x="471" y="47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ursively  Split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"/>
          <p:cNvSpPr/>
          <p:nvPr/>
        </p:nvSpPr>
        <p:spPr>
          <a:xfrm>
            <a:off x="360360" y="290520"/>
            <a:ext cx="85154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p root element into last place in unsorted arra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352520" y="1801800"/>
            <a:ext cx="825480" cy="4183200"/>
            <a:chOff x="1352520" y="1801800"/>
            <a:chExt cx="825480" cy="4183200"/>
          </a:xfrm>
        </p:grpSpPr>
        <p:sp>
          <p:nvSpPr>
            <p:cNvPr id="720" name=""/>
            <p:cNvSpPr/>
            <p:nvPr/>
          </p:nvSpPr>
          <p:spPr>
            <a:xfrm>
              <a:off x="1358640" y="1801800"/>
              <a:ext cx="81252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52520" y="23464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52520" y="2963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52520" y="35845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52520" y="42022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52520" y="48229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52520" y="54403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681480" y="182880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96240" y="190512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4200" y="137160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733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740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61000" y="4754520"/>
            <a:ext cx="716040" cy="4572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423200" y="38084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927840" y="4106520"/>
            <a:ext cx="4748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585120" y="4770360"/>
            <a:ext cx="556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7896240" y="4171680"/>
            <a:ext cx="730080" cy="1468440"/>
            <a:chOff x="7896240" y="4171680"/>
            <a:chExt cx="730080" cy="1468440"/>
          </a:xfrm>
        </p:grpSpPr>
        <p:sp>
          <p:nvSpPr>
            <p:cNvPr id="751" name=""/>
            <p:cNvSpPr/>
            <p:nvPr/>
          </p:nvSpPr>
          <p:spPr>
            <a:xfrm>
              <a:off x="7937640" y="474516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flipV="1">
              <a:off x="7896240" y="417168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85240" y="477504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289240" y="2066760"/>
            <a:ext cx="578880" cy="3619440"/>
            <a:chOff x="2289240" y="2066760"/>
            <a:chExt cx="578880" cy="3619440"/>
          </a:xfrm>
        </p:grpSpPr>
        <p:sp>
          <p:nvSpPr>
            <p:cNvPr id="755" name=""/>
            <p:cNvSpPr/>
            <p:nvPr/>
          </p:nvSpPr>
          <p:spPr>
            <a:xfrm>
              <a:off x="2860560" y="2098440"/>
              <a:ext cx="0" cy="357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89240" y="206676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96800" y="56862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360360" y="270000"/>
            <a:ext cx="8515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swapping root element into its pl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352520" y="1954080"/>
            <a:ext cx="825480" cy="4183200"/>
            <a:chOff x="1352520" y="1954080"/>
            <a:chExt cx="825480" cy="4183200"/>
          </a:xfrm>
        </p:grpSpPr>
        <p:sp>
          <p:nvSpPr>
            <p:cNvPr id="762" name=""/>
            <p:cNvSpPr/>
            <p:nvPr/>
          </p:nvSpPr>
          <p:spPr>
            <a:xfrm>
              <a:off x="1358640" y="1954080"/>
              <a:ext cx="81252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52520" y="24987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52520" y="31161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52520" y="37368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43545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52520" y="49752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52520" y="5592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681480" y="198108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94200" y="152388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774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781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561000" y="4754520"/>
            <a:ext cx="716040" cy="4572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23200" y="38084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927840" y="4106520"/>
            <a:ext cx="4748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85120" y="4770360"/>
            <a:ext cx="556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57200" y="558972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96240" y="205740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057400" y="5943600"/>
            <a:ext cx="10368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22200" y="5983200"/>
            <a:ext cx="483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 NEED TO CONSIDER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7" name=""/>
          <p:cNvSpPr/>
          <p:nvPr/>
        </p:nvSpPr>
        <p:spPr>
          <a:xfrm>
            <a:off x="360360" y="311040"/>
            <a:ext cx="8515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reheaping remaining unsorted ele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428840" y="1725480"/>
            <a:ext cx="825480" cy="4183200"/>
            <a:chOff x="1428840" y="1725480"/>
            <a:chExt cx="825480" cy="4183200"/>
          </a:xfrm>
        </p:grpSpPr>
        <p:sp>
          <p:nvSpPr>
            <p:cNvPr id="799" name=""/>
            <p:cNvSpPr/>
            <p:nvPr/>
          </p:nvSpPr>
          <p:spPr>
            <a:xfrm>
              <a:off x="1434960" y="1725480"/>
              <a:ext cx="81252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428840" y="22701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28840" y="28875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28840" y="35082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28840" y="412596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428840" y="4746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28840" y="5364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757800" y="175248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70520" y="129528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811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818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561000" y="4754520"/>
            <a:ext cx="716040" cy="4572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23200" y="38084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927840" y="4106520"/>
            <a:ext cx="4748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85120" y="4770360"/>
            <a:ext cx="556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433520" y="536112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72560" y="182880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2" name=""/>
          <p:cNvSpPr/>
          <p:nvPr/>
        </p:nvSpPr>
        <p:spPr>
          <a:xfrm>
            <a:off x="360360" y="311040"/>
            <a:ext cx="8515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p root element into last place in unsorted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1428840" y="1649520"/>
            <a:ext cx="825480" cy="4182840"/>
            <a:chOff x="1428840" y="1649520"/>
            <a:chExt cx="825480" cy="4182840"/>
          </a:xfrm>
        </p:grpSpPr>
        <p:sp>
          <p:nvSpPr>
            <p:cNvPr id="834" name=""/>
            <p:cNvSpPr/>
            <p:nvPr/>
          </p:nvSpPr>
          <p:spPr>
            <a:xfrm>
              <a:off x="1434960" y="1649520"/>
              <a:ext cx="812520" cy="418284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28840" y="21938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28840" y="28112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28840" y="3431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28840" y="4049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28840" y="46702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28840" y="52876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57800" y="16765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370520" y="12193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846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853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61000" y="4754520"/>
            <a:ext cx="716040" cy="4572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23200" y="38084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6927840" y="4106520"/>
            <a:ext cx="47484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85120" y="4770360"/>
            <a:ext cx="556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33520" y="528480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72560" y="175248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365200" y="1914480"/>
            <a:ext cx="579600" cy="3109680"/>
            <a:chOff x="2365200" y="1914480"/>
            <a:chExt cx="579600" cy="3109680"/>
          </a:xfrm>
        </p:grpSpPr>
        <p:sp>
          <p:nvSpPr>
            <p:cNvPr id="866" name=""/>
            <p:cNvSpPr/>
            <p:nvPr/>
          </p:nvSpPr>
          <p:spPr>
            <a:xfrm>
              <a:off x="2936880" y="1941480"/>
              <a:ext cx="0" cy="30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65200" y="191448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73120" y="502416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360360" y="270000"/>
            <a:ext cx="8515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swapping root element into its plac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187280" y="2212920"/>
            <a:ext cx="825840" cy="4183200"/>
            <a:chOff x="1187280" y="2212920"/>
            <a:chExt cx="825840" cy="4183200"/>
          </a:xfrm>
        </p:grpSpPr>
        <p:sp>
          <p:nvSpPr>
            <p:cNvPr id="872" name=""/>
            <p:cNvSpPr/>
            <p:nvPr/>
          </p:nvSpPr>
          <p:spPr>
            <a:xfrm>
              <a:off x="119376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87280" y="275760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187280" y="337500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87280" y="399564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87280" y="461340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187280" y="523404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87280" y="585144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884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17960" y="2833560"/>
              <a:ext cx="415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891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23200" y="38084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1904760" y="5545080"/>
            <a:ext cx="5956920" cy="896400"/>
            <a:chOff x="1904760" y="5545080"/>
            <a:chExt cx="5956920" cy="896400"/>
          </a:xfrm>
        </p:grpSpPr>
        <p:sp>
          <p:nvSpPr>
            <p:cNvPr id="902" name=""/>
            <p:cNvSpPr/>
            <p:nvPr/>
          </p:nvSpPr>
          <p:spPr>
            <a:xfrm>
              <a:off x="1947960" y="6012000"/>
              <a:ext cx="10364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22200" y="5983200"/>
              <a:ext cx="483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NO NEED TO CONSIDER AG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1904760" y="5545080"/>
              <a:ext cx="9954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1352520" y="1801800"/>
            <a:ext cx="825480" cy="4183200"/>
            <a:chOff x="1352520" y="1801800"/>
            <a:chExt cx="825480" cy="4183200"/>
          </a:xfrm>
        </p:grpSpPr>
        <p:sp>
          <p:nvSpPr>
            <p:cNvPr id="908" name=""/>
            <p:cNvSpPr/>
            <p:nvPr/>
          </p:nvSpPr>
          <p:spPr>
            <a:xfrm>
              <a:off x="1358640" y="1801800"/>
              <a:ext cx="81252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52520" y="23464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52520" y="2963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352520" y="35845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52520" y="42022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52520" y="48229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52520" y="54403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681480" y="182880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94200" y="137160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920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17960" y="2833560"/>
              <a:ext cx="4150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927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57200" y="541656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65120" y="482616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96240" y="190512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60360" y="311040"/>
            <a:ext cx="8515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reheaping remaining unsorted ele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352520" y="1801800"/>
            <a:ext cx="825480" cy="4183200"/>
            <a:chOff x="1352520" y="1801800"/>
            <a:chExt cx="825480" cy="4183200"/>
          </a:xfrm>
        </p:grpSpPr>
        <p:sp>
          <p:nvSpPr>
            <p:cNvPr id="941" name=""/>
            <p:cNvSpPr/>
            <p:nvPr/>
          </p:nvSpPr>
          <p:spPr>
            <a:xfrm>
              <a:off x="1358640" y="1801800"/>
              <a:ext cx="81252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52520" y="23464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52520" y="2963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52520" y="35845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52520" y="42022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352520" y="48229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352520" y="54403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681480" y="182880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94200" y="137160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953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817960" y="2833560"/>
              <a:ext cx="4150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606920" y="4163760"/>
            <a:ext cx="730080" cy="1468440"/>
            <a:chOff x="4606920" y="4163760"/>
            <a:chExt cx="730080" cy="1468440"/>
          </a:xfrm>
        </p:grpSpPr>
        <p:sp>
          <p:nvSpPr>
            <p:cNvPr id="960" name=""/>
            <p:cNvSpPr/>
            <p:nvPr/>
          </p:nvSpPr>
          <p:spPr>
            <a:xfrm>
              <a:off x="4648320" y="4737240"/>
              <a:ext cx="688680" cy="4744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4606920" y="4163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795920" y="476712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357200" y="541656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365120" y="482616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96240" y="190512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0360" y="311040"/>
            <a:ext cx="8515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p root element into last place in unsorted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2289240" y="2066760"/>
            <a:ext cx="578880" cy="2474640"/>
            <a:chOff x="2289240" y="2066760"/>
            <a:chExt cx="578880" cy="2474640"/>
          </a:xfrm>
        </p:grpSpPr>
        <p:sp>
          <p:nvSpPr>
            <p:cNvPr id="972" name=""/>
            <p:cNvSpPr/>
            <p:nvPr/>
          </p:nvSpPr>
          <p:spPr>
            <a:xfrm>
              <a:off x="2860560" y="2088720"/>
              <a:ext cx="0" cy="24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9240" y="206676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96800" y="45414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978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990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17960" y="2833560"/>
              <a:ext cx="3481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60360" y="270000"/>
            <a:ext cx="8515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swapping root element into its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904760" y="5545080"/>
            <a:ext cx="5956920" cy="896400"/>
            <a:chOff x="1904760" y="5545080"/>
            <a:chExt cx="5956920" cy="896400"/>
          </a:xfrm>
        </p:grpSpPr>
        <p:sp>
          <p:nvSpPr>
            <p:cNvPr id="1006" name=""/>
            <p:cNvSpPr/>
            <p:nvPr/>
          </p:nvSpPr>
          <p:spPr>
            <a:xfrm>
              <a:off x="1947960" y="6012000"/>
              <a:ext cx="10364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022200" y="5983200"/>
              <a:ext cx="483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NO NEED TO CONSIDER AG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1904760" y="5545080"/>
              <a:ext cx="9954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 flipH="1" flipV="1">
            <a:off x="1925640" y="5016600"/>
            <a:ext cx="95256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1425600" y="1801800"/>
            <a:ext cx="825480" cy="4183200"/>
            <a:chOff x="1425600" y="1801800"/>
            <a:chExt cx="825480" cy="4183200"/>
          </a:xfrm>
        </p:grpSpPr>
        <p:sp>
          <p:nvSpPr>
            <p:cNvPr id="1013" name=""/>
            <p:cNvSpPr/>
            <p:nvPr/>
          </p:nvSpPr>
          <p:spPr>
            <a:xfrm>
              <a:off x="1431720" y="180180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25600" y="23464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25600" y="2963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5600" y="35845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25600" y="42022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25600" y="48229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25600" y="544032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757800" y="182880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70520" y="137160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025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433520" y="541656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441440" y="482616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32080" y="4210200"/>
            <a:ext cx="812520" cy="599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2560" y="190512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60360" y="311040"/>
            <a:ext cx="8515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reheaping remaining unsorted ele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1043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5080" y="47736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055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 flipV="1">
            <a:off x="3745080" y="41799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54480" y="476100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60360" y="311040"/>
            <a:ext cx="8515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p root element into last place in unsorted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124000" y="2478240"/>
            <a:ext cx="579600" cy="1839600"/>
            <a:chOff x="2124000" y="2478240"/>
            <a:chExt cx="579600" cy="1839600"/>
          </a:xfrm>
        </p:grpSpPr>
        <p:sp>
          <p:nvSpPr>
            <p:cNvPr id="1071" name=""/>
            <p:cNvSpPr/>
            <p:nvPr/>
          </p:nvSpPr>
          <p:spPr>
            <a:xfrm>
              <a:off x="2695680" y="2494080"/>
              <a:ext cx="0" cy="18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24000" y="247824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31920" y="431784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523880" y="1143000"/>
          <a:ext cx="64548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1760"/>
                <a:gridCol w="784440"/>
                <a:gridCol w="826920"/>
                <a:gridCol w="827280"/>
                <a:gridCol w="826920"/>
                <a:gridCol w="8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18148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680"/>
                <a:gridCol w="81252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99072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81952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95288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01028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124080" y="4267080"/>
            <a:ext cx="992160" cy="33984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4267080"/>
            <a:ext cx="992160" cy="33984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191120"/>
            <a:ext cx="992160" cy="33948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267080"/>
            <a:ext cx="992160" cy="33984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9436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rt each su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1077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088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17960" y="2833560"/>
              <a:ext cx="415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60360" y="270000"/>
            <a:ext cx="85154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fter swapping root element into its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190520" y="40068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904760" y="4338360"/>
            <a:ext cx="5956920" cy="2103120"/>
            <a:chOff x="1904760" y="4338360"/>
            <a:chExt cx="5956920" cy="2103120"/>
          </a:xfrm>
        </p:grpSpPr>
        <p:grpSp>
          <p:nvGrpSpPr>
            <p:cNvPr id="1103" name=""/>
            <p:cNvGrpSpPr/>
            <p:nvPr/>
          </p:nvGrpSpPr>
          <p:grpSpPr>
            <a:xfrm>
              <a:off x="1904760" y="5545080"/>
              <a:ext cx="5956920" cy="896400"/>
              <a:chOff x="1904760" y="5545080"/>
              <a:chExt cx="5956920" cy="896400"/>
            </a:xfrm>
          </p:grpSpPr>
          <p:sp>
            <p:nvSpPr>
              <p:cNvPr id="1104" name=""/>
              <p:cNvSpPr/>
              <p:nvPr/>
            </p:nvSpPr>
            <p:spPr>
              <a:xfrm>
                <a:off x="1947960" y="6012000"/>
                <a:ext cx="10364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22200" y="5983200"/>
                <a:ext cx="483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Arial"/>
                  </a:rPr>
                  <a:t>NO NEED TO CONSIDER AGA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 flipV="1">
                <a:off x="1904760" y="5545080"/>
                <a:ext cx="995400" cy="57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 flipH="1" flipV="1">
              <a:off x="1925640" y="5016600"/>
              <a:ext cx="95256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1925640" y="4338360"/>
              <a:ext cx="974880" cy="177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182600" y="2212920"/>
            <a:ext cx="825480" cy="4183200"/>
            <a:chOff x="1182600" y="2212920"/>
            <a:chExt cx="825480" cy="4183200"/>
          </a:xfrm>
        </p:grpSpPr>
        <p:sp>
          <p:nvSpPr>
            <p:cNvPr id="1112" name=""/>
            <p:cNvSpPr/>
            <p:nvPr/>
          </p:nvSpPr>
          <p:spPr>
            <a:xfrm>
              <a:off x="118908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826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826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1826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826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826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826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123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189080" y="40068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60360" y="311040"/>
            <a:ext cx="8515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reheaping remaining unsorted ele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1140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151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86760" y="3855960"/>
            <a:ext cx="70308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443720" y="384984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90520" y="40068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0360" y="311040"/>
            <a:ext cx="8515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p root element into last place in unsorted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124000" y="2478240"/>
            <a:ext cx="579600" cy="1247760"/>
            <a:chOff x="2124000" y="2478240"/>
            <a:chExt cx="579600" cy="1247760"/>
          </a:xfrm>
        </p:grpSpPr>
        <p:sp>
          <p:nvSpPr>
            <p:cNvPr id="1166" name=""/>
            <p:cNvSpPr/>
            <p:nvPr/>
          </p:nvSpPr>
          <p:spPr>
            <a:xfrm>
              <a:off x="2695680" y="2489040"/>
              <a:ext cx="0" cy="12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24000" y="247824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31920" y="372600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 flipH="1" flipV="1">
            <a:off x="6424560" y="3164040"/>
            <a:ext cx="1192320" cy="69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1172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183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817960" y="2833560"/>
              <a:ext cx="4154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190520" y="40068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60360" y="270000"/>
            <a:ext cx="8515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swapping root element into its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904760" y="4338360"/>
            <a:ext cx="5956920" cy="2103120"/>
            <a:chOff x="1904760" y="4338360"/>
            <a:chExt cx="5956920" cy="2103120"/>
          </a:xfrm>
        </p:grpSpPr>
        <p:grpSp>
          <p:nvGrpSpPr>
            <p:cNvPr id="1195" name=""/>
            <p:cNvGrpSpPr/>
            <p:nvPr/>
          </p:nvGrpSpPr>
          <p:grpSpPr>
            <a:xfrm>
              <a:off x="1904760" y="5545080"/>
              <a:ext cx="5956920" cy="896400"/>
              <a:chOff x="1904760" y="5545080"/>
              <a:chExt cx="5956920" cy="896400"/>
            </a:xfrm>
          </p:grpSpPr>
          <p:sp>
            <p:nvSpPr>
              <p:cNvPr id="1196" name=""/>
              <p:cNvSpPr/>
              <p:nvPr/>
            </p:nvSpPr>
            <p:spPr>
              <a:xfrm>
                <a:off x="1947960" y="6012000"/>
                <a:ext cx="1036440" cy="12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022200" y="5983200"/>
                <a:ext cx="483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33"/>
                    </a:solidFill>
                    <a:latin typeface="Arial"/>
                  </a:rPr>
                  <a:t>NO NEED TO CONSIDER AGA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 flipV="1">
                <a:off x="1904760" y="5545080"/>
                <a:ext cx="995400" cy="57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 flipH="1" flipV="1">
              <a:off x="1925640" y="5016600"/>
              <a:ext cx="95256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 flipV="1">
              <a:off x="1925640" y="4338360"/>
              <a:ext cx="974880" cy="177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1195560" y="3371760"/>
            <a:ext cx="812520" cy="642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1968120" y="3661920"/>
            <a:ext cx="911160" cy="24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1206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217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90520" y="40068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195560" y="3371760"/>
            <a:ext cx="812520" cy="642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80880" y="228600"/>
            <a:ext cx="8515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reheaping remaining unsorted ele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1184400" y="2212920"/>
            <a:ext cx="825480" cy="4183200"/>
            <a:chOff x="1184400" y="2212920"/>
            <a:chExt cx="825480" cy="4183200"/>
          </a:xfrm>
        </p:grpSpPr>
        <p:sp>
          <p:nvSpPr>
            <p:cNvPr id="1232" name=""/>
            <p:cNvSpPr/>
            <p:nvPr/>
          </p:nvSpPr>
          <p:spPr>
            <a:xfrm>
              <a:off x="1190520" y="2212920"/>
              <a:ext cx="812880" cy="41832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84400" y="27576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84400" y="33750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84400" y="39956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84400" y="461340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84400" y="52340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184400" y="5851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516240" y="22399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128960" y="17827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8600" y="38466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5710320" y="2833560"/>
            <a:ext cx="739800" cy="865080"/>
            <a:chOff x="5710320" y="2833560"/>
            <a:chExt cx="739800" cy="865080"/>
          </a:xfrm>
        </p:grpSpPr>
        <p:sp>
          <p:nvSpPr>
            <p:cNvPr id="1243" name=""/>
            <p:cNvSpPr/>
            <p:nvPr/>
          </p:nvSpPr>
          <p:spPr>
            <a:xfrm>
              <a:off x="5710320" y="2836800"/>
              <a:ext cx="739800" cy="44928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17960" y="2833560"/>
              <a:ext cx="4820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 flipV="1">
            <a:off x="4492800" y="31780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100400" y="38368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192320" y="5827680"/>
            <a:ext cx="81252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00240" y="523728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190520" y="4621320"/>
            <a:ext cx="81288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190520" y="40068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195560" y="3371760"/>
            <a:ext cx="812520" cy="642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31360" y="231624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60360" y="311040"/>
            <a:ext cx="851544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p root element into last place in unsorted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124000" y="2478240"/>
            <a:ext cx="579600" cy="612720"/>
            <a:chOff x="2124000" y="2478240"/>
            <a:chExt cx="579600" cy="612720"/>
          </a:xfrm>
        </p:grpSpPr>
        <p:sp>
          <p:nvSpPr>
            <p:cNvPr id="1257" name=""/>
            <p:cNvSpPr/>
            <p:nvPr/>
          </p:nvSpPr>
          <p:spPr>
            <a:xfrm>
              <a:off x="2695680" y="2484360"/>
              <a:ext cx="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4000" y="247824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1920" y="309096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1428840" y="1878120"/>
            <a:ext cx="825480" cy="4182840"/>
            <a:chOff x="1428840" y="1878120"/>
            <a:chExt cx="825480" cy="4182840"/>
          </a:xfrm>
        </p:grpSpPr>
        <p:sp>
          <p:nvSpPr>
            <p:cNvPr id="1262" name=""/>
            <p:cNvSpPr/>
            <p:nvPr/>
          </p:nvSpPr>
          <p:spPr>
            <a:xfrm>
              <a:off x="1434960" y="1878120"/>
              <a:ext cx="812520" cy="418284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28840" y="24224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28840" y="30398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28840" y="36604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28840" y="427824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428840" y="48988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28840" y="5516280"/>
              <a:ext cx="82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757800" y="1905120"/>
            <a:ext cx="637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0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1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2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3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4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5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[ 6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370520" y="1447920"/>
            <a:ext cx="97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710320" y="2836800"/>
            <a:ext cx="739800" cy="44928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5792400" y="2365200"/>
            <a:ext cx="244440" cy="48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960800" y="2184480"/>
            <a:ext cx="8272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433520" y="5492880"/>
            <a:ext cx="812880" cy="558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41440" y="4902120"/>
            <a:ext cx="812880" cy="57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32080" y="4286160"/>
            <a:ext cx="812520" cy="600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32080" y="3672000"/>
            <a:ext cx="81252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36760" y="3036960"/>
            <a:ext cx="812880" cy="642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60360" y="270000"/>
            <a:ext cx="8515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 swapping root element into its pl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436760" y="2421000"/>
            <a:ext cx="81288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432080" y="1843200"/>
            <a:ext cx="812520" cy="601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72560" y="1981080"/>
            <a:ext cx="4683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05640" y="2836800"/>
            <a:ext cx="806400" cy="4748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817960" y="2833560"/>
            <a:ext cx="41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023640" y="5983200"/>
            <a:ext cx="459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LL ELEMENTS ARE S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plate &lt;class  ItemType &gt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oid  HeapSort  ( ItemType  values [ ] ,  </a:t>
            </a:r>
            <a:r>
              <a:rPr b="0" lang="en-US" sz="2400" spc="-1" strike="noStrike">
                <a:solidFill>
                  <a:srgbClr val="dc008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numValues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Post: Sorts array values[ 0 . . numValues-1 ] into ascen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          order by ke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index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// Convert array  values[ 0 . . numValues-1 ]  into a heap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9933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 ( index = numValues/2 - 1 ;  index &gt;= 0 ;  index--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heapDown ( values , index , numValues - 1 )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//  Sort the array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 ( index = numValues - 1 ;  index &gt;= 1 ;  index--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wap ( values [0] , values [index] )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heapDown ( values , 0 , index - 1 )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/>
          </p:nvPr>
        </p:nvSpPr>
        <p:spPr>
          <a:xfrm>
            <a:off x="620280" y="1959120"/>
            <a:ext cx="791388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title"/>
          </p:nvPr>
        </p:nvSpPr>
        <p:spPr>
          <a:xfrm>
            <a:off x="762120" y="352080"/>
            <a:ext cx="819144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Heap Sort: How many comparisons?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9" name=""/>
          <p:cNvSpPr/>
          <p:nvPr/>
        </p:nvSpPr>
        <p:spPr>
          <a:xfrm>
            <a:off x="5751360" y="2568600"/>
            <a:ext cx="739800" cy="44928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20920" y="2565360"/>
            <a:ext cx="41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533840" y="2909880"/>
            <a:ext cx="1260360" cy="674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049640" y="3578400"/>
            <a:ext cx="763560" cy="4554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102120" y="4505400"/>
            <a:ext cx="674640" cy="4381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3683160" y="3911760"/>
            <a:ext cx="45396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41800" y="3568680"/>
            <a:ext cx="515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251160" y="451332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3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854600" y="4468680"/>
            <a:ext cx="689040" cy="4748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4813200" y="3895200"/>
            <a:ext cx="433440" cy="5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002200" y="4478400"/>
            <a:ext cx="46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327800" y="3587760"/>
            <a:ext cx="703440" cy="4460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02400" y="4484520"/>
            <a:ext cx="716040" cy="45720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485120" y="3581280"/>
            <a:ext cx="434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886440" y="3894120"/>
            <a:ext cx="522360" cy="57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05640" y="4502160"/>
            <a:ext cx="557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H="1" flipV="1">
            <a:off x="5649480" y="2281320"/>
            <a:ext cx="428760" cy="303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919760" y="2039760"/>
            <a:ext cx="8269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978680" y="4476600"/>
            <a:ext cx="689040" cy="4748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7978680" y="3903480"/>
            <a:ext cx="433440" cy="5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26280" y="4506840"/>
            <a:ext cx="462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6465960" y="2895120"/>
            <a:ext cx="1192320" cy="700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567160" y="4820760"/>
            <a:ext cx="1636560" cy="2330640"/>
            <a:chOff x="2567160" y="4820760"/>
            <a:chExt cx="1636560" cy="2330640"/>
          </a:xfrm>
        </p:grpSpPr>
        <p:sp>
          <p:nvSpPr>
            <p:cNvPr id="1312" name=""/>
            <p:cNvSpPr/>
            <p:nvPr/>
          </p:nvSpPr>
          <p:spPr>
            <a:xfrm>
              <a:off x="2567160" y="5430960"/>
              <a:ext cx="674640" cy="43812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776680" y="4836960"/>
              <a:ext cx="4539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16200" y="5418000"/>
              <a:ext cx="460440" cy="17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7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514680" y="5394240"/>
              <a:ext cx="689040" cy="474840"/>
            </a:xfrm>
            <a:prstGeom prst="rect">
              <a:avLst/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>
              <a:off x="3638520" y="4820760"/>
              <a:ext cx="4334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662280" y="5424480"/>
              <a:ext cx="461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4452840" y="5383080"/>
            <a:ext cx="674640" cy="49392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4600440" y="4824360"/>
            <a:ext cx="454320" cy="581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602240" y="5425920"/>
            <a:ext cx="4604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9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57880" y="5402160"/>
            <a:ext cx="689040" cy="474840"/>
          </a:xfrm>
          <a:prstGeom prst="rect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5462640" y="4828680"/>
            <a:ext cx="433440" cy="5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8160" y="1295280"/>
            <a:ext cx="351972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n reheap down, a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is compared with its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children (and swapp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with the larger).  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only one element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each level m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this comparis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and a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binary tree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N nodes 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only O(log</a:t>
            </a:r>
            <a:r>
              <a:rPr b="1" lang="en-US" sz="20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lev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329080" y="5392800"/>
            <a:ext cx="746280" cy="474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06920" y="5432400"/>
            <a:ext cx="4622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143000"/>
          <a:ext cx="64548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1760"/>
                <a:gridCol w="784440"/>
                <a:gridCol w="826920"/>
                <a:gridCol w="827280"/>
                <a:gridCol w="826920"/>
                <a:gridCol w="8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18148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680"/>
                <a:gridCol w="81252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99072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8580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81952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95288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010280" y="4724280"/>
          <a:ext cx="16002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479600" y="3706920"/>
            <a:ext cx="270000" cy="863640"/>
          </a:xfrm>
          <a:custGeom>
            <a:avLst/>
            <a:gdLst/>
            <a:ahLst/>
            <a:rect l="l" t="t" r="r" b="b"/>
            <a:pathLst>
              <a:path w="170" h="544">
                <a:moveTo>
                  <a:pt x="0" y="544"/>
                </a:moveTo>
                <a:lnTo>
                  <a:pt x="17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657600"/>
            <a:ext cx="270000" cy="863640"/>
          </a:xfrm>
          <a:custGeom>
            <a:avLst/>
            <a:gdLst/>
            <a:ahLst/>
            <a:rect l="l" t="t" r="r" b="b"/>
            <a:pathLst>
              <a:path w="170" h="544">
                <a:moveTo>
                  <a:pt x="0" y="544"/>
                </a:moveTo>
                <a:lnTo>
                  <a:pt x="17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3657600"/>
            <a:ext cx="222480" cy="887400"/>
          </a:xfrm>
          <a:custGeom>
            <a:avLst/>
            <a:gdLst/>
            <a:ahLst/>
            <a:rect l="l" t="t" r="r" b="b"/>
            <a:pathLst>
              <a:path w="140" h="559">
                <a:moveTo>
                  <a:pt x="140" y="55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3657600"/>
            <a:ext cx="222120" cy="887400"/>
          </a:xfrm>
          <a:custGeom>
            <a:avLst/>
            <a:gdLst/>
            <a:ahLst/>
            <a:rect l="l" t="t" r="r" b="b"/>
            <a:pathLst>
              <a:path w="140" h="559">
                <a:moveTo>
                  <a:pt x="140" y="55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79132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3880" y="1143000"/>
          <a:ext cx="64548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1760"/>
                <a:gridCol w="784440"/>
                <a:gridCol w="826920"/>
                <a:gridCol w="827280"/>
                <a:gridCol w="826920"/>
                <a:gridCol w="8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18148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680"/>
                <a:gridCol w="81252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99072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219320" y="2327400"/>
            <a:ext cx="2438280" cy="33948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362320"/>
            <a:ext cx="2516040" cy="339480"/>
          </a:xfrm>
          <a:custGeom>
            <a:avLst/>
            <a:gdLst/>
            <a:ahLst/>
            <a:rect l="l" t="t" r="r" b="b"/>
            <a:pathLst>
              <a:path w="625" h="180">
                <a:moveTo>
                  <a:pt x="0" y="172"/>
                </a:moveTo>
                <a:cubicBezTo>
                  <a:pt x="54" y="146"/>
                  <a:pt x="221" y="0"/>
                  <a:pt x="325" y="1"/>
                </a:cubicBezTo>
                <a:cubicBezTo>
                  <a:pt x="437" y="1"/>
                  <a:pt x="563" y="143"/>
                  <a:pt x="625" y="18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41972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rt each su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523880" y="1143000"/>
          <a:ext cx="64548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1760"/>
                <a:gridCol w="784440"/>
                <a:gridCol w="826920"/>
                <a:gridCol w="827280"/>
                <a:gridCol w="826920"/>
                <a:gridCol w="827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18148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680"/>
                <a:gridCol w="81252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90720" y="2895480"/>
          <a:ext cx="3146400" cy="639720"/>
        </p:xfrm>
        <a:graphic>
          <a:graphicData uri="http://schemas.openxmlformats.org/drawingml/2006/table">
            <a:tbl>
              <a:tblPr/>
              <a:tblGrid>
                <a:gridCol w="787320"/>
                <a:gridCol w="812880"/>
                <a:gridCol w="762120"/>
                <a:gridCol w="78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905120" y="1905120"/>
            <a:ext cx="269640" cy="863640"/>
          </a:xfrm>
          <a:custGeom>
            <a:avLst/>
            <a:gdLst/>
            <a:ahLst/>
            <a:rect l="l" t="t" r="r" b="b"/>
            <a:pathLst>
              <a:path w="170" h="544">
                <a:moveTo>
                  <a:pt x="0" y="544"/>
                </a:moveTo>
                <a:lnTo>
                  <a:pt x="17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05120"/>
            <a:ext cx="222120" cy="887400"/>
          </a:xfrm>
          <a:custGeom>
            <a:avLst/>
            <a:gdLst/>
            <a:ahLst/>
            <a:rect l="l" t="t" r="r" b="b"/>
            <a:pathLst>
              <a:path w="140" h="559">
                <a:moveTo>
                  <a:pt x="140" y="559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49568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0:39:03Z</dcterms:created>
  <dc:creator/>
  <dc:description/>
  <dc:language>en-US</dc:language>
  <cp:lastModifiedBy>ramallah</cp:lastModifiedBy>
  <dcterms:modified xsi:type="dcterms:W3CDTF">2007-12-14T19:30:38Z</dcterms:modified>
  <cp:revision>368</cp:revision>
  <dc:subject/>
  <dc:title>Course 2559A: Introduction to Visual Basic .NET Programming with Microsoft 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3.1.1005</vt:lpwstr>
  </property>
</Properties>
</file>